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5E7-CD0D-493D-B6D1-9743466F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20F-248F-46D6-A223-BF578FD2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00A-D7E3-4D5D-BE64-66FF6266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86B-275D-40BD-B780-C47BC63D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8FC-394C-4564-9883-D97FABAE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24E-761C-4443-BDE9-E352A0E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045-1F26-4049-94FA-44C8681E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041-B6E7-4DCD-B5D9-ED0B417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0FF-B665-4D7E-87CD-DD22309F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4B3-2976-47D5-A12F-60E94B69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5E3-5D8F-466A-81BA-D80C041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574-EBB7-41E6-B610-99CD5C2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C19-EE88-4E85-A79F-4D35F26F5E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estro.cjb.net/" TargetMode="External"/><Relationship Id="rId3" Type="http://schemas.openxmlformats.org/officeDocument/2006/relationships/hyperlink" Target="http://www.spicyflavours.cjb.net/" TargetMode="External"/><Relationship Id="rId4" Type="http://schemas.openxmlformats.org/officeDocument/2006/relationships/hyperlink" Target="http://www.spicyflavours.cjb.net/" TargetMode="External"/><Relationship Id="rId5" Type="http://schemas.openxmlformats.org/officeDocument/2006/relationships/hyperlink" Target="http://www.maestro.cjb.net/" TargetMode="External"/><Relationship Id="rId6" Type="http://schemas.openxmlformats.org/officeDocument/2006/relationships/hyperlink" Target="http://www.maestro.cjb.net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cc6600"/>
                </a:solidFill>
                <a:latin typeface="Comic Sans MS"/>
              </a:rPr>
              <a:t>PHILOSOPY FOR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360" y="373392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yourself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If you like this Presentation , and look forward to see such more files…  visit Amazing Files at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www.Maestro.cjb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We have uploaded  personal collection of such files for all e-frds  in Amazing F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Feel free to download and share this collection to all your dear on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This collection is sure to energize your nerves, brighten up your face with a smile, lighten up your confused mind and let u ponder and think upon the subtleties and intricacies of the enigma called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If u have such powerpoint files do submit them to our collection , we will upload them with your name and location:Dont keep them with u only bco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Somone somewhere thinks of ur smile n while thinking of u says life is worthwhile. So whenever u r lonely remember it's true, someone somewhere is alive b'coz of u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Add Your Flavours in Spicy Flavours and make them more Spicy . Visit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www.SpicyFlavours.Cjb.Net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 </a:t>
            </a:r>
            <a:r>
              <a:rPr b="0" lang="en-US" sz="1600" spc="-1" strike="noStrike">
                <a:solidFill>
                  <a:srgbClr val="cc6600"/>
                </a:solidFill>
                <a:latin typeface="Georgia"/>
              </a:rPr>
              <a:t>or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www.Maestro.Cjb.Net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openmi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avour special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Tell them that you love th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Feel it de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53440" y="541080"/>
            <a:ext cx="5655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gnore wo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Forge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Pardon ene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Keep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124080" y="1218960"/>
            <a:ext cx="6019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nd if you d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earn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AUDACE</cp:lastModifiedBy>
  <dcterms:modified xsi:type="dcterms:W3CDTF">2005-09-05T09:22:11Z</dcterms:modified>
  <cp:revision>25</cp:revision>
  <dc:subject/>
  <dc:title>Slide sem título </dc:title>
</cp:coreProperties>
</file>