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8EEE5-CCC0-4DE6-802D-7BBCBA87CA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76367-E105-4B69-A16A-9F69C1E5B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F360A-4077-4304-AD22-ECFC8042F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75F79-632C-419B-8AC3-DAD0FE690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2F95D-967F-44AC-A527-87EB074DBC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9CB1E-32B7-4CF5-8CDC-C7EAD6A5D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AE04C-7217-44E7-ABDF-FEB8D1035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484F0-477B-41A4-B1CD-CFC9C105F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52FC-368E-44C5-A384-9D9342AF5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E3C97-2AA2-441D-8DB9-3F21C1F65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EBD05-89B7-4E1B-B8F0-32DBE869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168DA-612C-4A9B-82F3-C5778FECF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A1016-ED60-4895-BFF2-7F3A829BE9CC}" type="slidenum">
              <a:rPr b="0" lang="pt-B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maestro.cjb.net/" TargetMode="External"/><Relationship Id="rId3" Type="http://schemas.openxmlformats.org/officeDocument/2006/relationships/hyperlink" Target="http://www.spicyflavours.cjb.net/" TargetMode="External"/><Relationship Id="rId4" Type="http://schemas.openxmlformats.org/officeDocument/2006/relationships/hyperlink" Target="http://www.spicyflavours.cjb.net/" TargetMode="External"/><Relationship Id="rId5" Type="http://schemas.openxmlformats.org/officeDocument/2006/relationships/hyperlink" Target="http://www.maestro.cjb.net/" TargetMode="External"/><Relationship Id="rId6" Type="http://schemas.openxmlformats.org/officeDocument/2006/relationships/hyperlink" Target="http://www.maestro.cjb.net/" TargetMode="External"/><Relationship Id="rId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5400" spc="-1" strike="noStrike">
                <a:solidFill>
                  <a:srgbClr val="cc6600"/>
                </a:solidFill>
                <a:latin typeface="Comic Sans MS"/>
              </a:rPr>
              <a:t>PHILOSOPY FOR LIFE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Picture 4" descr=""/>
          <p:cNvPicPr/>
          <p:nvPr/>
        </p:nvPicPr>
        <p:blipFill>
          <a:blip r:embed="rId2"/>
          <a:stretch/>
        </p:blipFill>
        <p:spPr>
          <a:xfrm>
            <a:off x="304920" y="762120"/>
            <a:ext cx="3467160" cy="5257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990360" y="3733920"/>
            <a:ext cx="739116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understanding, when it’s nee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lif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fa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Picture 4" descr=""/>
          <p:cNvPicPr/>
          <p:nvPr/>
        </p:nvPicPr>
        <p:blipFill>
          <a:blip r:embed="rId2"/>
          <a:stretch/>
        </p:blipFill>
        <p:spPr>
          <a:xfrm>
            <a:off x="1600200" y="152280"/>
            <a:ext cx="6108840" cy="32958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/>
          </p:nvPr>
        </p:nvSpPr>
        <p:spPr>
          <a:xfrm rot="1563600">
            <a:off x="1981080" y="228240"/>
            <a:ext cx="6858000" cy="23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mfort a frie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ave confidence in yourself!!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4" descr=""/>
          <p:cNvPicPr/>
          <p:nvPr/>
        </p:nvPicPr>
        <p:blipFill>
          <a:blip r:embed="rId2"/>
          <a:stretch/>
        </p:blipFill>
        <p:spPr>
          <a:xfrm>
            <a:off x="685800" y="2590920"/>
            <a:ext cx="5970600" cy="3797280"/>
          </a:xfrm>
          <a:prstGeom prst="rect">
            <a:avLst/>
          </a:prstGeom>
          <a:ln w="0">
            <a:noFill/>
          </a:ln>
        </p:spPr>
      </p:pic>
      <p:sp>
        <p:nvSpPr>
          <p:cNvPr id="63" name=""/>
          <p:cNvSpPr/>
          <p:nvPr/>
        </p:nvSpPr>
        <p:spPr>
          <a:xfrm>
            <a:off x="6400800" y="640080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0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4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vertical)" transition="in">
                                      <p:cBhvr additive="repl">
                                        <p:cTn id="90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/>
          </p:nvPr>
        </p:nvSpPr>
        <p:spPr>
          <a:xfrm>
            <a:off x="3657600" y="2361960"/>
            <a:ext cx="5486400" cy="23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Enjoy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6600" spc="-1" strike="noStrike">
                <a:solidFill>
                  <a:srgbClr val="cc6600"/>
                </a:solidFill>
                <a:latin typeface="Comic Sans MS"/>
              </a:rPr>
              <a:t>Life!!!!</a:t>
            </a:r>
            <a:endParaRPr b="0" lang="en-US" sz="6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Picture 4" descr=""/>
          <p:cNvPicPr/>
          <p:nvPr/>
        </p:nvPicPr>
        <p:blipFill>
          <a:blip r:embed="rId2"/>
          <a:stretch/>
        </p:blipFill>
        <p:spPr>
          <a:xfrm>
            <a:off x="380880" y="457200"/>
            <a:ext cx="4227480" cy="54864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304560" y="533520"/>
            <a:ext cx="8839080" cy="63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If you like this Presentation , and look forward to see such more files…  visit Amazing Files at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2"/>
              </a:rPr>
              <a:t>www.Maestro.cjb.ne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We have uploaded  personal collection of such files for all e-frds  in Amazing File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Feel free to download and share this collection to all your dear one’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This collection is sure to energize your nerves, brighten up your face with a smile, lighten up your confused mind and let u ponder and think upon the subtleties and intricacies of the enigma called lif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If u have such powerpoint files do submit them to our collection , we will upload them with your name and location:Dont keep them with u only bcoz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Somone somewhere thinks of ur smile n while thinking of u says life is worthwhile. So whenever u r lonely remember it's true, someone somewhere is alive b'coz of u.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cc66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6600"/>
                </a:solidFill>
                <a:latin typeface="Georgia"/>
              </a:rPr>
              <a:t>Add Your Flavours in Spicy Flavours and make them more Spicy . Visit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3"/>
              </a:rPr>
              <a:t>www.SpicyFlavours.Cjb.Net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4"/>
              </a:rPr>
              <a:t> </a:t>
            </a:r>
            <a:r>
              <a:rPr b="0" lang="en-US" sz="1600" spc="-1" strike="noStrike">
                <a:solidFill>
                  <a:srgbClr val="cc6600"/>
                </a:solidFill>
                <a:latin typeface="Georgia"/>
              </a:rPr>
              <a:t>or  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5"/>
              </a:rPr>
              <a:t>www.Maestro.Cjb.Net</a:t>
            </a:r>
            <a:r>
              <a:rPr b="0" lang="en-US" sz="1600" spc="-1" strike="noStrike" u="sng">
                <a:solidFill>
                  <a:srgbClr val="ccccff"/>
                </a:solidFill>
                <a:uFillTx/>
                <a:latin typeface="Georgia"/>
                <a:hlinkClick r:id="rId6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>
    <p:strips dir="r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4" descr=""/>
          <p:cNvPicPr/>
          <p:nvPr/>
        </p:nvPicPr>
        <p:blipFill>
          <a:blip r:embed="rId2"/>
          <a:stretch/>
        </p:blipFill>
        <p:spPr>
          <a:xfrm>
            <a:off x="5334120" y="990720"/>
            <a:ext cx="3546360" cy="50292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/>
          </p:nvPr>
        </p:nvSpPr>
        <p:spPr>
          <a:xfrm>
            <a:off x="152280" y="1523880"/>
            <a:ext cx="6934320" cy="289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pati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openmind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oft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38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avour special mom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5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1" dur="500"/>
                                        <p:tgtEl>
                                          <p:spTgt spid="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3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5" dur="500"/>
                                        <p:tgtEl>
                                          <p:spTgt spid="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500"/>
                                        <p:tgtEl>
                                          <p:spTgt spid="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4" descr=""/>
          <p:cNvPicPr/>
          <p:nvPr/>
        </p:nvPicPr>
        <p:blipFill>
          <a:blip r:embed="rId2"/>
          <a:stretch/>
        </p:blipFill>
        <p:spPr>
          <a:xfrm>
            <a:off x="304920" y="380880"/>
            <a:ext cx="6269040" cy="360540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/>
          </p:nvPr>
        </p:nvSpPr>
        <p:spPr>
          <a:xfrm>
            <a:off x="1294920" y="3962160"/>
            <a:ext cx="769644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Make new friend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Rediscover old ones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Tell them that you love th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nd when you love them..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Feel it deep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"/>
          <p:cNvPicPr/>
          <p:nvPr/>
        </p:nvPicPr>
        <p:blipFill>
          <a:blip r:embed="rId2"/>
          <a:stretch/>
        </p:blipFill>
        <p:spPr>
          <a:xfrm>
            <a:off x="4343400" y="2438280"/>
            <a:ext cx="4629240" cy="41594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/>
          </p:nvPr>
        </p:nvSpPr>
        <p:spPr>
          <a:xfrm rot="19374000">
            <a:off x="253440" y="541080"/>
            <a:ext cx="5655960" cy="33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gnore wor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Forget problem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Pardon enem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Keep promis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"/>
          <p:cNvPicPr/>
          <p:nvPr/>
        </p:nvPicPr>
        <p:blipFill>
          <a:blip r:embed="rId2"/>
          <a:stretch/>
        </p:blipFill>
        <p:spPr>
          <a:xfrm>
            <a:off x="228600" y="838080"/>
            <a:ext cx="3341520" cy="50166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3124080" y="1218960"/>
            <a:ext cx="601992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f you get more than one chance, try ag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Prize your good idea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Try not to make mistak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nd if you do,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earn from th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4000">
    <p:strips dir="rd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5270400" y="609480"/>
            <a:ext cx="3587760" cy="5486400"/>
          </a:xfrm>
          <a:prstGeom prst="rect">
            <a:avLst/>
          </a:prstGeom>
          <a:ln w="0">
            <a:noFill/>
          </a:ln>
        </p:spPr>
      </p:pic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762120" y="762120"/>
            <a:ext cx="7315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craz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Appreciate mirac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hen they happ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Notice where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is in the sk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isten to the ra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slow" advTm="3000">
    <p:strips dir="rd"/>
  </p:transition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0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294920" y="456840"/>
            <a:ext cx="678204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atch for rainbows and falling sta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Look for the beauty around yo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1523880" y="2362320"/>
            <a:ext cx="6248520" cy="419868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0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1066320" y="380520"/>
            <a:ext cx="807732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Smile with your he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Confide in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ive to oth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gentle wit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 </a:t>
            </a: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others, alw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Picture 4" descr=""/>
          <p:cNvPicPr/>
          <p:nvPr/>
        </p:nvPicPr>
        <p:blipFill>
          <a:blip r:embed="rId2"/>
          <a:stretch/>
        </p:blipFill>
        <p:spPr>
          <a:xfrm>
            <a:off x="304920" y="228600"/>
            <a:ext cx="4498920" cy="451152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838080" y="457200"/>
            <a:ext cx="3353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Ho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Desi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G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Work h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cc6600"/>
                </a:solidFill>
                <a:latin typeface="Comic Sans MS"/>
              </a:rPr>
              <a:t>Be yourself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Picture 4" descr=""/>
          <p:cNvPicPr/>
          <p:nvPr/>
        </p:nvPicPr>
        <p:blipFill>
          <a:blip r:embed="rId2"/>
          <a:stretch/>
        </p:blipFill>
        <p:spPr>
          <a:xfrm>
            <a:off x="4419720" y="457200"/>
            <a:ext cx="4079880" cy="5943600"/>
          </a:xfrm>
          <a:prstGeom prst="rect">
            <a:avLst/>
          </a:prstGeom>
          <a:ln w="0">
            <a:noFill/>
          </a:ln>
        </p:spPr>
      </p:pic>
    </p:spTree>
  </p:cSld>
  <p:transition spd="slow" advTm="3000">
    <p:strips dir="rd"/>
  </p:transition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20:44:23Z</dcterms:created>
  <dc:creator>MPAS/assessoria especial</dc:creator>
  <dc:description/>
  <dc:language>en-US</dc:language>
  <cp:lastModifiedBy>AUDACE</cp:lastModifiedBy>
  <dcterms:modified xsi:type="dcterms:W3CDTF">2005-09-05T09:22:11Z</dcterms:modified>
  <cp:revision>25</cp:revision>
  <dc:subject/>
  <dc:title>Slide sem título </dc:title>
</cp:coreProperties>
</file>