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3.jpeg" ContentType="image/jpeg"/>
  <Override PartName="/ppt/media/image49.jpeg" ContentType="image/jpeg"/>
  <Override PartName="/ppt/media/image47.jpeg" ContentType="image/jpeg"/>
  <Override PartName="/ppt/media/image65.gif" ContentType="image/gif"/>
  <Override PartName="/ppt/media/image68.png" ContentType="image/png"/>
  <Override PartName="/ppt/media/image46.jpeg" ContentType="image/jpeg"/>
  <Override PartName="/ppt/media/image55.gif" ContentType="image/gif"/>
  <Override PartName="/ppt/media/image58.png" ContentType="image/pn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67.gif" ContentType="image/gif"/>
  <Override PartName="/ppt/media/image9.jpeg" ContentType="image/jpeg"/>
  <Override PartName="/ppt/media/image39.jpeg" ContentType="image/jpeg"/>
  <Override PartName="/ppt/media/image2.gif" ContentType="image/gif"/>
  <Override PartName="/ppt/media/image8.jpeg" ContentType="image/jpeg"/>
  <Override PartName="/ppt/media/image13.jpeg" ContentType="image/jpeg"/>
  <Override PartName="/ppt/media/image40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1.gif" ContentType="image/gif"/>
  <Override PartName="/ppt/media/image64.png" ContentType="image/png"/>
  <Override PartName="/ppt/media/image19.jpeg" ContentType="image/jpeg"/>
  <Override PartName="/ppt/media/image69.gif" ContentType="image/gif"/>
  <Override PartName="/ppt/media/image22.jpeg" ContentType="image/jpeg"/>
  <Override PartName="/ppt/media/image21.jpeg" ContentType="image/jpeg"/>
  <Override PartName="/ppt/media/image57.png" ContentType="image/png"/>
  <Override PartName="/ppt/media/image17.jpeg" ContentType="image/jpeg"/>
  <Override PartName="/ppt/media/image60.gif" ContentType="image/gif"/>
  <Override PartName="/ppt/media/image63.png" ContentType="image/png"/>
  <Override PartName="/ppt/media/image70.png" ContentType="image/png"/>
  <Override PartName="/ppt/media/image7.jpeg" ContentType="image/jpeg"/>
  <Override PartName="/ppt/media/image42.jpeg" ContentType="image/jpeg"/>
  <Override PartName="/ppt/media/image80.gif" ContentType="image/gif"/>
  <Override PartName="/ppt/media/image78.gif" ContentType="image/gif"/>
  <Override PartName="/ppt/media/image77.png" ContentType="image/png"/>
  <Override PartName="/ppt/media/image4.jpeg" ContentType="image/jpeg"/>
  <Override PartName="/ppt/media/image75.jpeg" ContentType="image/jpeg"/>
  <Override PartName="/ppt/media/click.wav" ContentType="audio/x-wav"/>
  <Override PartName="/ppt/media/image48.jpeg" ContentType="image/jpeg"/>
  <Override PartName="/ppt/media/image73.gif" ContentType="image/gif"/>
  <Override PartName="/ppt/media/image76.png" ContentType="image/png"/>
  <Override PartName="/ppt/media/image74.png" ContentType="image/png"/>
  <Override PartName="/ppt/media/BoxcarWillie_YouAreMySunshine.wav" ContentType="audio/x-wav"/>
  <Override PartName="/ppt/media/image16.jpeg" ContentType="image/jpeg"/>
  <Override PartName="/ppt/media/image20.jpeg" ContentType="image/jpeg"/>
  <Override PartName="/ppt/media/image79.gif" ContentType="image/gif"/>
  <Override PartName="/ppt/media/image18.jpeg" ContentType="image/jpeg"/>
  <Override PartName="/ppt/media/image81.gif" ContentType="image/gif"/>
  <Override PartName="/ppt/media/image62.jpeg" ContentType="image/jpeg"/>
  <Override PartName="/ppt/media/image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2.png" ContentType="image/png"/>
  <Override PartName="/ppt/media/RICOCHET.WAV" ContentType="audio/x-wav"/>
  <Override PartName="/ppt/media/image12.jpeg" ContentType="image/jpeg"/>
  <Override PartName="/ppt/media/image29.jpeg" ContentType="image/jpeg"/>
  <Override PartName="/ppt/media/image23.jpeg" ContentType="image/jpeg"/>
  <Override PartName="/ppt/media/image59.png" ContentType="image/png"/>
  <Override PartName="/ppt/media/image56.gif" ContentType="image/gif"/>
  <Override PartName="/ppt/media/image66.jpeg" ContentType="image/jpeg"/>
  <Override PartName="/ppt/media/image50.jpeg" ContentType="image/jpeg"/>
  <Override PartName="/ppt/media/image52.png" ContentType="image/png"/>
  <Override PartName="/ppt/media/image71.png" ContentType="image/png"/>
  <Override PartName="/ppt/media/image6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2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D62-11C4-436F-81F0-B9DD270C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23A-BE7B-48FB-84D0-EC3859A3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8CD-EE36-4A0B-9B1D-C2E66A36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3DF-69F3-4536-B0E9-75020D1F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26A-94AC-4A64-BFE7-F9A17EE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1A6-2B14-4C53-AFA9-98F4A385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FB9-8884-413B-8455-06DFD609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C24-37A5-45D3-BCE5-D8DF03BB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624-8B24-465B-8DA8-91AC5143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9FF-95EC-4F36-AEA5-2E8D2557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729-7B28-427A-AC4C-1031FFC3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383-FD71-42C6-8436-83943FED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B4BA-065E-47C2-BEF2-3D218FDD4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" Target="slide18.xml"/><Relationship Id="rId5" Type="http://schemas.openxmlformats.org/officeDocument/2006/relationships/slide" Target="slide35.xml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" Target="slide54.xml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" Target="slide1.xml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5.gif"/><Relationship Id="rId5" Type="http://schemas.openxmlformats.org/officeDocument/2006/relationships/audio" Target="../media/BoxcarWillie_YouAreMySunshine.wav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gif"/><Relationship Id="rId3" Type="http://schemas.openxmlformats.org/officeDocument/2006/relationships/image" Target="../media/image57.png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gif"/><Relationship Id="rId3" Type="http://schemas.openxmlformats.org/officeDocument/2006/relationships/image" Target="../media/image61.gi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jpe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image" Target="../media/image65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8.png"/><Relationship Id="rId6" Type="http://schemas.openxmlformats.org/officeDocument/2006/relationships/image" Target="../media/image69.gif"/><Relationship Id="rId7" Type="http://schemas.openxmlformats.org/officeDocument/2006/relationships/image" Target="../media/image55.gif"/><Relationship Id="rId8" Type="http://schemas.openxmlformats.org/officeDocument/2006/relationships/image" Target="../media/image70.png"/><Relationship Id="rId9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71.png"/><Relationship Id="rId4" Type="http://schemas.openxmlformats.org/officeDocument/2006/relationships/image" Target="../media/image71.png"/><Relationship Id="rId5" Type="http://schemas.openxmlformats.org/officeDocument/2006/relationships/image" Target="../media/image73.gif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55.gif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5.jpe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gif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5.jpeg"/><Relationship Id="rId3" Type="http://schemas.openxmlformats.org/officeDocument/2006/relationships/image" Target="../media/image64.png"/><Relationship Id="rId4" Type="http://schemas.openxmlformats.org/officeDocument/2006/relationships/image" Target="../media/image71.pn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0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gif"/><Relationship Id="rId3" Type="http://schemas.openxmlformats.org/officeDocument/2006/relationships/image" Target="../media/image79.gif"/><Relationship Id="rId4" Type="http://schemas.openxmlformats.org/officeDocument/2006/relationships/image" Target="../media/image65.gif"/><Relationship Id="rId5" Type="http://schemas.openxmlformats.org/officeDocument/2006/relationships/image" Target="../media/image80.gif"/><Relationship Id="rId6" Type="http://schemas.openxmlformats.org/officeDocument/2006/relationships/image" Target="../media/image81.gif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0-9 grapje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7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2 Minuten voor een 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 golf red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10 geboden van een luia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9564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5796000" y="2060640"/>
            <a:ext cx="1368360" cy="331164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5867280" y="2997360"/>
            <a:ext cx="11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324000" y="5157720"/>
            <a:ext cx="395892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priesters gaan op vakant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076960" cy="556272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4284720" y="5877000"/>
            <a:ext cx="2303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ffff"/>
                </a:solidFill>
                <a:latin typeface="Tahoma"/>
              </a:rPr>
              <a:t>Zo wordt op 2 minuten een Mercedes opgelad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06560" y="0"/>
            <a:ext cx="712944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748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23920" y="-50760"/>
            <a:ext cx="509436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3508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90560" y="9360"/>
            <a:ext cx="7561440" cy="683748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6659640" y="5877000"/>
            <a:ext cx="2303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Comic Sans MS"/>
              </a:rPr>
              <a:t>15 goede redenen om te gaan</a:t>
            </a:r>
            <a:br>
              <a:rPr sz="8000"/>
            </a:br>
            <a:r>
              <a:rPr b="1" lang="es-ES" sz="8000" spc="-1" strike="noStrike">
                <a:solidFill>
                  <a:srgbClr val="000000"/>
                </a:solidFill>
                <a:latin typeface="Comic Sans MS"/>
              </a:rPr>
              <a:t>GOLF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5640" y="588960"/>
            <a:ext cx="7704000" cy="5732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20000" y="692280"/>
            <a:ext cx="137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038480" y="685800"/>
            <a:ext cx="990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41148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Best  Position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127640" cy="5135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51640" y="501336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921440" cy="540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62064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308720" y="27468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8021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08720" y="27468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7128000" cy="605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65920" y="537372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16000" y="-171360"/>
            <a:ext cx="7273800" cy="7029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020000" y="189000"/>
            <a:ext cx="137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700520" cy="6315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308720" y="472428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3718080" cy="659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537372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050920" y="404640"/>
            <a:ext cx="4972320" cy="6172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35280" y="5373720"/>
            <a:ext cx="173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757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24000" y="5715000"/>
            <a:ext cx="166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100760" cy="5872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56360" y="5300640"/>
            <a:ext cx="166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189000"/>
            <a:ext cx="4415040" cy="6429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093080" y="274680"/>
            <a:ext cx="159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6769440" cy="581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300720" y="5300640"/>
            <a:ext cx="284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14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9640" y="2133360"/>
            <a:ext cx="4834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n reden nr. 15 ?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93080" y="274680"/>
            <a:ext cx="159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6659640" y="5877000"/>
            <a:ext cx="2303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68640" y="189000"/>
            <a:ext cx="70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 10 geboden van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97120" y="304920"/>
            <a:ext cx="42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van een luia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4760" y="152280"/>
            <a:ext cx="37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Leef om te ru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24520" y="6027840"/>
            <a:ext cx="80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Hou van je bed, het is je tempel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628560"/>
            <a:ext cx="82296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07760" y="304920"/>
            <a:ext cx="601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 Als er iemand op bezoek komt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m wat uit te rusten,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help hem da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331920"/>
            <a:ext cx="9144000" cy="61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48000" y="2575080"/>
            <a:ext cx="2446200" cy="1706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22360" y="304920"/>
            <a:ext cx="63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Rust gedurende de dag voldoende uit,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m ‘s nachts te kunnen slap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90520" y="380880"/>
            <a:ext cx="67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. Het werk is heilig, kom er niet a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3560" y="5446800"/>
            <a:ext cx="671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6. Werk zo weinig mogelijk.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Wat werkelijk moet gedaan worden,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at dat aan anderen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54864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7. Doe vandaag nooit wat je morgen kunt do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1840" y="34920"/>
            <a:ext cx="855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8. Niemand is rustend gestorv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maar je kan wel gewond raken door te wer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4167" t="0" r="33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42760" y="5638680"/>
            <a:ext cx="807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 Wanneer je de lust tot het werken voelt 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ankomen,ga zitten en wacht tot die over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rcRect l="2499" t="0" r="1666" b="0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6160" y="152280"/>
            <a:ext cx="644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0. Het werk, dat is de gezondhe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us, laat het aan de zie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92560" y="357336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00"/>
                </a:solidFill>
                <a:latin typeface="Vivaldi"/>
              </a:rPr>
              <a:t>Jem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6659640" y="5877000"/>
            <a:ext cx="2303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strand.steen.overzee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75640" y="5373720"/>
            <a:ext cx="80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Twee priesters op vakantie.</a:t>
            </a:r>
            <a:r>
              <a:rPr b="0" lang="nl-NL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24000" y="4365720"/>
            <a:ext cx="1296720" cy="796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580000" y="4591080"/>
            <a:ext cx="1025640" cy="482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d"/>
    <p:sndAc>
      <p:stSnd>
        <p:snd r:embed="rId5" name="BoxcarWillie_YouAreMySunshine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omic Sans MS"/>
              </a:rPr>
              <a:t>Twee priesters besloten op vakantie naar Hawaïï te gaan.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2209680" cy="21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843280" y="4365720"/>
            <a:ext cx="3168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133720"/>
            <a:ext cx="220968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omic Sans MS"/>
              </a:rPr>
              <a:t>Zij waren vastbesloten dit keer een echte vakantie te mak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omic Sans MS"/>
              </a:rPr>
              <a:t>door niets te dragen dat ze zou kunnen identificeren als priest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885960" cy="93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32720" y="4437000"/>
            <a:ext cx="88416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8000" y="260280"/>
            <a:ext cx="4572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Zodra het vliegtuig geland was gingen ze naar de winkel en kochten bont gekleurde short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erg opvallende overhemden, sandalen, zonnebrillen en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022.gif"/>
          <p:cNvPicPr/>
          <p:nvPr/>
        </p:nvPicPr>
        <p:blipFill>
          <a:blip r:embed="rId2"/>
          <a:stretch/>
        </p:blipFill>
        <p:spPr>
          <a:xfrm>
            <a:off x="4211640" y="765000"/>
            <a:ext cx="4356000" cy="1070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038.gif"/>
          <p:cNvPicPr/>
          <p:nvPr/>
        </p:nvPicPr>
        <p:blipFill>
          <a:blip r:embed="rId3"/>
          <a:stretch/>
        </p:blipFill>
        <p:spPr>
          <a:xfrm>
            <a:off x="3924360" y="4292640"/>
            <a:ext cx="46292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00000" y="2716200"/>
            <a:ext cx="6985080" cy="4141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De volgende morgen gingen ze naar het strand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geheel uitgedost in hun 'toeristen' kledij.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Ze zaten op hun strandstoel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492360" y="3716280"/>
            <a:ext cx="300060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genietend van een heerlijk drankj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de zonneschijn en het landsch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toen een beeldschone blondine in een topless bik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regelrecht naar ze toe kwam lop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Zij konden alleen maar stare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867280" y="1125360"/>
            <a:ext cx="1735200" cy="4608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1224000" cy="974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635280" y="333360"/>
            <a:ext cx="122400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4648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Toen de blondine ze passeerde, glimlachte ze vriendelijk en knikte tegen elk afzonderl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"Goedemorgen Vader ~ Goedemorgen Vader" terwijl ze ze passeerde. Beide priesters waren met stomheid geslagen.</a:t>
            </a: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627280" y="335772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 flipH="1">
            <a:off x="2195640" y="3500280"/>
            <a:ext cx="1512720" cy="116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020000" y="3429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-108000" y="2852640"/>
            <a:ext cx="971640" cy="596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580000" y="3500280"/>
            <a:ext cx="93672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5968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25926E-006 C 0.10121 -0.09189 0.2026 -0.18379 0.24305 -0.22013 E">
                                      <p:cBhvr>
                                        <p:cTn id="373" dur="9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000"/>
                            </p:stCondLst>
                            <p:childTnLst>
                              <p:par>
                                <p:cTn id="3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05 -0.22013 C 0.39149 -0.2243 0.5401 -0.22823 0.6059 -0.22939 C 0.67169 -0.23055 0.65503 -0.22916 0.63836 -0.22777 E">
                                      <p:cBhvr>
                                        <p:cTn id="376" dur="9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Hoe wist ze in 's hemelsnaam dat ze priesters wa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Dus vroeg de volgende morgen gingen ze terug naar de wink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en kochten nog meer opvallende kle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111480" y="4437000"/>
            <a:ext cx="1360440" cy="165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27640" y="4437000"/>
            <a:ext cx="13604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252720" y="3645000"/>
            <a:ext cx="835164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Comic Sans MS"/>
              </a:rPr>
              <a:t>Deze waren zo oogverblindend opvallend dat je ze niet kon missen! </a:t>
            </a:r>
            <a:br>
              <a:rPr sz="1800"/>
            </a:br>
            <a:r>
              <a:rPr b="1" lang="nl-NL" sz="1800" spc="-1" strike="noStrike">
                <a:solidFill>
                  <a:srgbClr val="000066"/>
                </a:solidFill>
                <a:latin typeface="Comic Sans MS"/>
              </a:rPr>
              <a:t>Wederom, in hun nieuwe kleding, zaten ze in hun strandstoelen </a:t>
            </a:r>
            <a:br>
              <a:rPr sz="1800"/>
            </a:br>
            <a:r>
              <a:rPr b="1" lang="nl-NL" sz="1800" spc="-1" strike="noStrike">
                <a:solidFill>
                  <a:srgbClr val="000066"/>
                </a:solidFill>
                <a:latin typeface="Comic Sans MS"/>
              </a:rPr>
              <a:t>lekker van het zonnetje te geniete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340000" y="3068640"/>
            <a:ext cx="1123920" cy="1368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203640" y="3068640"/>
            <a:ext cx="118260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7667640" y="3645000"/>
            <a:ext cx="708120" cy="8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79280" y="0"/>
            <a:ext cx="850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a enige tijd kwam dezelfde beeldsch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londine,</a:t>
            </a:r>
            <a:br>
              <a:rPr sz="2000"/>
            </a:br>
            <a:r>
              <a:rPr b="0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n een anderskleurige topless  bikin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op haar dooie gemak naar ze toe lopen. </a:t>
            </a:r>
            <a:br>
              <a:rPr sz="2000"/>
            </a:br>
            <a:r>
              <a:rPr b="0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Ze knikte weer vriendelijk naar allebei en z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627280" y="335772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 flipH="1">
            <a:off x="2123640" y="342900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8207280" y="3068640"/>
            <a:ext cx="93672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324000" y="4581360"/>
            <a:ext cx="75852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34 0.10486 L 0.25781 -0.15764 E">
                                      <p:cBhvr>
                                        <p:cTn id="382" dur="7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"Goedemorgen Vader ~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Goedemorgen Vader"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en begon weg te lopen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6264360" cy="3713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419640" y="1628640"/>
            <a:ext cx="1123920" cy="1368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859280" y="1628640"/>
            <a:ext cx="1123920" cy="1368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2050920" y="1700280"/>
            <a:ext cx="471600" cy="504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140360" y="1773360"/>
            <a:ext cx="70452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0.26076 -0.00023 E">
                                      <p:cBhvr>
                                        <p:cTn id="388" dur="8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3144960"/>
            <a:ext cx="6264360" cy="37130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Een van de priesters kon het niet langer aanzien en ze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"Ogenblikje jonge dame."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Ze stopte en antwoordde: "Ja, Va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219640" y="4221000"/>
            <a:ext cx="993960" cy="2637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2411280" y="4653000"/>
            <a:ext cx="1182960" cy="1440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851280" y="4797360"/>
            <a:ext cx="11826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284720" y="2602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omicType-Heavy"/>
                <a:ea typeface="Arial"/>
              </a:rPr>
              <a:t>"</a:t>
            </a:r>
            <a:r>
              <a:rPr b="1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Wij zijn priesters en trots daarop, maar ik moet nu toch wel we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oe jij in hemelsnaam WEET dat wij, gekl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zoals we nu zijn, dat wij priesters zij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Zij antwoord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340000" y="3357720"/>
            <a:ext cx="885960" cy="107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132000" y="3357720"/>
            <a:ext cx="887400" cy="1081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771640" y="3645000"/>
            <a:ext cx="623880" cy="1655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8028000" y="3068640"/>
            <a:ext cx="792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Comic Sans MS"/>
              </a:rPr>
              <a:t>"Vader, </a:t>
            </a:r>
            <a:br>
              <a:rPr sz="6000"/>
            </a:br>
            <a:r>
              <a:rPr b="1" lang="nl-NL" sz="6000" spc="-1" strike="noStrike">
                <a:solidFill>
                  <a:srgbClr val="ffffff"/>
                </a:solidFill>
                <a:latin typeface="Comic Sans MS"/>
              </a:rPr>
              <a:t>ik ben het, </a:t>
            </a:r>
            <a:br>
              <a:rPr sz="6000"/>
            </a:br>
            <a:r>
              <a:rPr b="1" lang="nl-NL" sz="6000" spc="-1" strike="noStrike">
                <a:solidFill>
                  <a:srgbClr val="ffffff"/>
                </a:solidFill>
                <a:latin typeface="Comic Sans MS"/>
              </a:rPr>
              <a:t>Zuster </a:t>
            </a:r>
            <a:br>
              <a:rPr sz="6000"/>
            </a:br>
            <a:r>
              <a:rPr b="1" lang="nl-NL" sz="6000" spc="-1" strike="noStrike">
                <a:solidFill>
                  <a:srgbClr val="ffffff"/>
                </a:solidFill>
                <a:latin typeface="Comic Sans MS"/>
              </a:rPr>
              <a:t>Kathleen."</a:t>
            </a:r>
            <a:r>
              <a:rPr b="0" lang="nl-NL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1734840" cy="4608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084720" y="2349360"/>
            <a:ext cx="2857680" cy="40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804000" y="3933720"/>
            <a:ext cx="125748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572000" y="1125360"/>
            <a:ext cx="1943280" cy="1546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042920" y="2205000"/>
            <a:ext cx="1150920" cy="644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3635280" y="4005360"/>
            <a:ext cx="1609920" cy="134280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7" action="ppaction://hlinksldjump"/>
          </p:cNvPr>
          <p:cNvSpPr/>
          <p:nvPr/>
        </p:nvSpPr>
        <p:spPr>
          <a:xfrm>
            <a:off x="6659640" y="5877000"/>
            <a:ext cx="2303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153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00200" y="609480"/>
            <a:ext cx="6324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And Here com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920" y="2971800"/>
            <a:ext cx="167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8120" y="502920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Best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8-12-06T07:45:14Z</dcterms:modified>
  <cp:revision>30</cp:revision>
  <dc:subject/>
  <dc:title>Dia 1</dc:title>
</cp:coreProperties>
</file>