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3.jpeg" ContentType="image/jpeg"/>
  <Override PartName="/ppt/media/image49.jpeg" ContentType="image/jpeg"/>
  <Override PartName="/ppt/media/image47.jpeg" ContentType="image/jpeg"/>
  <Override PartName="/ppt/media/image65.gif" ContentType="image/gif"/>
  <Override PartName="/ppt/media/image68.png" ContentType="image/png"/>
  <Override PartName="/ppt/media/image46.jpeg" ContentType="image/jpeg"/>
  <Override PartName="/ppt/media/image55.gif" ContentType="image/gif"/>
  <Override PartName="/ppt/media/image58.png" ContentType="image/pn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67.gif" ContentType="image/gif"/>
  <Override PartName="/ppt/media/image9.jpeg" ContentType="image/jpeg"/>
  <Override PartName="/ppt/media/image39.jpeg" ContentType="image/jpeg"/>
  <Override PartName="/ppt/media/image2.gif" ContentType="image/gif"/>
  <Override PartName="/ppt/media/image8.jpeg" ContentType="image/jpeg"/>
  <Override PartName="/ppt/media/image13.jpeg" ContentType="image/jpeg"/>
  <Override PartName="/ppt/media/image40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61.gif" ContentType="image/gif"/>
  <Override PartName="/ppt/media/image64.png" ContentType="image/png"/>
  <Override PartName="/ppt/media/image19.jpeg" ContentType="image/jpeg"/>
  <Override PartName="/ppt/media/image69.gif" ContentType="image/gif"/>
  <Override PartName="/ppt/media/image22.jpeg" ContentType="image/jpeg"/>
  <Override PartName="/ppt/media/image21.jpeg" ContentType="image/jpeg"/>
  <Override PartName="/ppt/media/image57.png" ContentType="image/png"/>
  <Override PartName="/ppt/media/image17.jpeg" ContentType="image/jpeg"/>
  <Override PartName="/ppt/media/image60.gif" ContentType="image/gif"/>
  <Override PartName="/ppt/media/image63.png" ContentType="image/png"/>
  <Override PartName="/ppt/media/image70.png" ContentType="image/png"/>
  <Override PartName="/ppt/media/image7.jpeg" ContentType="image/jpeg"/>
  <Override PartName="/ppt/media/image42.jpeg" ContentType="image/jpeg"/>
  <Override PartName="/ppt/media/image80.gif" ContentType="image/gif"/>
  <Override PartName="/ppt/media/image78.gif" ContentType="image/gif"/>
  <Override PartName="/ppt/media/image77.png" ContentType="image/png"/>
  <Override PartName="/ppt/media/image4.jpeg" ContentType="image/jpeg"/>
  <Override PartName="/ppt/media/image75.jpeg" ContentType="image/jpeg"/>
  <Override PartName="/ppt/media/click.wav" ContentType="audio/x-wav"/>
  <Override PartName="/ppt/media/image48.jpeg" ContentType="image/jpeg"/>
  <Override PartName="/ppt/media/image73.gif" ContentType="image/gif"/>
  <Override PartName="/ppt/media/image76.png" ContentType="image/png"/>
  <Override PartName="/ppt/media/image74.png" ContentType="image/png"/>
  <Override PartName="/ppt/media/BoxcarWillie_YouAreMySunshine.wav" ContentType="audio/x-wav"/>
  <Override PartName="/ppt/media/image16.jpeg" ContentType="image/jpeg"/>
  <Override PartName="/ppt/media/image20.jpeg" ContentType="image/jpeg"/>
  <Override PartName="/ppt/media/image79.gif" ContentType="image/gif"/>
  <Override PartName="/ppt/media/image18.jpeg" ContentType="image/jpeg"/>
  <Override PartName="/ppt/media/image81.gif" ContentType="image/gif"/>
  <Override PartName="/ppt/media/image62.jpeg" ContentType="image/jpeg"/>
  <Override PartName="/ppt/media/image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2.png" ContentType="image/png"/>
  <Override PartName="/ppt/media/RICOCHET.WAV" ContentType="audio/x-wav"/>
  <Override PartName="/ppt/media/image12.jpeg" ContentType="image/jpeg"/>
  <Override PartName="/ppt/media/image29.jpeg" ContentType="image/jpeg"/>
  <Override PartName="/ppt/media/image23.jpeg" ContentType="image/jpeg"/>
  <Override PartName="/ppt/media/image59.png" ContentType="image/png"/>
  <Override PartName="/ppt/media/image56.gif" ContentType="image/gif"/>
  <Override PartName="/ppt/media/image66.jpeg" ContentType="image/jpeg"/>
  <Override PartName="/ppt/media/image50.jpeg" ContentType="image/jpeg"/>
  <Override PartName="/ppt/media/image52.png" ContentType="image/png"/>
  <Override PartName="/ppt/media/image71.png" ContentType="image/png"/>
  <Override PartName="/ppt/media/image6.jpeg" ContentType="image/jpeg"/>
  <Override PartName="/ppt/media/image25.jpeg" ContentType="image/jpeg"/>
  <Override PartName="/ppt/media/image32.png" ContentType="image/png"/>
  <Override PartName="/ppt/media/image26.jpeg" ContentType="image/jpeg"/>
  <Override PartName="/ppt/media/image2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6CF8-8597-4342-B300-B18958B8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C55-8E5D-4268-9652-0E4E4F77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679-37AD-47BB-9057-69E85CF1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ADB9-750F-48CF-B7D7-A6243DE7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545-A6F2-452A-94AA-BA826522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62F-3BFF-44A5-9EA5-46BC8716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156-41E4-4E95-A8DA-50EDB210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562-72E1-46E6-A2EA-DD74CDD8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710-9FE1-45EA-884B-7442CCC9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A14-A210-4F25-90B0-CE86936C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C468-C507-4CAD-91EC-C65AF20C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C2D-AB0F-40DE-BC86-6B4F99A0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D959-B5C6-45CA-B131-C3B184EAD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" Target="slide18.xml"/><Relationship Id="rId5" Type="http://schemas.openxmlformats.org/officeDocument/2006/relationships/slide" Target="slide35.xml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" Target="slide54.xml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slide" Target="slide1.xml"/><Relationship Id="rId5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image" Target="../media/image55.gif"/><Relationship Id="rId5" Type="http://schemas.openxmlformats.org/officeDocument/2006/relationships/audio" Target="../media/BoxcarWillie_YouAreMySunshine.wav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gif"/><Relationship Id="rId3" Type="http://schemas.openxmlformats.org/officeDocument/2006/relationships/image" Target="../media/image57.png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gif"/><Relationship Id="rId3" Type="http://schemas.openxmlformats.org/officeDocument/2006/relationships/image" Target="../media/image61.gif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jpe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png"/><Relationship Id="rId3" Type="http://schemas.openxmlformats.org/officeDocument/2006/relationships/image" Target="../media/image65.gif"/><Relationship Id="rId4" Type="http://schemas.openxmlformats.org/officeDocument/2006/relationships/image" Target="../media/image6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jpeg"/><Relationship Id="rId3" Type="http://schemas.openxmlformats.org/officeDocument/2006/relationships/image" Target="../media/image67.gif"/><Relationship Id="rId4" Type="http://schemas.openxmlformats.org/officeDocument/2006/relationships/image" Target="../media/image67.gif"/><Relationship Id="rId5" Type="http://schemas.openxmlformats.org/officeDocument/2006/relationships/image" Target="../media/image68.png"/><Relationship Id="rId6" Type="http://schemas.openxmlformats.org/officeDocument/2006/relationships/image" Target="../media/image69.gif"/><Relationship Id="rId7" Type="http://schemas.openxmlformats.org/officeDocument/2006/relationships/image" Target="../media/image55.gif"/><Relationship Id="rId8" Type="http://schemas.openxmlformats.org/officeDocument/2006/relationships/image" Target="../media/image70.png"/><Relationship Id="rId9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jpeg"/><Relationship Id="rId3" Type="http://schemas.openxmlformats.org/officeDocument/2006/relationships/image" Target="../media/image71.png"/><Relationship Id="rId4" Type="http://schemas.openxmlformats.org/officeDocument/2006/relationships/image" Target="../media/image71.png"/><Relationship Id="rId5" Type="http://schemas.openxmlformats.org/officeDocument/2006/relationships/image" Target="../media/image73.gif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jpeg"/><Relationship Id="rId3" Type="http://schemas.openxmlformats.org/officeDocument/2006/relationships/image" Target="../media/image67.gif"/><Relationship Id="rId4" Type="http://schemas.openxmlformats.org/officeDocument/2006/relationships/image" Target="../media/image67.gif"/><Relationship Id="rId5" Type="http://schemas.openxmlformats.org/officeDocument/2006/relationships/image" Target="../media/image55.gif"/><Relationship Id="rId6" Type="http://schemas.openxmlformats.org/officeDocument/2006/relationships/image" Target="../media/image74.png"/><Relationship Id="rId7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5.jpe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gif"/><Relationship Id="rId6" Type="http://schemas.openxmlformats.org/officeDocument/2006/relationships/image" Target="../media/image74.png"/><Relationship Id="rId7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5.jpeg"/><Relationship Id="rId3" Type="http://schemas.openxmlformats.org/officeDocument/2006/relationships/image" Target="../media/image64.png"/><Relationship Id="rId4" Type="http://schemas.openxmlformats.org/officeDocument/2006/relationships/image" Target="../media/image71.png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jpe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0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0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gif"/><Relationship Id="rId3" Type="http://schemas.openxmlformats.org/officeDocument/2006/relationships/image" Target="../media/image79.gif"/><Relationship Id="rId4" Type="http://schemas.openxmlformats.org/officeDocument/2006/relationships/image" Target="../media/image65.gif"/><Relationship Id="rId5" Type="http://schemas.openxmlformats.org/officeDocument/2006/relationships/image" Target="../media/image80.gif"/><Relationship Id="rId6" Type="http://schemas.openxmlformats.org/officeDocument/2006/relationships/image" Target="../media/image81.gif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0-9 grapjes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17928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7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1042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2 Minuten voor een Merc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 golf red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10 geboden van een luia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95640" y="616572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5796000" y="2060640"/>
            <a:ext cx="1368360" cy="3311640"/>
          </a:xfrm>
          <a:prstGeom prst="ellipse">
            <a:avLst/>
          </a:prstGeom>
          <a:solidFill>
            <a:srgbClr val="00ff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5867280" y="2997360"/>
            <a:ext cx="115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324000" y="5157720"/>
            <a:ext cx="395892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priesters gaan op vakant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8076960" cy="556272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4284720" y="5877000"/>
            <a:ext cx="2303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ffffff"/>
                </a:solidFill>
                <a:latin typeface="Tahoma"/>
              </a:rPr>
              <a:t>Zo wordt op 2 minuten een Mercedes opgelad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06560" y="0"/>
            <a:ext cx="712944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0"/>
            <a:ext cx="716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5748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023920" y="-50760"/>
            <a:ext cx="509436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035080" y="0"/>
            <a:ext cx="507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90560" y="9360"/>
            <a:ext cx="7561440" cy="683748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6659640" y="5877000"/>
            <a:ext cx="2303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Comic Sans MS"/>
              </a:rPr>
              <a:t>15 goede redenen om te gaan</a:t>
            </a:r>
            <a:br>
              <a:rPr sz="8000"/>
            </a:br>
            <a:r>
              <a:rPr b="1" lang="es-ES" sz="8000" spc="-1" strike="noStrike">
                <a:solidFill>
                  <a:srgbClr val="000000"/>
                </a:solidFill>
                <a:latin typeface="Comic Sans MS"/>
              </a:rPr>
              <a:t>GOLF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55640" y="588960"/>
            <a:ext cx="7704000" cy="5732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020000" y="692280"/>
            <a:ext cx="137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038480" y="685800"/>
            <a:ext cx="9907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/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4114800"/>
            <a:ext cx="8458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/>
                  </a:outerShdw>
                </a:effectLst>
                <a:latin typeface="Arial Black"/>
              </a:rPr>
              <a:t>Best  Position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127640" cy="5135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451640" y="5013360"/>
            <a:ext cx="13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7921440" cy="540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620640"/>
            <a:ext cx="13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99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51847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308720" y="274680"/>
            <a:ext cx="13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58021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08720" y="274680"/>
            <a:ext cx="13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16000" y="404640"/>
            <a:ext cx="7128000" cy="6053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765920" y="5373720"/>
            <a:ext cx="13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16000" y="-171360"/>
            <a:ext cx="7273800" cy="7029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020000" y="189000"/>
            <a:ext cx="137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99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340000" y="333360"/>
            <a:ext cx="4700520" cy="6315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308720" y="4724280"/>
            <a:ext cx="13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771640" y="0"/>
            <a:ext cx="3718080" cy="6597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76720" y="5373720"/>
            <a:ext cx="13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99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050920" y="404640"/>
            <a:ext cx="4972320" cy="6172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35280" y="5373720"/>
            <a:ext cx="173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68360" y="0"/>
            <a:ext cx="4757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124000" y="5715000"/>
            <a:ext cx="166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99"/>
                </a:solidFill>
                <a:latin typeface="Arial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30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124000" y="620640"/>
            <a:ext cx="4100760" cy="5872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156360" y="5300640"/>
            <a:ext cx="166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484360" y="189000"/>
            <a:ext cx="4415040" cy="6429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093080" y="274680"/>
            <a:ext cx="159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7280" y="692280"/>
            <a:ext cx="6769440" cy="581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300720" y="5300640"/>
            <a:ext cx="284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99"/>
                </a:solidFill>
                <a:latin typeface="Arial"/>
              </a:rPr>
              <a:t>14</a:t>
            </a:r>
            <a:r>
              <a:rPr b="1" lang="es-ES" sz="9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79640" y="2133360"/>
            <a:ext cx="4834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Comic Sans MS"/>
              </a:rPr>
              <a:t>en reden nr. 15 ??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93080" y="274680"/>
            <a:ext cx="159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99"/>
                </a:solidFill>
                <a:latin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6659640" y="5877000"/>
            <a:ext cx="2303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68640" y="189000"/>
            <a:ext cx="70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 10 geboden van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697120" y="304920"/>
            <a:ext cx="42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fr-CA" sz="3600" spc="-1" strike="noStrike">
                <a:solidFill>
                  <a:srgbClr val="ffffff"/>
                </a:solidFill>
                <a:latin typeface="Comic Sans MS"/>
              </a:rPr>
              <a:t>van een luia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04760" y="152280"/>
            <a:ext cx="37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Leef om te ru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3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3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3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24520" y="6027840"/>
            <a:ext cx="80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Hou van je bed, het is je tempel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628560"/>
            <a:ext cx="82296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07760" y="304920"/>
            <a:ext cx="601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 Als er iemand op bezoek komt 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m wat uit te rusten,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help hem dan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331920"/>
            <a:ext cx="9144000" cy="61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348000" y="2575080"/>
            <a:ext cx="2446200" cy="1706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22360" y="304920"/>
            <a:ext cx="63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 Rust gedurende de dag voldoende uit, </a:t>
            </a:r>
            <a:br>
              <a:rPr sz="2400"/>
            </a:br>
            <a:r>
              <a:rPr b="1" lang="fr-C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m ‘s nachts te kunnen slap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90520" y="380880"/>
            <a:ext cx="67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. Het werk is heilig, kom er niet a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13560" y="5446800"/>
            <a:ext cx="671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6. Werk zo weinig mogelijk. 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Wat werkelijk moet gedaan worden, 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at dat aan anderen 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54864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7. Doe vandaag nooit wat je morgen kunt do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1840" y="34920"/>
            <a:ext cx="855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8. Niemand is rustend gestorv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maar je kan wel gewond raken door te wer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80010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rcRect l="4167" t="0" r="333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42760" y="5638680"/>
            <a:ext cx="807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9. Wanneer je de lust tot het werken voelt </a:t>
            </a:r>
            <a:br>
              <a:rPr sz="2800"/>
            </a:br>
            <a:r>
              <a:rPr b="1" lang="fr-C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ankomen,ga zitten en wacht tot die over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rcRect l="2499" t="0" r="1666" b="0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6160" y="152280"/>
            <a:ext cx="644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0. Het werk, dat is de gezondhe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us, laat het aan de zie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492560" y="357336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00"/>
                </a:solidFill>
                <a:latin typeface="Vivaldi"/>
              </a:rPr>
              <a:t>Jem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4" action="ppaction://hlinksldjump"/>
          </p:cNvPr>
          <p:cNvSpPr/>
          <p:nvPr/>
        </p:nvSpPr>
        <p:spPr>
          <a:xfrm>
            <a:off x="6659640" y="5877000"/>
            <a:ext cx="2303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strand.steen.overzees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75640" y="5373720"/>
            <a:ext cx="80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omic Sans MS"/>
                <a:ea typeface="Arial"/>
              </a:rPr>
              <a:t>Twee priesters op vakantie.</a:t>
            </a:r>
            <a:r>
              <a:rPr b="0" lang="nl-NL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24000" y="4365720"/>
            <a:ext cx="1296720" cy="796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580000" y="4591080"/>
            <a:ext cx="1025640" cy="482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d"/>
    <p:sndAc>
      <p:stSnd>
        <p:snd r:embed="rId5" name="BoxcarWillie_YouAreMySunshine.wav"/>
      </p:stSnd>
    </p:sndAc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omic Sans MS"/>
              </a:rPr>
              <a:t>Twee priesters besloten op vakantie naar Hawaïï te gaan.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2209680" cy="2104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843280" y="4365720"/>
            <a:ext cx="3168720" cy="1857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32360" y="2133720"/>
            <a:ext cx="2209680" cy="21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omic Sans MS"/>
              </a:rPr>
              <a:t>Zij waren vastbesloten dit keer een echte vakantie te mak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omic Sans MS"/>
              </a:rPr>
              <a:t>door niets te dragen dat ze zou kunnen identificeren als priest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258920" y="4437000"/>
            <a:ext cx="885960" cy="936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732720" y="4437000"/>
            <a:ext cx="88416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8000" y="260280"/>
            <a:ext cx="4572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Zodra het vliegtuig geland was gingen ze naar de winkel en kochten bont gekleurde short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omic Sans MS"/>
                <a:ea typeface="Arial"/>
              </a:rPr>
              <a:t>erg opvallende overhemden, sandalen, zonnebrillen en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022.gif"/>
          <p:cNvPicPr/>
          <p:nvPr/>
        </p:nvPicPr>
        <p:blipFill>
          <a:blip r:embed="rId2"/>
          <a:stretch/>
        </p:blipFill>
        <p:spPr>
          <a:xfrm>
            <a:off x="4211640" y="765000"/>
            <a:ext cx="4356000" cy="1070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038.gif"/>
          <p:cNvPicPr/>
          <p:nvPr/>
        </p:nvPicPr>
        <p:blipFill>
          <a:blip r:embed="rId3"/>
          <a:stretch/>
        </p:blipFill>
        <p:spPr>
          <a:xfrm>
            <a:off x="3924360" y="4292640"/>
            <a:ext cx="46292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900000" y="2716200"/>
            <a:ext cx="6985080" cy="4141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De volgende morgen gingen ze naar het strand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geheel uitgedost in hun 'toeristen' kledij.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Ze zaten op hun strandstoel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492360" y="3716280"/>
            <a:ext cx="3000600" cy="26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omic Sans MS"/>
              </a:rPr>
              <a:t>genietend van een heerlijk drankj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omic Sans MS"/>
              </a:rPr>
              <a:t>de zonneschijn en het landsch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omic Sans MS"/>
              </a:rPr>
              <a:t>toen een beeldschone blondine in een topless biki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omic Sans MS"/>
              </a:rPr>
              <a:t>regelrecht naar ze toe kwam lop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omic Sans MS"/>
              </a:rPr>
              <a:t>Zij konden alleen maar stare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867280" y="1125360"/>
            <a:ext cx="1735200" cy="4608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55640" y="333360"/>
            <a:ext cx="1224000" cy="974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635280" y="333360"/>
            <a:ext cx="1224000" cy="9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0" y="380880"/>
            <a:ext cx="4648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3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Toen de blondine ze passeerde, glimlachte ze vriendelijk en knikte tegen elk afzonderlij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"Goedemorgen Vader ~ Goedemorgen Vader" terwijl ze ze passeerde. Beide priesters waren met stomheid geslagen.</a:t>
            </a: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627280" y="3357720"/>
            <a:ext cx="1513080" cy="1166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 flipH="1">
            <a:off x="2195640" y="3500280"/>
            <a:ext cx="1512720" cy="1167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7020000" y="3429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-108000" y="2852640"/>
            <a:ext cx="971640" cy="596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5580000" y="3500280"/>
            <a:ext cx="936720" cy="360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324000" y="5013360"/>
            <a:ext cx="5968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9.25926E-006 C 0.10121 -0.09189 0.2026 -0.18379 0.24305 -0.22013 E">
                                      <p:cBhvr>
                                        <p:cTn id="373" dur="9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000"/>
                            </p:stCondLst>
                            <p:childTnLst>
                              <p:par>
                                <p:cTn id="3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305 -0.22013 C 0.39149 -0.2243 0.5401 -0.22823 0.6059 -0.22939 C 0.67169 -0.23055 0.65503 -0.22916 0.63836 -0.22777 E">
                                      <p:cBhvr>
                                        <p:cTn id="376" dur="9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Hoe wist ze in 's hemelsnaam dat ze priesters wa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Dus vroeg de volgende morgen gingen ze terug naar de wink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en kochten nog meer opvallende kle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111480" y="4437000"/>
            <a:ext cx="1360440" cy="1656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427640" y="4437000"/>
            <a:ext cx="136044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252720" y="3645000"/>
            <a:ext cx="835164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66"/>
                </a:solidFill>
                <a:latin typeface="Comic Sans MS"/>
              </a:rPr>
              <a:t>Deze waren zo oogverblindend opvallend dat je ze niet kon missen! </a:t>
            </a:r>
            <a:br>
              <a:rPr sz="1800"/>
            </a:br>
            <a:r>
              <a:rPr b="1" lang="nl-NL" sz="1800" spc="-1" strike="noStrike">
                <a:solidFill>
                  <a:srgbClr val="000066"/>
                </a:solidFill>
                <a:latin typeface="Comic Sans MS"/>
              </a:rPr>
              <a:t>Wederom, in hun nieuwe kleding, zaten ze in hun strandstoelen </a:t>
            </a:r>
            <a:br>
              <a:rPr sz="1800"/>
            </a:br>
            <a:r>
              <a:rPr b="1" lang="nl-NL" sz="1800" spc="-1" strike="noStrike">
                <a:solidFill>
                  <a:srgbClr val="000066"/>
                </a:solidFill>
                <a:latin typeface="Comic Sans MS"/>
              </a:rPr>
              <a:t>lekker van het zonnetje te genieten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340000" y="3068640"/>
            <a:ext cx="1123920" cy="1368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203640" y="3068640"/>
            <a:ext cx="118260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7667640" y="3645000"/>
            <a:ext cx="708120" cy="8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79280" y="0"/>
            <a:ext cx="8501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Na enige tijd kwam dezelfde beeldsch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blondine,</a:t>
            </a:r>
            <a:br>
              <a:rPr sz="2000"/>
            </a:br>
            <a:r>
              <a:rPr b="0" lang="nl-NL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n een anderskleurige topless  bikin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op haar dooie gemak naar ze toe lopen. </a:t>
            </a:r>
            <a:br>
              <a:rPr sz="2000"/>
            </a:br>
            <a:r>
              <a:rPr b="0" lang="nl-NL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Ze knikte weer vriendelijk naar allebei en ze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627280" y="3357720"/>
            <a:ext cx="1513080" cy="1166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 flipH="1">
            <a:off x="2123640" y="3429000"/>
            <a:ext cx="1513080" cy="1166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8207280" y="3068640"/>
            <a:ext cx="936720" cy="360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324000" y="4581360"/>
            <a:ext cx="75852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34 0.10486 L 0.25781 -0.15764 E">
                                      <p:cBhvr>
                                        <p:cTn id="382" dur="7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"Goedemorgen Vader ~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Goedemorgen Vader"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en begon weg te lopen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971640" y="0"/>
            <a:ext cx="6264360" cy="3713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419640" y="1628640"/>
            <a:ext cx="1123920" cy="1368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859280" y="1628640"/>
            <a:ext cx="1123920" cy="1368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2050920" y="1700280"/>
            <a:ext cx="471600" cy="504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4140360" y="1773360"/>
            <a:ext cx="70452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111E-006 L 0.26076 -0.00023 E">
                                      <p:cBhvr>
                                        <p:cTn id="388" dur="8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8000"/>
                            </p:stCondLst>
                            <p:childTnLst>
                              <p:par>
                                <p:cTn id="3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3144960"/>
            <a:ext cx="6264360" cy="37130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Een van de priesters kon het niet langer aanzien en ze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"Ogenblikje jonge dame."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Ze stopte en antwoordde: "Ja, Va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219640" y="4221000"/>
            <a:ext cx="993960" cy="2637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2411280" y="4653000"/>
            <a:ext cx="1182960" cy="1440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851280" y="4797360"/>
            <a:ext cx="11826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284720" y="26028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ComicType-Heavy"/>
                <a:ea typeface="Arial"/>
              </a:rPr>
              <a:t>"</a:t>
            </a:r>
            <a:r>
              <a:rPr b="1" lang="nl-NL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Wij zijn priesters en trots daarop, maar ik moet nu toch wel we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hoe jij in hemelsnaam WEET dat wij, gekl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zoals we nu zijn, dat wij priesters zij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Zij antwoord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340000" y="3357720"/>
            <a:ext cx="885960" cy="1079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3132000" y="3357720"/>
            <a:ext cx="887400" cy="1081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2771640" y="3645000"/>
            <a:ext cx="623880" cy="1655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8028000" y="3068640"/>
            <a:ext cx="792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ff"/>
                </a:solidFill>
                <a:latin typeface="Comic Sans MS"/>
              </a:rPr>
              <a:t>"Vader, </a:t>
            </a:r>
            <a:br>
              <a:rPr sz="6000"/>
            </a:br>
            <a:r>
              <a:rPr b="1" lang="nl-NL" sz="6000" spc="-1" strike="noStrike">
                <a:solidFill>
                  <a:srgbClr val="ffffff"/>
                </a:solidFill>
                <a:latin typeface="Comic Sans MS"/>
              </a:rPr>
              <a:t>ik ben het, </a:t>
            </a:r>
            <a:br>
              <a:rPr sz="6000"/>
            </a:br>
            <a:r>
              <a:rPr b="1" lang="nl-NL" sz="6000" spc="-1" strike="noStrike">
                <a:solidFill>
                  <a:srgbClr val="ffffff"/>
                </a:solidFill>
                <a:latin typeface="Comic Sans MS"/>
              </a:rPr>
              <a:t>Zuster </a:t>
            </a:r>
            <a:br>
              <a:rPr sz="6000"/>
            </a:br>
            <a:r>
              <a:rPr b="1" lang="nl-NL" sz="6000" spc="-1" strike="noStrike">
                <a:solidFill>
                  <a:srgbClr val="ffffff"/>
                </a:solidFill>
                <a:latin typeface="Comic Sans MS"/>
              </a:rPr>
              <a:t>Kathleen."</a:t>
            </a:r>
            <a:r>
              <a:rPr b="0" lang="nl-NL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1734840" cy="4608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084720" y="2349360"/>
            <a:ext cx="2857680" cy="404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804000" y="3933720"/>
            <a:ext cx="1257480" cy="1428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572000" y="1125360"/>
            <a:ext cx="1943280" cy="1546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042920" y="2205000"/>
            <a:ext cx="1150920" cy="644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3635280" y="4005360"/>
            <a:ext cx="1609920" cy="134280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7" action="ppaction://hlinksldjump"/>
          </p:cNvPr>
          <p:cNvSpPr/>
          <p:nvPr/>
        </p:nvSpPr>
        <p:spPr>
          <a:xfrm>
            <a:off x="6659640" y="5877000"/>
            <a:ext cx="2303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153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00200" y="609480"/>
            <a:ext cx="6324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/>
                  </a:outerShdw>
                </a:effectLst>
                <a:latin typeface="Arial Black"/>
              </a:rPr>
              <a:t>And Here com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33920" y="2971800"/>
            <a:ext cx="167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/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8120" y="5029200"/>
            <a:ext cx="3429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07932" dir="18900000" blurRad="0" rotWithShape="0">
                    <a:srgbClr val="9999ff"/>
                  </a:outerShdw>
                </a:effectLst>
                <a:latin typeface="Arial Black"/>
              </a:rPr>
              <a:t>Best 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07932" dir="189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8-12-06T07:45:14Z</dcterms:modified>
  <cp:revision>30</cp:revision>
  <dc:subject/>
  <dc:title>Dia 1</dc:title>
</cp:coreProperties>
</file>