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5.jpeg" ContentType="image/jpeg"/>
  <Override PartName="/ppt/media/a-alley%20oop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AE7-C297-404B-A446-9E7AA283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91B-85CA-41D9-ABDB-176DAAD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3D5-4498-491D-B698-CB681CCE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C82-E7A3-43B8-8421-900E9155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08E74-30E2-42E8-9BDB-3E65637B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711AB-8789-452C-A211-7395729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33880-D22E-472A-8705-7CBA94B2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906C1-A0D8-4648-B5CB-8993D338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4CF9B-5DBD-4FB0-B4B1-44A8410C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A2E04-29E2-4B3A-BCF9-5C5E2DB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E6AC8-C6A8-409C-900C-5AB9FB90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E97-FE81-4188-9202-36B91B7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3A464-E51E-4EF5-BD49-C490B897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82DC-129E-4089-A953-2064C75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8054-18E4-462B-B26C-6BE852B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0F0B-813F-4217-BE50-EC0A6008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76330-4A0F-402E-AE68-05BF556D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E3F-37F2-457F-8305-5A1C875A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488-AC84-4537-81C6-6E221D89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8D9-551E-4C7C-8D27-5427964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D22-319E-498F-9D85-3F1ABA3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847-8726-4139-9631-5C1C55C8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82B-F5F2-4EEF-A7F7-8D895D3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2D1-F078-4A09-B9D8-8593B0D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62DF-A1AE-415F-BAAF-CCE27B837C0F}" type="slidenum"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D0E-6A7D-431F-9505-1EA4118C2DC1}" type="slidenum"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-alley%20oop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e3e3ff"/>
                </a:solidFill>
                <a:latin typeface="Arial"/>
              </a:rPr>
              <a:t>Blijven lache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Is gez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  <p:sndAc>
      <p:stSnd>
        <p:snd r:embed="rId1" name="a-alley%20oop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erfen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6880" y="1413000"/>
            <a:ext cx="539748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196920"/>
            <a:ext cx="7848720" cy="666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Vervelende situati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1422360"/>
            <a:ext cx="6769080" cy="521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Dokter met een pc verslav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09760" y="1484280"/>
            <a:ext cx="44229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185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723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e3ff"/>
                </a:solidFill>
                <a:latin typeface="Arial"/>
              </a:rPr>
              <a:t>Mozes eerste dag als badmeest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224680" cy="648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Foei, zuster Pascal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1640" y="1417680"/>
            <a:ext cx="705636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66600"/>
            <a:ext cx="734364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-7920"/>
            <a:ext cx="6912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0"/>
            <a:ext cx="6985080" cy="1125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Het blijft een raadsel hoe ze vroeger die zware ste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Konden verplaat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Chinees waterskie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522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Voor viagra was uitgevon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339920"/>
            <a:ext cx="6120000" cy="558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Muizen 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744560"/>
            <a:ext cx="914400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e3e3ff"/>
                </a:solidFill>
                <a:latin typeface="Arial"/>
              </a:rPr>
              <a:t>Fam.zak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42920" y="132228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32720" y="0"/>
            <a:ext cx="2411280" cy="2708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Verdekke onze pa 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Fles smaakt v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Beter dan de mij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68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3:48:07Z</dcterms:created>
  <dc:creator>ria</dc:creator>
  <dc:description/>
  <dc:language>en-US</dc:language>
  <cp:lastModifiedBy>Smets</cp:lastModifiedBy>
  <dcterms:modified xsi:type="dcterms:W3CDTF">2008-10-19T07:40:05Z</dcterms:modified>
  <cp:revision>5</cp:revision>
  <dc:subject/>
  <dc:title>Blijven lachen</dc:title>
</cp:coreProperties>
</file>