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15.jpeg" ContentType="image/jpeg"/>
  <Override PartName="/ppt/media/a-alley%20oop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B93-0BBC-413E-BF52-598527A9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604-AF37-416F-AFCE-FFFCAD07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7A2-903D-47E5-B724-6FBE06C2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072-A8FF-4780-B374-093E0335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C915F-0D2F-4FB0-BF36-2B6B28D3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534A0-A6F2-4BC5-8128-E92A92EC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F4786-EBCE-498C-9873-4F62FA22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6D7EB-D39B-46A4-A1EA-3535F700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4E351-0BF6-4553-BE42-8FBF2B6E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1C80D-EA44-45FC-9EE1-884E935E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47A4C-94C6-4484-BA03-1EFC5456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660A-88AB-40D5-8789-B5693636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D7E7B-2DA0-4C63-8A52-D892AB1F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62B83-FD81-4DF4-8BDF-3C4088FE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752BA-3B22-4EFE-976F-15F7AC27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72BA9-AA04-4B2C-B64B-AC90056C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148C7-E80E-492B-BBFC-ECF76646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546-948D-4701-8473-E711E9B3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AC0-7171-4832-9F07-2B1F9F69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71CA-2533-40E7-969D-B1B9A0F3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C81-4798-4B43-8517-081A1A62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0E1-4C62-4E12-9B99-78761F5D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A37-7584-4995-853C-4C168B22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52A-95E1-4254-94FA-9E6526F7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9519-4644-46F8-A06B-704BA0E9CE4F}" type="slidenum">
              <a:rPr b="0" lang="fr-B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E82A-DF66-481B-94DF-D0B4CD3E76A2}" type="slidenum">
              <a:rPr b="0" lang="fr-B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-alley%20oop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e3e3ff"/>
                </a:solidFill>
                <a:latin typeface="Arial"/>
              </a:rPr>
              <a:t>Blijven lache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Is gez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  <p:sndAc>
      <p:stSnd>
        <p:snd r:embed="rId1" name="a-alley%20oop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561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e3e3ff"/>
                </a:solidFill>
                <a:latin typeface="Arial"/>
              </a:rPr>
              <a:t>erfen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6880" y="1413000"/>
            <a:ext cx="5397480" cy="5445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196920"/>
            <a:ext cx="7848720" cy="66625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e3e3ff"/>
                </a:solidFill>
                <a:latin typeface="Arial"/>
              </a:rPr>
              <a:t>Vervelende situat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58920" y="1422360"/>
            <a:ext cx="6769080" cy="52164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e3e3ff"/>
                </a:solidFill>
                <a:latin typeface="Arial"/>
              </a:rPr>
              <a:t>Dokter met een pc verslav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09760" y="1484280"/>
            <a:ext cx="44229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185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723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e3e3ff"/>
                </a:solidFill>
                <a:latin typeface="Arial"/>
              </a:rPr>
              <a:t>Mozes eerste dag als badmeester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224680" cy="648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e3e3ff"/>
                </a:solidFill>
                <a:latin typeface="Arial"/>
              </a:rPr>
              <a:t>Foei, zuster Pascalin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1640" y="1417680"/>
            <a:ext cx="7056360" cy="54403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16000" y="66600"/>
            <a:ext cx="7343640" cy="68626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-7920"/>
            <a:ext cx="6912000" cy="6873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0"/>
            <a:ext cx="6985080" cy="1125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Het blijft een raadsel hoe ze vroeger die zware ste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Konden verplaat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e3e3ff"/>
                </a:solidFill>
                <a:latin typeface="Arial"/>
              </a:rPr>
              <a:t>Chinees waterskie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7993080" cy="522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205092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e3e3ff"/>
                </a:solidFill>
                <a:latin typeface="Arial"/>
              </a:rPr>
              <a:t>Voor viagra was uitgevond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360" y="1339920"/>
            <a:ext cx="6120000" cy="558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e3e3ff"/>
                </a:solidFill>
                <a:latin typeface="Arial"/>
              </a:rPr>
              <a:t>Muizen 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744560"/>
            <a:ext cx="9144000" cy="463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e3e3ff"/>
                </a:solidFill>
                <a:latin typeface="Arial"/>
              </a:rPr>
              <a:t>Fam.zak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42920" y="1322280"/>
            <a:ext cx="684216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732720" y="0"/>
            <a:ext cx="2411280" cy="2708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Verdekke onze pa 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Fles smaakt ve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Beter dan de mij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6307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68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5181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3:48:07Z</dcterms:created>
  <dc:creator>ria</dc:creator>
  <dc:description/>
  <dc:language>en-US</dc:language>
  <cp:lastModifiedBy>Smets</cp:lastModifiedBy>
  <dcterms:modified xsi:type="dcterms:W3CDTF">2008-10-19T07:40:05Z</dcterms:modified>
  <cp:revision>5</cp:revision>
  <dc:subject/>
  <dc:title>Blijven lachen</dc:title>
</cp:coreProperties>
</file>