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A47-4EF0-4A94-A3F6-91788901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340-F506-46F9-8F99-12D4CF16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A91-D158-4368-A15D-D84CB36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1B1-6AF8-467E-96FA-9738107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7C6-792E-4FB0-9D34-ECB086C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81F-86A5-4EB5-973F-2711E31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879-9F0D-4A63-9B56-C3941026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840-A17A-4F3B-B3BA-39C4A77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C1A-8450-4C0B-8616-369A400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867-967A-4181-A6B3-D12AC86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05D-2EBB-4B74-8036-4958A79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8DB-4EA1-476E-B5BF-845E527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18757-F2EA-4355-9CBA-E257D3F601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CAE82-BED6-4AE4-B5D2-405B56F0992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1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23:06Z</dcterms:created>
  <dc:creator>최봉수</dc:creator>
  <dc:description/>
  <dc:language>en-US</dc:language>
  <cp:lastModifiedBy>맛있다 군만두</cp:lastModifiedBy>
  <dcterms:modified xsi:type="dcterms:W3CDTF">2024-10-01T03:02:57Z</dcterms:modified>
  <cp:revision>5</cp:revision>
  <dc:subject/>
  <dc:title>슬라이드 1</dc:title>
</cp:coreProperties>
</file>