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293-5C5B-40B8-BFE2-9A893023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A3C-59FC-4431-A252-B5DC913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6F1-0D13-4910-B544-7FB6FE68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14A-9828-4EB2-9CC9-AE5FE862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503-9E13-474C-BC91-877303D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AAB-E6BD-4B7D-A12C-EF630C1C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417-0BD2-4BC1-888A-B8241A14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23F-CD9F-465F-98ED-061A7A97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C31-A5C5-4E9B-A1F1-74ABD5C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C0D-30FD-479C-894D-00CE7A9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D1D-8871-49E4-8430-D25AA23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7FF-3017-442E-A42D-9910EEAB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FF56F-703B-4C81-8E1B-8399689FB5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869A1-AC22-4473-8BA5-E81A0D35804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1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23:06Z</dcterms:created>
  <dc:creator>최봉수</dc:creator>
  <dc:description/>
  <dc:language>en-US</dc:language>
  <cp:lastModifiedBy>맛있다 군만두</cp:lastModifiedBy>
  <dcterms:modified xsi:type="dcterms:W3CDTF">2024-10-01T03:02:57Z</dcterms:modified>
  <cp:revision>5</cp:revision>
  <dc:subject/>
  <dc:title>슬라이드 1</dc:title>
</cp:coreProperties>
</file>