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gif" ContentType="image/gif"/>
  <Override PartName="/ppt/media/image1.jpeg" ContentType="image/jpeg"/>
  <Override PartName="/ppt/media/image3.jpeg" ContentType="image/jpeg"/>
  <Override PartName="/ppt/media/image4.jpeg" ContentType="image/jpeg"/>
  <Override PartName="/ppt/media/Heal%20the%20Soul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37B-37B6-440F-9CE5-670DB5F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822-CD29-407B-9251-1F0514E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DDD-3387-4390-9105-4E1E4742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41A-61FB-4A54-A8FA-63E20FE9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E5A-318C-436F-AF9C-F76D9D3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B7E-CEC5-41D1-BB7D-2959893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B99-01AB-4521-B508-0B926BA0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BB-9CA4-4464-BBC1-DC3922C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CEC-A75F-4150-8137-4EB8BD5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31D-0CB4-479E-962C-3D153A8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EDD-78C1-42C4-9471-0F9DE03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6B3-2644-442C-9723-61D72F8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D3F-3027-47ED-A491-8279E659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eal%20the%20Sou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52680" y="0"/>
            <a:ext cx="21337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PPS Spe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rouw met poes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38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enkend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4178160" cy="33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419076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ovenlichaam" descr=""/>
          <p:cNvPicPr/>
          <p:nvPr/>
        </p:nvPicPr>
        <p:blipFill>
          <a:blip r:embed="rId2"/>
          <a:stretch/>
        </p:blipFill>
        <p:spPr>
          <a:xfrm>
            <a:off x="2846520" y="685800"/>
            <a:ext cx="38653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iefde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944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Jong gezin" descr=""/>
          <p:cNvPicPr/>
          <p:nvPr/>
        </p:nvPicPr>
        <p:blipFill>
          <a:blip r:embed="rId2"/>
          <a:stretch/>
        </p:blipFill>
        <p:spPr>
          <a:xfrm>
            <a:off x="2179800" y="571680"/>
            <a:ext cx="46353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86200" y="3124080"/>
            <a:ext cx="21337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PS Spe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pperhoofd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0826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ude wijze ma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33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indje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049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ootmoeder leerd kindje naaie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33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ffer" descr=""/>
          <p:cNvPicPr/>
          <p:nvPr/>
        </p:nvPicPr>
        <p:blipFill>
          <a:blip r:embed="rId2"/>
          <a:stretch/>
        </p:blipFill>
        <p:spPr>
          <a:xfrm>
            <a:off x="3138480" y="838080"/>
            <a:ext cx="34275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ude avond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448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neeuw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3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06:04Z</dcterms:created>
  <dc:creator>speed</dc:creator>
  <dc:description/>
  <dc:language>en-US</dc:language>
  <cp:lastModifiedBy>Smets</cp:lastModifiedBy>
  <dcterms:modified xsi:type="dcterms:W3CDTF">2009-12-07T19:30:35Z</dcterms:modified>
  <cp:revision>4</cp:revision>
  <dc:subject/>
  <dc:title>PowerPoint-presentatie</dc:title>
</cp:coreProperties>
</file>