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3.gif" ContentType="image/gif"/>
  <Override PartName="/ppt/media/image1.jpeg" ContentType="image/jpeg"/>
  <Override PartName="/ppt/media/image3.jpeg" ContentType="image/jpeg"/>
  <Override PartName="/ppt/media/image4.jpeg" ContentType="image/jpeg"/>
  <Override PartName="/ppt/media/Heal%20the%20Soul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DF7-6F1A-4D50-9B91-5BE2A3EF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377-B699-425B-A508-E70AA1AC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F19-D100-4526-A245-011C541F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5BC-4D7F-44E4-9281-DBD17A0C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8ED-ABF5-457F-A957-2BBB5656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AB0-91A9-4C18-ACEC-E35055D5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C5B-3689-4268-B1A9-F291C7C5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264-245E-4FFF-9C6B-6A87ECA1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BAE-CF0B-46E0-8DF9-3BD3E042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06E-17A1-4C0B-88B9-A8F9C617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D49-E7E8-47F6-B56B-1928D6A9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BEE-1BAD-4EE1-A725-ACD489CF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4B31-3115-4499-96EE-D74F6AC8E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Heal%20the%20Sou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352680" y="0"/>
            <a:ext cx="213372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PPS Spe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Vrouw met poes" descr=""/>
          <p:cNvPicPr/>
          <p:nvPr/>
        </p:nvPicPr>
        <p:blipFill>
          <a:blip r:embed="rId2"/>
          <a:stretch/>
        </p:blipFill>
        <p:spPr>
          <a:xfrm>
            <a:off x="3124080" y="838080"/>
            <a:ext cx="343872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enkend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4178160" cy="330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4190760" cy="33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ovenlichaam" descr=""/>
          <p:cNvPicPr/>
          <p:nvPr/>
        </p:nvPicPr>
        <p:blipFill>
          <a:blip r:embed="rId2"/>
          <a:stretch/>
        </p:blipFill>
        <p:spPr>
          <a:xfrm>
            <a:off x="2846520" y="685800"/>
            <a:ext cx="38653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iefde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39448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Jong gezin" descr=""/>
          <p:cNvPicPr/>
          <p:nvPr/>
        </p:nvPicPr>
        <p:blipFill>
          <a:blip r:embed="rId2"/>
          <a:stretch/>
        </p:blipFill>
        <p:spPr>
          <a:xfrm>
            <a:off x="2179800" y="571680"/>
            <a:ext cx="463536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886200" y="3124080"/>
            <a:ext cx="213372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PS Spe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pperhoofd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208260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ude wijze man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21333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indje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210492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rootmoeder leerd kindje naaien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21333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ffer" descr=""/>
          <p:cNvPicPr/>
          <p:nvPr/>
        </p:nvPicPr>
        <p:blipFill>
          <a:blip r:embed="rId2"/>
          <a:stretch/>
        </p:blipFill>
        <p:spPr>
          <a:xfrm>
            <a:off x="3138480" y="838080"/>
            <a:ext cx="342756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oude avond" descr=""/>
          <p:cNvPicPr/>
          <p:nvPr/>
        </p:nvPicPr>
        <p:blipFill>
          <a:blip r:embed="rId2"/>
          <a:stretch/>
        </p:blipFill>
        <p:spPr>
          <a:xfrm>
            <a:off x="3124080" y="838080"/>
            <a:ext cx="34448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neeuw" descr=""/>
          <p:cNvPicPr/>
          <p:nvPr/>
        </p:nvPicPr>
        <p:blipFill>
          <a:blip r:embed="rId2"/>
          <a:stretch/>
        </p:blipFill>
        <p:spPr>
          <a:xfrm>
            <a:off x="3124080" y="838080"/>
            <a:ext cx="34308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13:06:04Z</dcterms:created>
  <dc:creator>speed</dc:creator>
  <dc:description/>
  <dc:language>en-US</dc:language>
  <cp:lastModifiedBy>Smets</cp:lastModifiedBy>
  <dcterms:modified xsi:type="dcterms:W3CDTF">2009-12-07T19:30:35Z</dcterms:modified>
  <cp:revision>4</cp:revision>
  <dc:subject/>
  <dc:title>PowerPoint-presentatie</dc:title>
</cp:coreProperties>
</file>