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69D-85B0-43FB-907D-E075B6F3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222-9DC8-4241-97FF-1AFDCA4D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E88-0336-4F3F-8024-851BCD65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CFB-DBE4-4D9D-A8D6-B814CC73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154-4874-48D1-AD0D-2013436B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4BE-4037-4AB6-82B9-0E68D57B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8406-BE87-4981-BD13-30F54D19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8C7-7303-4F8C-A741-48CDF310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4455-74D5-475A-9764-92AD0BD6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BAD-E5A0-455B-A648-A5230B53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391-FF54-4B6D-AF73-6B939425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416-83DB-4F8A-B8F6-F2C07FE8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0AFB-7FDE-4B86-AACB-4660889C295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5.xml"/><Relationship Id="rId5" Type="http://schemas.openxmlformats.org/officeDocument/2006/relationships/image" Target="../media/image7.jpeg"/><Relationship Id="rId6" Type="http://schemas.openxmlformats.org/officeDocument/2006/relationships/slide" Target="slide7.xml"/><Relationship Id="rId7" Type="http://schemas.openxmlformats.org/officeDocument/2006/relationships/image" Target="../media/image7.jpeg"/><Relationship Id="rId8" Type="http://schemas.openxmlformats.org/officeDocument/2006/relationships/slide" Target="slide8.xml"/><Relationship Id="rId9" Type="http://schemas.openxmlformats.org/officeDocument/2006/relationships/image" Target="../media/image8.jpeg"/><Relationship Id="rId10" Type="http://schemas.openxmlformats.org/officeDocument/2006/relationships/hyperlink" Target="file:///../../&#1601;&#1607;&#1585;&#1587;%20&#1575;&#1604;&#1578;&#1585;&#1575;&#1606;&#1610;&#1605;.pps" TargetMode="External"/><Relationship Id="rId11" Type="http://schemas.openxmlformats.org/officeDocument/2006/relationships/image" Target="../media/image8.jpeg"/><Relationship Id="rId12" Type="http://schemas.openxmlformats.org/officeDocument/2006/relationships/slide" Target="slide1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585360" y="1003320"/>
            <a:ext cx="100864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abic Transparent"/>
              </a:rPr>
              <a:t>سأعيش العمر كارزاً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0400" y="2122560"/>
            <a:ext cx="93337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شاهداً: حبُّك عجي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30520" y="3306600"/>
            <a:ext cx="601164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مكرَّساً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ازما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" y="4344840"/>
            <a:ext cx="944820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حتى الصلي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15200" y="1371600"/>
            <a:ext cx="73299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يا سيد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203400" y="2803680"/>
            <a:ext cx="9762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طول الطري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240920" y="4114800"/>
            <a:ext cx="11859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لو في رحب أو في ضي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7808760" y="555480"/>
            <a:ext cx="109872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94200" y="698400"/>
            <a:ext cx="424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765360" y="855720"/>
            <a:ext cx="107193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عـيـنـي نـحــو الجلجث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671760" y="1969920"/>
            <a:ext cx="108334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تراقب شخص الحبي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594720" y="3198960"/>
            <a:ext cx="10797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ف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مسيرة مقدس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240" y="4344840"/>
            <a:ext cx="944820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حتى الصلي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30960" y="1371600"/>
            <a:ext cx="73299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يا سيد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287640" y="2803680"/>
            <a:ext cx="9762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طول الطري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278720" y="4114800"/>
            <a:ext cx="11859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لو في رحب أو في ضي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393920" y="1009800"/>
            <a:ext cx="114415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رجائي ليس فـي الحياة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404640" y="2193840"/>
            <a:ext cx="9771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القلب انتخبك نصي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831600" y="3319560"/>
            <a:ext cx="108928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فأنت حصني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الأما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81360" y="4465800"/>
            <a:ext cx="97178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حتى الصلي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30960" y="1371600"/>
            <a:ext cx="73299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يا سيد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287640" y="2803680"/>
            <a:ext cx="9762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طول الطري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324800" y="4114800"/>
            <a:ext cx="11859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لو في رحب أو في ضي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918360" y="1195560"/>
            <a:ext cx="108424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خِـلي حبيبـي لا سـوا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493200" y="2309760"/>
            <a:ext cx="10329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خدمك حتى المشي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452520" y="3379680"/>
            <a:ext cx="105638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فوق أشواك الحيا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51120" y="4575240"/>
            <a:ext cx="944820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حتى الصلي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30960" y="1371600"/>
            <a:ext cx="73299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يا سيد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287640" y="2803680"/>
            <a:ext cx="9762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أتبعك طول الطري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316880" y="4114800"/>
            <a:ext cx="118591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لو في رحب أو في ضي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4917960" y="1413000"/>
            <a:ext cx="41911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عيني نحو الجلجث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4" action="ppaction://hlinksldjump"/>
          </p:cNvPr>
          <p:cNvSpPr/>
          <p:nvPr/>
        </p:nvSpPr>
        <p:spPr>
          <a:xfrm>
            <a:off x="4917960" y="2433600"/>
            <a:ext cx="419112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رجائي ليس ف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6" action="ppaction://hlinksldjump"/>
          </p:cNvPr>
          <p:cNvSpPr/>
          <p:nvPr/>
        </p:nvSpPr>
        <p:spPr>
          <a:xfrm>
            <a:off x="4917960" y="3441600"/>
            <a:ext cx="419112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خلي حبيبي لا سو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8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أتبعك يا سيد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92">
            <a:hlinkClick r:id="rId10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2" action="ppaction://hlinksldjump"/>
          </p:cNvPr>
          <p:cNvSpPr/>
          <p:nvPr/>
        </p:nvSpPr>
        <p:spPr>
          <a:xfrm>
            <a:off x="4917960" y="417600"/>
            <a:ext cx="4191120" cy="707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سأعيش العمر كارز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3:28:45Z</dcterms:created>
  <dc:creator/>
  <dc:description/>
  <dc:language>en-US</dc:language>
  <cp:lastModifiedBy>Sp2</cp:lastModifiedBy>
  <dcterms:modified xsi:type="dcterms:W3CDTF">2008-11-23T00:13:27Z</dcterms:modified>
  <cp:revision>52</cp:revision>
  <dc:subject/>
  <dc:title>PowerPoint Presentation</dc:title>
</cp:coreProperties>
</file>