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93D-5678-40D1-BD61-B0B13FA5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081-6610-4039-8083-38B039B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40B-471A-46F4-A112-D6C2AF91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B57-3FEC-415C-BDEF-3F7DCEF2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719-0CF2-4749-BEFC-EED176B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972-7AB7-4500-B2D1-97EB5A3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4D7-56E6-42EB-AFA3-02E8958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82A-09CF-4397-984E-187B911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12B-6F47-4F9B-9D4C-26CB1D6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CF0-927C-4103-9A9F-21734A9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EB8-FF01-44F5-B92C-CE19184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344-81A3-4874-A06B-D6F29981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E987-8A95-473F-A66D-5B36D4A033D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585360" y="1003320"/>
            <a:ext cx="10086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abic Transparent"/>
              </a:rPr>
              <a:t>سأعيش العمر كارزاً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400" y="2122560"/>
            <a:ext cx="9333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شاهداً: حبُّك عج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0520" y="3306600"/>
            <a:ext cx="60116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مكرَّساً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زم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" y="43448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1520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20340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24092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765360" y="855720"/>
            <a:ext cx="107193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ـيـنـي نـحــو الجلجث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671760" y="1969920"/>
            <a:ext cx="10833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تراقب شخص الحب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94720" y="3198960"/>
            <a:ext cx="10797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مسيرة مقدس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240" y="43448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27872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393920" y="1009800"/>
            <a:ext cx="114415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رجائي ليس فـي الحياة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04640" y="2193840"/>
            <a:ext cx="9771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قلب انتخبك نص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831600" y="3319560"/>
            <a:ext cx="108928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فأنت حصني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أم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81360" y="4465800"/>
            <a:ext cx="9717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32480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918360" y="1195560"/>
            <a:ext cx="10842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خِـلي حبيبـي لا سـو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493200" y="2309760"/>
            <a:ext cx="1032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خدمك حتى المش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452520" y="3379680"/>
            <a:ext cx="10563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وق أشواك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51120" y="45752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31688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4917960" y="1413000"/>
            <a:ext cx="41911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عيني نحو الجلجث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4917960" y="2433600"/>
            <a:ext cx="41911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جائي ليس ف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4917960" y="3441600"/>
            <a:ext cx="419112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خلي حبيبي لا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تبعك يا سيد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2" action="ppaction://hlinksldjump"/>
          </p:cNvPr>
          <p:cNvSpPr/>
          <p:nvPr/>
        </p:nvSpPr>
        <p:spPr>
          <a:xfrm>
            <a:off x="4917960" y="417600"/>
            <a:ext cx="419112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سأعيش العمر كارز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1-23T00:13:27Z</dcterms:modified>
  <cp:revision>52</cp:revision>
  <dc:subject/>
  <dc:title>PowerPoint Presentation</dc:title>
</cp:coreProperties>
</file>