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5.png" ContentType="image/png"/>
  <Override PartName="/ppt/media/image1.gif" ContentType="image/gi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9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C36-A8CE-4AF0-820B-255B09A7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CDA-9F64-48CB-A710-8774602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96F9-831F-488B-8890-3290492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E59DC-F267-4881-AEEA-8CD2EE23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DAAAF-633C-4002-9D6A-60A7F3F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6C68F-6394-40C8-8656-F9D0112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1E66-6E93-4F1F-9A1D-FC9BA29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6EF4A-D44A-4794-9D90-81F1EEF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0938-A91A-4DAB-9CA6-7EC6EE1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A62F-A493-4120-BC94-17C4B85B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FE25-4C93-4279-9C49-2B943661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E3D47-D503-438F-9A97-25026FDE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AA9-9146-4767-945C-38622888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8B971-9686-439B-9332-57FF1BBF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0D8FC-CE4A-4B50-9B1B-83FCBE6E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F0DE2-E63B-45E8-81BB-8F96215A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4BAF0-2C34-4B2E-8D35-C0E3A3D8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B322E-7CFB-41AB-BED2-C588148A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E7980-4F09-429A-88E0-BCB30E8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C2F69-16C4-410B-A2C0-E0A46834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00DA1-3538-409E-BC60-3CF85AC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D81AE-3D56-45CE-9037-565229D7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3F07E-8D20-40BB-8A0E-EDFA75A5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888-3BED-4DB6-AE88-71329834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F65E8-475F-4647-83A5-B159CC79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91FC1-05A0-479F-A476-5ABFA240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4E5AE-8AF7-4B0F-BA26-9D8DBAFD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9AD14-83D3-4A1F-8B9F-F60B6E91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2C18B-516A-473B-BF0E-63EF21A9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2ECD5-DF92-4D43-AA12-DE165441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7A7F8-CC96-40C3-8EE7-5B364A93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EC5F8-5623-48EB-A53D-46F2EDC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2491C-97C6-4437-B070-0032D48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6BAF0-BE89-4DD4-A2D2-E0BD3EC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FC9F-3AF7-452E-81B8-3086F513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5BBAD-759A-45DA-9585-DAFDF571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A4C94-51D0-4855-BBFF-E30CC441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059CB-D935-46DA-8BFF-5239729F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9F225-D613-4AE2-9102-50146361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45430-6178-45EC-B921-5043D8F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0CE47-51DA-4FEE-9FD2-4C380B7D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A8057-474C-4DFF-BFB0-DAC2CFCF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0B5B6-EEEB-468D-8308-43B27941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5E99-2190-4519-BAE3-47291C70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7D027-26E7-418C-BFD8-3D7A9822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39DC-E46E-4957-AC40-96A3DFF4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41287-5827-4BBB-8DE5-0930C0AA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F099C-55E3-4CF5-BB93-D2FB965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D3921-F37F-4AFA-AE83-5C3E53F3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B02D9-C253-4E55-9C28-0CA7E301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886B8-A4C1-4B61-BFDD-332B2A79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3940B-20E1-4D98-964B-16BA56AC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D010D-0965-4480-935B-5C4C7EA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6D6B9-B2EB-400E-9B17-32C38E59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79AB5-4070-4B64-A60D-67F5304C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6E3A3-09F5-4DD2-80CA-372C7398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EB5-CD3C-4EFF-9AC6-C9FC56F7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B646C-532E-4802-B72D-3B87E77F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27155-AE78-4EB2-B882-6C7C9809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144B2-30BC-49D7-BCB5-405F4E3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34384-312D-41DB-AD70-DFAE6A9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4299B-3CAF-4871-9E33-496D8C8F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25793-EC98-4FE8-BB65-D33043C4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FAECA-9115-47AF-8DF5-A71834C7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7ABC8-BA7F-400B-8C76-3643345C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FFB8D-4EDE-4CAA-B126-1DEFAB2D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C20E4-E533-4FA7-8514-EA73FF1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B2E-86FD-488B-B9C5-C37BEC7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9798F-D2AE-44A9-BCAA-7B6AF61A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B6FAD-85FD-4D79-99F4-E0CE67E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F3BBA-C025-49DE-A69D-A922C78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5DD36-F16C-4618-8240-6051E98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A4418-47B6-47AC-8E0E-BB9EF3E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E49CD-A87C-4E73-BC93-4C40FD54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41329-9879-4282-BE09-E8469E45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904B2-33B5-4F90-9B73-9EE5099A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14F1E-3545-4B1D-AC63-003820E3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80971-5E3A-4235-BD7A-E93F2E17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352F-E94E-452F-B206-04DA95F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6245B-1A1A-42F4-9660-E1D9A6C6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4043D-A9D3-41EF-920F-65F6256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DB55B-D4B6-472B-85B7-AECD1A0A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D3E0F-610F-450F-8E1F-1A321551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36C69-663D-45FB-B098-1328B02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ED2BC-F99B-4CDF-A593-F928BDC8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5BD4D-D9B4-45D2-95EE-1A128AD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B0DFB-EF16-4968-852B-C04F8E91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FE364-5BF7-4520-ABA3-2A655F3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94934-914B-430A-B48D-7109DD03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063F-F16E-474F-BF1B-23B8DAE3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E0D84-7074-436D-A87F-A676BD38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2D96B-57CE-45BC-9EE9-B158CF76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CA61E-C8D0-4AC5-AD48-005B2D34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61C25-C905-4754-907F-E1754DC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AA0C2-505A-48FF-B8B5-0461719A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CF642-98EA-4E70-9BB9-B50F17B1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A5EAB-3255-47B5-9AC7-5D3C2362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47AE9-4B1F-4800-9161-24D4A5C3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422EB-121E-446E-A39E-F7B9F63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6D0AD-0EA0-438A-B3D2-A35B9F64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4BA-4A63-41AC-9DAE-B6B8237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22B9D-0C9C-41A6-BF38-A0F9B1FF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ADCF8-6A80-44AD-AEAD-E39BAA32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7A00A-AC57-4F61-A2D4-3697B199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CDA94-DE5A-4AFB-B5D3-33D37E1B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9C21B-C56D-4CF1-A93A-595C132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B3743A-09DF-430C-842F-AA346786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631BE-72FD-4EE8-8DFB-8E3F5A4A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D8F83-898A-41C1-8148-B4F485DA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24C90-FF20-487F-8E45-1843DED7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67023-0D75-4824-A3F5-937FC86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28D-0EAB-4D97-8B87-CEDE64E8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1868-3CA6-4908-9C6E-22AADB0C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3A140-3C19-4662-9D46-98D9927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5A294-07A0-477D-A348-63811A7F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676B3-EFA4-45E8-B28C-37CFB843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2B838-5D70-405D-BF00-D9B52DE6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D4C96-318C-4905-B7B6-D5F0E1F2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71E1F-5700-4CE0-A02D-BF193223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C91B5-197C-4668-AA15-C433A092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ED0B0-C293-4AEE-8A06-AD8C71D8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221CB-1A46-43DD-8F28-A5D24515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AD72C-3C06-49EE-9AB1-44DF7A6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368-3729-4082-B025-2EAF2D4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6B8BE-F749-46B1-A937-D6A46FCD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0956E-4FFC-4172-BA83-0898CB5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6A535-7D0B-45DC-B6BC-80675752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8B31D-25BA-4557-9E0C-40F0CBF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36D14-F7B8-44A7-A61B-F7E222F5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8A47A-65A7-4566-B5BE-DE30E6C8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C7770-F90B-45F3-8F1F-C29816F7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B7EF0-2E58-44D9-B154-65443A10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66470-A115-469F-8A94-CF4EB271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67CFC-6F87-407A-8150-5EE53D9E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F8E9-AE40-4D54-9322-DC627BD7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E04011-1E41-4234-B48D-DD1ECE3E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B2413-9D58-40F1-BBB8-49787574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A9BE13-CD58-4FA6-9175-FA94001D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8BB70-AC01-4333-A8C1-F1BB177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3F05D-65CC-4DDA-A008-126CF0C5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91567-F979-486E-91D1-09F9FC1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2D0C83-B859-4676-A442-ABA0C51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1EF31-8B2E-4034-912D-2AEB47F6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C3F68-F47B-449F-8B42-4FD4C23E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D4E30-B36E-4D69-877B-255005E3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3302-E2D4-41D8-9CE4-3BF9B61F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C60B5E-00DC-4D22-AF42-E1FA6C29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C57C8C-10E9-4FBB-96E9-A826ED1A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6C49B-1E86-4DEA-B8F3-AC6F16BC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146CD-FACB-4CEF-9C9A-D21C8845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62121-AF5B-4A84-A5A8-FACE5730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50836-CE65-4EFE-97A6-77F0ADC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484E1-8F08-43D3-B2D9-8AD6710C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6B722-9AEC-4E37-8094-4B70BE6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BB568-C563-49BA-9984-3F1D156C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48B33-D5B1-4399-8983-F92AE10C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9C20-3C63-4D39-AFED-EDD3A351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7A1A80-1974-4009-8484-96507860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593670-3A48-4AB5-A926-66BBFF80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164E8-E5B9-45C0-9D40-3EB65877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9D950-80F2-40B3-853A-9218BE5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4F8EB9-0753-4F38-95AB-DD5628FD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2838D-453F-455B-B897-BF1EB99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D6829-DB5D-4E74-9679-A2EAF4BB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34657-AC30-4DC6-A76D-D79C5C17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03107-281B-4758-BE25-616FE3E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9504D-2CC0-4DE3-B18D-E195823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D5CC-DF64-4512-B996-2F940079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4E68A-39CA-4A69-9F1D-1193FB0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26CBC-FB8A-4AB1-9D9A-85EC3959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0B26F-368A-47A2-9FA9-C2723AAC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D2939-E9BB-431B-A5D5-B4102B4D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FDB20-ACB7-4DAC-85BA-B75BF4E1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8FDCA-3170-44D3-AC19-16722446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E031A-8A2D-4E02-8C80-551A4D39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67B3D-5CF9-4F17-9B0F-8B92E51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E53987-00BB-414E-8E59-C842A74C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2F45D-7F20-4F3C-B5EA-ADAFDE8B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F0B3-357D-4AAE-AA09-3854D132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80C0B-DEF8-410E-AEC0-6FE4B9E1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6037B-F4CA-42BB-B919-5445FFA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9CCD5-AD39-4C99-B358-464CC7DA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80CB9-D994-41FE-A42D-7EB8DD35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5EAA5-9656-4E93-94DA-07D10FDB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D0D83B-347B-4CDF-9D8D-F3E49B4F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2D152D-8137-4475-8361-BF1D5639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BA6EF1-CC95-4646-B3E7-0112E12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8A615C-16AE-4426-B99E-0EF4AA9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E82D79-1F3D-4CB8-BE02-FA82F3E2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C690-EFB6-4575-B8AC-C83704F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0DAC80-9B4C-4549-B6CE-02AA51B1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456F7-9FD3-4FD4-96E4-723CE9A7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9FE2C0-AAF8-4A65-B945-859B361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12A6AF-D161-4415-A22D-8C37DB9A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F056EA-53A1-45D8-9C49-6F6A3379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DFFD33-AB5E-4E51-A4CA-1932ED29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01533F-05B5-4A39-B767-FB164BBF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99CF42-731C-41CD-922F-C8D3D331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4D286-C3B2-4D12-AE65-17AF7948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EAD3C-DF18-4989-9243-86241B30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437F-426E-4C82-8483-76206DB7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6F812-4770-46BC-BB89-9232EA6B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C8B49C-0E32-4A4C-AE09-F26EA9F0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62129C-5488-47B1-8449-923134E2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59A2FC-A380-4314-B2E7-6D481171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73B124-AF2A-404F-9344-99BCB7C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5D878-DB94-487D-9713-CDC0E1B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25909B-06CD-4204-81F5-CC419EDF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2A0ADB-1E37-427A-91D1-D32A7112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903E4A-83AE-4044-A726-729D57BD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BF88F1-6069-4EE2-83E0-BA234DF8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5D54-C12C-44FC-B43D-2B9C0C67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A07EDE-D965-47A6-B9E8-5BD0D519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E83B58-4A88-4015-9BC6-2A0CDA6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3A2833-651A-4533-A18C-5E36807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C84D3-87D6-47D1-89AD-9BC3E21B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10969F-BF02-4723-BB5B-8B204EA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BE9AC7-39BC-42B3-9B76-3CC2E841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FE589C-369F-4EDB-8476-FE1471C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6DB8AF-4E61-4341-8F8D-0ACBBF9A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9BE38B-1944-4CFC-8957-636500AA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5046CC-A033-4698-B574-B127A204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DCB-814B-40FB-979C-9271FDD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7E03-6A98-4CD6-BA87-08E3E7FE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CB768-8571-4481-B856-F16FBAE5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86A6C7-137D-49FD-9B15-B502F1CB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251BA2-03FF-4D22-8E87-D453C0AD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06DE81-15E8-428C-B309-E9EE2702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4F6C54-9967-436D-BAE2-1A34959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686F47-4692-4C13-AF04-BBDD9949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5AB88C-17D2-463B-A88F-19EB5AF0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93385E-5C98-4A0D-8D8D-EC093AC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DE7EF5-A478-4DCC-95AF-1603B369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1EA99B-E36D-4D82-BABE-B6F02C3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BA78-2987-426B-9B20-67861E89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0419B9-A419-4DF5-BA3A-91D2C2C2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9E537D-8E77-4FE7-81B1-E6D50DCF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59D494-2C6F-4602-B8D1-7DA9A84D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F6EBEB-BFE3-45FC-BD48-FA4E2E93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55C16B-DAD3-4B4E-9E91-F76516D2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A01C7C-73EF-4311-8B87-2DE14B9E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3611C3-6374-4C73-95B0-B9373288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CB1D91-AD8E-4915-943E-3B3FCDD2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A354F-0A8A-448A-A1D6-9E37794B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1DC6FF-D37A-4C2C-BEB0-6DA5B07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D9AA-9B17-4E5A-BF21-7504A746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BC175D-3017-482C-8E1D-1EB2E3B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2A4AEF-CF92-4034-AF50-403CE7E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59E9B3-177C-4BC3-AA3B-EBC5A1E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9DCB29-3873-4A30-81C8-3A462897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54A1D-9C85-410D-8C67-52BB9525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4C39D0-4BCE-4A23-A1D6-B2A2C929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E42101-5FEB-4848-A0CA-DAEBFA1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395790-4BB1-4182-911E-79796EE0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1CADBF-EC01-487E-A20F-F707339E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996D5E-2389-475D-99C3-A73768F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1178-AA5A-4CDC-9313-3F2C662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331B31-5149-464D-8B4C-86A7E722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D2B53D-BC61-42C0-B95A-8D859B10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6B20E6-0DD0-487B-AEBA-F89DB87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2B47E2-BCCE-4F74-BD64-E310F55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CFF10D-83A8-479B-BB2D-B2F5370C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DE5B29-83A9-4773-93D0-3DED64A0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5B5E29-D89E-4CFE-B0B7-2B6638CC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007014-E993-40DC-8B5B-74A81311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BB1BC3-C671-4C57-A3D8-198C662D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1FD910-597A-4775-B9DB-5FA4CF1C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136A-9FB8-4FB0-B37D-B39C5AA3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A820FF-3977-4C2A-9BFC-7B49F4DC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301F14-F9EB-4CF8-B7F1-0462181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B29C58-DB45-4A90-ACA5-E657FD44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6AED83-8C8D-4272-AB09-9A96FDBA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F380A8-B8F8-42D3-9A27-A4D64DCD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2C05AD-1F48-4E5B-932F-56B773CA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F558A8-3F3E-48B8-A4CA-DC15B04D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E24C99-00FF-4A81-BB26-682D0FF4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4D6668-0D6B-4D45-9995-F71B165B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B733-266C-42DC-B0E1-82DABB21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7A48-AB3D-4DFE-B011-385DB042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389E7-AC42-4B3B-9EA7-0AF35B5F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63B18-EF4B-4DE6-874E-5A0140C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D2A81-D899-423E-A185-F1D81725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866-8B9A-4F48-BBA4-825674A3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7F101-A499-4E84-BA62-692C8311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8B44EE-CF4A-4E1A-8D9F-6EF14B2D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69E8E-F98F-420A-9BEA-8F16A8FC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806E8-E862-420B-949D-FAC9DBD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35A0B9-8216-4DF6-B71D-D19474BC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F1D5C-E133-4015-971F-B0FE1BBD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23A7C-7574-40FE-A59A-B0EB7CA4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16C2D-BE8B-42FA-8EDD-9AF9470E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41A48-8871-406D-9202-918C4ECB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13DF-5A5A-4B6F-A992-9E6E0FF5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EF6-6EAA-435D-87AE-4D2D10F3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494B3-5925-443D-B401-2CA914E9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F782-E859-4BC1-905C-DF060B79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88ACE-A00B-423E-8C1C-78A5F408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023D1-048E-4DCC-A2AC-6DCA357D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7143C-1EAC-4CAC-A797-83FFA4B8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9EFF-4942-4BCD-81C5-F108BAC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31C9-022C-47DD-8CDB-A30FA4E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5CBB3-968A-49FB-AF24-9BD83363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93ED0-2C7F-4F88-A3B7-36964ED1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17451-75B6-4F25-B239-E78AC9D0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171-02FC-4506-9E12-F1EEA551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FD08-93D0-4382-9137-ACC362C2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D4A8-2839-4A48-9D9B-A367201B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48B5F-D1C0-4AB9-82C1-6A0ADC0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B669-670C-4043-9001-AD81840C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8FF2-F9E2-43BE-84C2-01EEBFF7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44DA-F96A-4923-AA3D-DF60E1DA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83EC2-7157-4936-9D39-EC9A7048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36B9C-FC07-444D-A6A9-8B3F013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4BB47-BAC1-418D-B85A-07E08CA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37F78-70AF-44B6-960B-E158059C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906-4640-4743-8C30-31F7443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07CB0-A2A0-4BF8-AA65-54C7C16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CB906-277B-4DAE-954F-10D054A6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957C-BDAC-4CE1-9E35-DB272F6E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EDF-235B-464C-A471-1BEE710E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7242C-B3BD-499F-9BBC-C9C4122F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212E-71CB-4385-9859-A5168CA5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DB2A0-4567-4437-B8F8-DE30F15A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D3E3-2556-4D95-958F-22A08A3C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79897-010B-4940-B68C-B1A7C484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9BB-E1C1-4A60-8E04-D69C9149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613E-79E6-4820-A8E7-3E661E0F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48B5-5807-4524-B27C-10892C3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BA1A-FC7A-4A2D-8536-746331A5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2324-00B0-41BD-BD05-5BBB238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9F2C-3DC7-4F71-88F9-BAF49DFE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965AF-3BBF-49B9-8FD0-FAC9160C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A5A3F-E9BE-4E0C-BCF6-40F5546B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D06E2-6D64-4FC0-9111-19814E89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68B4F-D95D-4F61-B1D3-7637367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372E0-DFD9-45E9-BC1A-0169A650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CDFE-E1CF-4C23-AF02-51E90A81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0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290-7752-4F4D-B6CE-BBC42DE90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FC3-626A-4E08-8FE9-FEFCE5720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6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5CE-C36C-4385-B8EC-C23F21D630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7E7-3652-4DE0-9219-0DEB1830DE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A0DC-9705-49C0-BB9D-D06866CE0E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0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45EC-2B36-4D49-A13C-A0C8E950DC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6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E2B1-5D0A-4DCD-8FAC-A9FD76B46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1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A8C7-1736-423F-91E7-0302B73F3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16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4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16EE-6E3D-486C-811D-9489678FA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dt" idx="5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23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26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26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83" name="PlaceHolder 3"/>
          <p:cNvSpPr>
            <a:spLocks noGrp="1"/>
          </p:cNvSpPr>
          <p:nvPr>
            <p:ph type="ftr" idx="5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sldNum" idx="5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E146-4385-4227-A8D7-A3F8DE97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CA43-0691-40F1-B06E-C34F460D4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2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7736-E38E-408E-9800-D50829A488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6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368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8004-9D49-4F5B-913C-E52049B09A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0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6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6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4D4A-2C1F-412F-8178-25FE48E93D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8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dt" idx="6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ftr" idx="6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sldNum" idx="6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EF98-C993-4454-A009-499F77C58E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560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561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563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67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568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569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570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33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71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572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3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4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5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6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7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8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9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0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1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2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3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4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5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6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7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8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9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0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1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2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3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4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5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6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7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8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9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0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1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2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3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4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5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6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7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08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09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0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1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2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3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4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5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6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7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8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9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20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621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2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3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4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5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6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7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8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9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0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1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2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3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4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5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6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7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8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9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0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1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2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3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6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7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8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9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0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2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3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4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5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6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657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658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60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661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70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71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677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78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83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EECA-2FD7-4B6A-B32B-72B8D70C39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4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725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728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2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34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3366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36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37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8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9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0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1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2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3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4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5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6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7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8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9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0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1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2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3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4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5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6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7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8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9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0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1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2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3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4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5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6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7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8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9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0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1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2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73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774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5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6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7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8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9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0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1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2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3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4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5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33669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786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7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8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9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0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1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2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3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4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5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6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7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8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9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0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1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2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3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4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5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6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7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8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9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0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1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2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3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4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5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6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7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8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3366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22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23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825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35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836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843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3A38-5125-496F-BD36-C84147DD34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889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8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AFF-1B0A-4812-86B0-1A32AB9F41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5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36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A777-94EC-484D-989F-00C445EDD9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8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6295-208B-40CA-9E74-26414E5758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04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A15-CA22-46E8-9A9F-1A440E929E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711E-897A-4FAF-A708-D8484B04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Num" idx="10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0679-BC86-4BFD-BE68-69AB3858D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dt" idx="12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26A4-D294-4DE3-9BD9-4F00D52B4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92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285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65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661E-DFF3-4B68-8E9E-DA73C2D43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475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9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542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545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EDD9-EA18-4977-9855-A18FB8ADC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6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C1EA-DACF-4329-B06B-F1E0BB0A5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3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/>
          <p:nvPr/>
        </p:nvSpPr>
        <p:spPr>
          <a:xfrm>
            <a:off x="1981080" y="380880"/>
            <a:ext cx="2895840" cy="914400"/>
          </a:xfrm>
          <a:custGeom>
            <a:avLst/>
            <a:gdLst>
              <a:gd name="textAreaLeft" fmla="*/ 571320 w 2895840"/>
              <a:gd name="textAreaRight" fmla="*/ 2324520 w 289584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288" y="0"/>
                </a:lnTo>
                <a:arcTo wR="675" hR="675" stAng="16200000" swAng="5400000"/>
                <a:lnTo>
                  <a:pt x="6963" y="2700"/>
                </a:lnTo>
                <a:lnTo>
                  <a:pt x="14637" y="2700"/>
                </a:lnTo>
                <a:lnTo>
                  <a:pt x="14637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7337" y="18900"/>
                </a:lnTo>
                <a:lnTo>
                  <a:pt x="17337" y="20925"/>
                </a:lnTo>
                <a:arcTo wR="675" hR="675" stAng="0" swAng="5400000"/>
                <a:lnTo>
                  <a:pt x="4938" y="21600"/>
                </a:lnTo>
                <a:arcTo wR="675" hR="675" stAng="5400000" swAng="5400000"/>
                <a:lnTo>
                  <a:pt x="4263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963" y="675"/>
                </a:moveTo>
                <a:arcTo wR="675" hR="675" stAng="0" swAng="5400000"/>
                <a:lnTo>
                  <a:pt x="4938" y="1350"/>
                </a:lnTo>
                <a:arcTo wR="675" hR="675" stAng="16200000" swAng="-5400000"/>
                <a:arcTo wR="675" hR="675" stAng="10800000" swAng="-5400000"/>
                <a:lnTo>
                  <a:pt x="6963" y="2700"/>
                </a:lnTo>
              </a:path>
              <a:path fill="none" w="21600" h="21600">
                <a:moveTo>
                  <a:pt x="14637" y="675"/>
                </a:moveTo>
                <a:arcTo wR="675" hR="675" stAng="10800000" swAng="-5400000"/>
                <a:lnTo>
                  <a:pt x="16662" y="1350"/>
                </a:lnTo>
                <a:arcTo wR="675" hR="675" stAng="16200000" swAng="5400000"/>
                <a:arcTo wR="675" hR="675" stAng="0" swAng="5400000"/>
                <a:lnTo>
                  <a:pt x="14637" y="2700"/>
                </a:lnTo>
              </a:path>
              <a:path fill="none" w="21600" h="21600">
                <a:moveTo>
                  <a:pt x="4263" y="2025"/>
                </a:moveTo>
                <a:lnTo>
                  <a:pt x="4263" y="18900"/>
                </a:lnTo>
              </a:path>
              <a:path fill="none" w="21600" h="21600">
                <a:moveTo>
                  <a:pt x="17337" y="2025"/>
                </a:moveTo>
                <a:lnTo>
                  <a:pt x="17337" y="189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2743200" y="533520"/>
            <a:ext cx="1550880" cy="63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1142640" y="2666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KONFLIK DAN INTEGRASI SOS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DAMPAK SEBUAH KONFLIK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447920" y="1752480"/>
            <a:ext cx="6248160" cy="457200"/>
          </a:xfrm>
          <a:prstGeom prst="rect">
            <a:avLst/>
          </a:prstGeom>
          <a:solidFill>
            <a:srgbClr val="3333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d6"/>
                </a:solidFill>
                <a:latin typeface="Times New Roman"/>
              </a:rPr>
              <a:t>KONFLIK ADALAH SUATU HAL YANG WAJAR DALAM MASYARAK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d6"/>
                </a:solidFill>
                <a:latin typeface="Times New Roman"/>
              </a:rPr>
              <a:t>(LEWIS A. COSER)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581280" y="3276720"/>
            <a:ext cx="1981440" cy="2286000"/>
          </a:xfrm>
          <a:custGeom>
            <a:avLst/>
            <a:gdLst>
              <a:gd name="textAreaLeft" fmla="*/ 495360 w 1981440"/>
              <a:gd name="textAreaRight" fmla="*/ 1486080 w 19814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ed6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176"/>
                </a:solidFill>
                <a:latin typeface="Times New Roman"/>
              </a:rPr>
              <a:t>DAMPAK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176"/>
                </a:solidFill>
                <a:latin typeface="Times New Roman"/>
              </a:rPr>
              <a:t>SEBUAH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176"/>
                </a:solidFill>
                <a:latin typeface="Times New Roman"/>
              </a:rPr>
              <a:t>KONFLIK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152280" y="3048120"/>
            <a:ext cx="3505320" cy="3047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fe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EGI POSITIF: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mperjelas aspek kehidup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Penyesuaian kembali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ingkatkan solidaritas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gurangi ketergantung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ghidupkan norma lama d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Menciptakan norma baru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6. Sarana mencapai keseimbang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7. Kompromi baru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334120" y="3200400"/>
            <a:ext cx="3504960" cy="28954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fed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EGI NEGATI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Keretakan hubung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Kerusakan harta benda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dan nyawa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3. Berubahnya kepribadian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4. Munculnya dominasi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Times New Roman"/>
              </a:rPr>
              <a:t>kelompok pemenang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440" y="895320"/>
            <a:ext cx="62499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KONFLIK DAN KEKERASA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304920" y="1676520"/>
            <a:ext cx="8305560" cy="4267080"/>
            <a:chOff x="304920" y="1676520"/>
            <a:chExt cx="8305560" cy="4267080"/>
          </a:xfrm>
        </p:grpSpPr>
        <p:sp>
          <p:nvSpPr>
            <p:cNvPr id="2196" name=""/>
            <p:cNvSpPr/>
            <p:nvPr/>
          </p:nvSpPr>
          <p:spPr>
            <a:xfrm>
              <a:off x="2057400" y="1752480"/>
              <a:ext cx="464832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diartikan perbuatan yang menyebabkan cedera atau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matinya orang lain atau menyebabkan kerusakan fis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(Kamus Besar Bahasa Indonesi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04920" y="1676520"/>
              <a:ext cx="12952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Langsu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292929"/>
                  </a:solidFill>
                  <a:latin typeface="Times New Roman"/>
                </a:rPr>
                <a:t>direct violence)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238880" y="1676520"/>
              <a:ext cx="129564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Tak Langsu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292929"/>
                  </a:solidFill>
                  <a:latin typeface="Times New Roman"/>
                </a:rPr>
                <a:t>indirect violence)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971800" y="3048120"/>
              <a:ext cx="31240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ekerasan terjadi ketika individu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atau kelompok mengabaik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norma dan nilai dalam mencapai tuju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858000" y="1905120"/>
              <a:ext cx="2286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752480" y="1905120"/>
              <a:ext cx="228600" cy="5331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91120" y="2666880"/>
              <a:ext cx="6858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143000" y="4473720"/>
              <a:ext cx="1523880" cy="1164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N.J. Smelser: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Lima tahap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dalam 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429000" y="4114800"/>
              <a:ext cx="5181480" cy="1828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Situasi sosial yang memungkinkan munculnya kerusuh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Tekanan sosial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Berkembangnya perasaan kebenc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Mobilisasi yang berak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292929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Times New Roman"/>
                </a:rPr>
                <a:t>Kontrol sosial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895480" y="4800600"/>
              <a:ext cx="3049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rot="18473400">
              <a:off x="2590560" y="3733560"/>
              <a:ext cx="380880" cy="6858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fed6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440" y="895320"/>
            <a:ext cx="7545240" cy="628560"/>
          </a:xfrm>
          <a:prstGeom prst="rect">
            <a:avLst/>
          </a:prstGeom>
          <a:solidFill>
            <a:srgbClr val="8383ad"/>
          </a:solidFill>
          <a:ln w="0">
            <a:noFill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d6"/>
                </a:solidFill>
                <a:latin typeface="Times New Roman"/>
              </a:rPr>
              <a:t>TEORI TENTANG KEKERASAN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990720" y="2209680"/>
            <a:ext cx="2590560" cy="198144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7632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Times New Roman"/>
              </a:rPr>
              <a:t>TEORI FAKTOR INDIVIDUAL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imulai dari perilaku individual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gresifitas</a:t>
            </a: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kekerasa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00400" y="4038480"/>
            <a:ext cx="2971800" cy="205740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7632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Times New Roman"/>
              </a:rPr>
              <a:t>TEORI DINAMIKA KELOMPOK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danya deprivasi relatif dalam kelompok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erubahan tidak mampu diikuti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5791320" y="2133720"/>
            <a:ext cx="2590560" cy="1981080"/>
          </a:xfrm>
          <a:prstGeom prst="octagon">
            <a:avLst>
              <a:gd name="adj" fmla="val 29287"/>
            </a:avLst>
          </a:prstGeom>
          <a:solidFill>
            <a:srgbClr val="ccecff"/>
          </a:solidFill>
          <a:ln w="7632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Times New Roman"/>
              </a:rPr>
              <a:t>TEORI FAKTOR KELOMPOK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Kelompok identitas sehingga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ngalami benturan dengan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dentitas yang lain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211" name="" descr=""/>
          <p:cNvPicPr/>
          <p:nvPr/>
        </p:nvPicPr>
        <p:blipFill>
          <a:blip r:embed="rId1"/>
          <a:stretch/>
        </p:blipFill>
        <p:spPr>
          <a:xfrm>
            <a:off x="7391520" y="556272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838080" y="1371600"/>
            <a:ext cx="8153640" cy="5181480"/>
          </a:xfrm>
          <a:custGeom>
            <a:avLst/>
            <a:gdLst/>
            <a:ahLst/>
            <a:rect l="l" t="t" r="r" b="b"/>
            <a:pathLst>
              <a:path w="5136" h="3264">
                <a:moveTo>
                  <a:pt x="288" y="384"/>
                </a:moveTo>
                <a:lnTo>
                  <a:pt x="480" y="192"/>
                </a:lnTo>
                <a:lnTo>
                  <a:pt x="672" y="96"/>
                </a:lnTo>
                <a:lnTo>
                  <a:pt x="1104" y="192"/>
                </a:lnTo>
                <a:lnTo>
                  <a:pt x="1296" y="96"/>
                </a:lnTo>
                <a:lnTo>
                  <a:pt x="1584" y="48"/>
                </a:lnTo>
                <a:lnTo>
                  <a:pt x="1872" y="144"/>
                </a:lnTo>
                <a:lnTo>
                  <a:pt x="2160" y="192"/>
                </a:lnTo>
                <a:lnTo>
                  <a:pt x="2400" y="0"/>
                </a:lnTo>
                <a:lnTo>
                  <a:pt x="2688" y="0"/>
                </a:lnTo>
                <a:lnTo>
                  <a:pt x="2928" y="144"/>
                </a:lnTo>
                <a:lnTo>
                  <a:pt x="3072" y="192"/>
                </a:lnTo>
                <a:lnTo>
                  <a:pt x="3264" y="192"/>
                </a:lnTo>
                <a:lnTo>
                  <a:pt x="3600" y="48"/>
                </a:lnTo>
                <a:lnTo>
                  <a:pt x="4176" y="0"/>
                </a:lnTo>
                <a:lnTo>
                  <a:pt x="4368" y="288"/>
                </a:lnTo>
                <a:lnTo>
                  <a:pt x="4368" y="528"/>
                </a:lnTo>
                <a:lnTo>
                  <a:pt x="4464" y="672"/>
                </a:lnTo>
                <a:lnTo>
                  <a:pt x="4992" y="672"/>
                </a:lnTo>
                <a:lnTo>
                  <a:pt x="5136" y="864"/>
                </a:lnTo>
                <a:lnTo>
                  <a:pt x="5136" y="1200"/>
                </a:lnTo>
                <a:lnTo>
                  <a:pt x="5136" y="1440"/>
                </a:lnTo>
                <a:lnTo>
                  <a:pt x="5088" y="1680"/>
                </a:lnTo>
                <a:lnTo>
                  <a:pt x="4800" y="1728"/>
                </a:lnTo>
                <a:lnTo>
                  <a:pt x="4848" y="2064"/>
                </a:lnTo>
                <a:lnTo>
                  <a:pt x="4464" y="2160"/>
                </a:lnTo>
                <a:lnTo>
                  <a:pt x="4704" y="2304"/>
                </a:lnTo>
                <a:lnTo>
                  <a:pt x="4992" y="2448"/>
                </a:lnTo>
                <a:lnTo>
                  <a:pt x="5088" y="2640"/>
                </a:lnTo>
                <a:lnTo>
                  <a:pt x="5040" y="2928"/>
                </a:lnTo>
                <a:lnTo>
                  <a:pt x="4752" y="3120"/>
                </a:lnTo>
                <a:lnTo>
                  <a:pt x="4032" y="3168"/>
                </a:lnTo>
                <a:lnTo>
                  <a:pt x="3168" y="3264"/>
                </a:lnTo>
                <a:lnTo>
                  <a:pt x="2736" y="3168"/>
                </a:lnTo>
                <a:lnTo>
                  <a:pt x="1872" y="3024"/>
                </a:lnTo>
                <a:lnTo>
                  <a:pt x="1056" y="3072"/>
                </a:lnTo>
                <a:lnTo>
                  <a:pt x="672" y="2880"/>
                </a:lnTo>
                <a:lnTo>
                  <a:pt x="48" y="2784"/>
                </a:lnTo>
                <a:lnTo>
                  <a:pt x="144" y="1776"/>
                </a:lnTo>
                <a:lnTo>
                  <a:pt x="0" y="1536"/>
                </a:lnTo>
                <a:lnTo>
                  <a:pt x="192" y="1104"/>
                </a:lnTo>
                <a:lnTo>
                  <a:pt x="0" y="672"/>
                </a:lnTo>
                <a:lnTo>
                  <a:pt x="336" y="336"/>
                </a:lnTo>
                <a:lnTo>
                  <a:pt x="288" y="38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fffff"/>
              </a:gs>
              <a:gs pos="100000">
                <a:srgbClr val="009900"/>
              </a:gs>
            </a:gsLst>
            <a:lin ang="8100000"/>
          </a:gradFill>
          <a:ln cap="sq" w="1260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370160" y="457200"/>
            <a:ext cx="6859440" cy="70488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 PENGENDALIAN KONFLIK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545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ga syarat konflik tidak berakhir dengan kekerasa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tiap kelompok harus menyadari akan adanya situasi konflik di antara merek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Pengendalian konflik dapat dilakukan apabila kelompok yang berkonflik terorganisi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tiap kelompok yang berkonflik mematuhi aturan yang telah disepakat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506520"/>
            <a:ext cx="80582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Arial Black"/>
              </a:rPr>
              <a:t>CARA PENGENDALIAN KONFLIK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1600200" y="1676520"/>
            <a:ext cx="6324120" cy="3809520"/>
            <a:chOff x="1600200" y="1676520"/>
            <a:chExt cx="6324120" cy="3809520"/>
          </a:xfrm>
        </p:grpSpPr>
        <p:sp>
          <p:nvSpPr>
            <p:cNvPr id="2219" name=""/>
            <p:cNvSpPr/>
            <p:nvPr/>
          </p:nvSpPr>
          <p:spPr>
            <a:xfrm>
              <a:off x="1600200" y="1676520"/>
              <a:ext cx="2895480" cy="2547720"/>
            </a:xfrm>
            <a:prstGeom prst="donut">
              <a:avLst>
                <a:gd name="adj" fmla="val 15000"/>
              </a:avLst>
            </a:prstGeom>
            <a:solidFill>
              <a:srgbClr val="00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  <a:ea typeface="Arial"/>
                </a:rPr>
                <a:t>KONSILI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276360" y="2938320"/>
              <a:ext cx="2895120" cy="2547720"/>
            </a:xfrm>
            <a:prstGeom prst="donut">
              <a:avLst>
                <a:gd name="adj" fmla="val 15000"/>
              </a:avLst>
            </a:prstGeom>
            <a:solidFill>
              <a:srgbClr val="3333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MEDI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028840" y="1795320"/>
              <a:ext cx="2895480" cy="2547720"/>
            </a:xfrm>
            <a:prstGeom prst="donut">
              <a:avLst>
                <a:gd name="adj" fmla="val 15000"/>
              </a:avLst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RBITR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505320"/>
          </a:xfrm>
          <a:prstGeom prst="rect">
            <a:avLst/>
          </a:prstGeom>
          <a:solidFill>
            <a:srgbClr val="ffffff"/>
          </a:solidFill>
          <a:ln w="127080">
            <a:solidFill>
              <a:srgbClr val="cc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ntuk pengendalian konflik seperti ini dilakukan melalui lembaga yang memungkinkan diskusi dan keputusan yang adil di antara pihak yang bertikai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toh: pengadila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914400" y="380880"/>
            <a:ext cx="7391520" cy="990720"/>
          </a:xfrm>
          <a:custGeom>
            <a:avLst/>
            <a:gdLst>
              <a:gd name="textAreaLeft" fmla="*/ 1847880 w 7391520"/>
              <a:gd name="textAreaRight" fmla="*/ 5543640 w 7391520"/>
              <a:gd name="textAreaTop" fmla="*/ 2916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0000"/>
          </a:solidFill>
          <a:ln w="9360">
            <a:solidFill>
              <a:srgbClr val="333300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 O N S I L I A S 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77384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708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Pengendalian konflik dengan cara mediasi dilakukan apabila kedua pihak yang berkonflik sepakat untuk menujuk pihak ketiga sebagai medi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hak ketiga berfungsi untuk memberikan nasihat tentang cara terbaik untuk menyelesaikan pertentangan di antara mer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Nasihat tersebut tidak bersifat mengik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 dewan PB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1066680" y="228600"/>
            <a:ext cx="7467840" cy="1447920"/>
          </a:xfrm>
          <a:custGeom>
            <a:avLst/>
            <a:gdLst>
              <a:gd name="textAreaLeft" fmla="*/ 1866960 w 7467840"/>
              <a:gd name="textAreaRight" fmla="*/ 5600880 w 7467840"/>
              <a:gd name="textAreaTop" fmla="*/ 361800 h 1447920"/>
              <a:gd name="textAreaBottom" fmla="*/ 14050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9360">
            <a:solidFill>
              <a:srgbClr val="009900"/>
            </a:solidFill>
            <a:miter/>
          </a:ln>
          <a:effectLst>
            <a:outerShdw dist="153753" dir="2700000" blurRad="0" rotWithShape="0">
              <a:srgbClr val="e6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 E D I A S I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1"/>
          <p:cNvSpPr>
            <a:spLocks noGrp="1"/>
          </p:cNvSpPr>
          <p:nvPr>
            <p:ph/>
          </p:nvPr>
        </p:nvSpPr>
        <p:spPr>
          <a:xfrm>
            <a:off x="1066320" y="1904760"/>
            <a:ext cx="7774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britrasi dilakukan apabila pihak yang berkonflik sepakat untuk menerima atau terpaksa menerima hadirnya pihak ketiga yang akan memberikan keputusan-keputusan tertentu untuk menyelesaikan konflik yang terjadi di antara merek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ahoma"/>
              </a:rPr>
              <a:t>Contoh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: penyelesaian konflik di Vietnam oleh tentara Amerika pada masa 70-a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1" name=""/>
          <p:cNvSpPr/>
          <p:nvPr/>
        </p:nvSpPr>
        <p:spPr>
          <a:xfrm>
            <a:off x="2057400" y="533520"/>
            <a:ext cx="2819520" cy="914400"/>
          </a:xfrm>
          <a:prstGeom prst="horizontalScroll">
            <a:avLst>
              <a:gd name="adj" fmla="val 1250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cd6b"/>
                </a:solidFill>
                <a:latin typeface="Times New Roman"/>
              </a:rPr>
              <a:t>A B R I T R A S 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5638680" cy="914400"/>
          </a:xfrm>
          <a:prstGeom prst="rect">
            <a:avLst/>
          </a:prstGeom>
          <a:solidFill>
            <a:srgbClr val="9e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EORGE SIMM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5" name=""/>
          <p:cNvSpPr/>
          <p:nvPr/>
        </p:nvSpPr>
        <p:spPr>
          <a:xfrm>
            <a:off x="3733920" y="2209680"/>
            <a:ext cx="4876560" cy="38862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c1c2c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Kemenangan salah satu pihak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Kompromi atau perundinga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Rekonsilias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Saling memaafka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lfaen"/>
              </a:rPr>
              <a:t>Kesepakatan untuk tidak berkonflik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304920" y="3200400"/>
            <a:ext cx="3124080" cy="205740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1c2c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RA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NGHENTIK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ONFL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533160" y="247320"/>
            <a:ext cx="8001000" cy="1143000"/>
          </a:xfrm>
          <a:prstGeom prst="rect">
            <a:avLst/>
          </a:prstGeom>
          <a:solidFill>
            <a:srgbClr val="336699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A LAIN UNTUK MENGENDALIKAN KONFLIK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Memberikan perhatian pada salah satu kelompo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Menyogok atau menyuap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enggunakan orang ketiga di luar pihak yang berkonflik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 Sama dengan abritrasi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nggunakan aturan ketat, bila pihak yang berkonflik mau berlindung pada peraturan/hukum form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6"/>
            </a:gs>
            <a:gs pos="50000">
              <a:srgbClr val="ffffcc"/>
            </a:gs>
            <a:gs pos="100000">
              <a:srgbClr val="fefed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BAGAN MATERI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480" y="1600200"/>
            <a:ext cx="8229600" cy="4800600"/>
            <a:chOff x="609480" y="1600200"/>
            <a:chExt cx="8229600" cy="4800600"/>
          </a:xfrm>
        </p:grpSpPr>
        <p:sp>
          <p:nvSpPr>
            <p:cNvPr id="2100" name=""/>
            <p:cNvSpPr/>
            <p:nvPr/>
          </p:nvSpPr>
          <p:spPr>
            <a:xfrm>
              <a:off x="3733920" y="3200400"/>
              <a:ext cx="1600200" cy="139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KONFLIK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DAN 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INTEGRASI 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SOSIAL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209680" y="2514600"/>
              <a:ext cx="990720" cy="838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334120" y="2057400"/>
              <a:ext cx="1600200" cy="1219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D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86200" y="5257800"/>
              <a:ext cx="121932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INTEGRA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SOSIAL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295280" y="1752480"/>
              <a:ext cx="13716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RT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9480" y="2362320"/>
              <a:ext cx="1447920" cy="609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FAKTOR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YEBAB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9480" y="3200400"/>
              <a:ext cx="144792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BENTU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143000" y="3886200"/>
              <a:ext cx="13716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RT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162920" y="1600200"/>
              <a:ext cx="1600200" cy="533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TEOR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162920" y="2895480"/>
              <a:ext cx="167616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CAR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NDAL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ONFLI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D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KEKERAS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62720" y="4876920"/>
              <a:ext cx="13716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GERTI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057400" y="5181480"/>
              <a:ext cx="1371600" cy="6098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BENTUK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INTEGRA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486400" y="5638680"/>
              <a:ext cx="1676520" cy="7621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ff0000"/>
              </a:solidFill>
              <a:prstDash val="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FAKTOR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PENDORO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Times New Roman"/>
                </a:rPr>
                <a:t>INTEGRASI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rot="2823000">
              <a:off x="5090760" y="3193920"/>
              <a:ext cx="609480" cy="266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17352000">
              <a:off x="3200400" y="3123720"/>
              <a:ext cx="53316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191120" y="4800600"/>
              <a:ext cx="6858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209680" y="2209680"/>
              <a:ext cx="381240" cy="304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057400" y="2743200"/>
              <a:ext cx="152280" cy="76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057040" y="3200400"/>
              <a:ext cx="304920" cy="2286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2209680" y="3352680"/>
              <a:ext cx="533520" cy="609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429000" y="5486400"/>
              <a:ext cx="457200" cy="152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5029200" y="5181120"/>
              <a:ext cx="609480" cy="304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029200" y="5867280"/>
              <a:ext cx="457200" cy="152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4320" y="2590920"/>
              <a:ext cx="990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924680" y="2133720"/>
              <a:ext cx="0" cy="761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/>
          </p:nvPr>
        </p:nvSpPr>
        <p:spPr>
          <a:xfrm>
            <a:off x="2743200" y="1905120"/>
            <a:ext cx="64008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ER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ARAT TERJADINYA INTEGRASI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KTOR YANG MEMENGARUHI CEPAT LAMBAT INTEGRASI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0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2241" name=""/>
          <p:cNvSpPr/>
          <p:nvPr/>
        </p:nvSpPr>
        <p:spPr>
          <a:xfrm>
            <a:off x="2743200" y="457200"/>
            <a:ext cx="5105520" cy="12193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ydnie"/>
                <a:ea typeface="Arial"/>
              </a:rPr>
              <a:t>INTEGRASI SOSIAL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2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2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178760" cy="103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ENGERTIAN INTEGRASI SOSIAL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838080" y="2286000"/>
            <a:ext cx="7392960" cy="3276720"/>
          </a:xfrm>
          <a:prstGeom prst="cube">
            <a:avLst>
              <a:gd name="adj" fmla="val 25000"/>
            </a:avLst>
          </a:prstGeom>
          <a:solidFill>
            <a:srgbClr val="ccecff"/>
          </a:solidFill>
          <a:ln w="38160">
            <a:solidFill>
              <a:srgbClr val="969696"/>
            </a:solidFill>
            <a:miter/>
          </a:ln>
          <a:effectLst>
            <a:outerShdw dist="153753" dir="2700000" blurRad="0" rotWithShape="0">
              <a:srgbClr val="666a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INTEGRASI SOSIAL= proses penyesuaian unsur-unsur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yang berbeda dalam masyarakat menjadi satu kesatuan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Unsur yang berbeda tersebut meliputi perbedaa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kedudukan sosial, ras, etinik, agama, bahasa, nilai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45"/>
                </a:solidFill>
                <a:latin typeface="Trebuchet MS"/>
              </a:rPr>
              <a:t>dan norm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40320" cy="1143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383ad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YARAT TERJADINYA INTEGRASI SOSIAL (WILLIAM F. OGBURN)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Anggota masyarakat merasa bahwa mereka berhasil saling mengisi kebutuhan mereka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Times New Roman"/>
              </a:rPr>
              <a:t>Masyarakat berhasil menciptakan kesepakatan (consensus) bersama mengenai norma dan nilai sosial yang dilestarikan dan dijadikan pedoman.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383ad"/>
                </a:solidFill>
                <a:latin typeface="Times New Roman"/>
              </a:rPr>
              <a:t>Nilai dan norma berlaku lama dan tidak berubah serta dijalankan secara konsisten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164360" cy="93348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FAKTOR YANG MEMENGARUHI LAJU INTEGRASI SOS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47" name=""/>
          <p:cNvGrpSpPr/>
          <p:nvPr/>
        </p:nvGrpSpPr>
        <p:grpSpPr>
          <a:xfrm>
            <a:off x="838080" y="1676520"/>
            <a:ext cx="7391520" cy="4495680"/>
            <a:chOff x="838080" y="1676520"/>
            <a:chExt cx="7391520" cy="4495680"/>
          </a:xfrm>
        </p:grpSpPr>
        <p:sp>
          <p:nvSpPr>
            <p:cNvPr id="2248" name=""/>
            <p:cNvSpPr/>
            <p:nvPr/>
          </p:nvSpPr>
          <p:spPr>
            <a:xfrm>
              <a:off x="3276720" y="3429000"/>
              <a:ext cx="243828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prstDash val="lgDash"/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INTEGR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OSIAL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38080" y="3352680"/>
              <a:ext cx="144792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omogenitas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lompok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781680" y="3352680"/>
              <a:ext cx="144792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bilitas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eografis 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733920" y="1676520"/>
              <a:ext cx="144756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kuran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lompok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657600" y="4952880"/>
              <a:ext cx="1447920" cy="1219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fektifitas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omunikasi 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3581280"/>
              <a:ext cx="3049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962520" y="3048120"/>
              <a:ext cx="7617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590920" y="3581280"/>
              <a:ext cx="380880" cy="7621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038480" y="4572000"/>
              <a:ext cx="60984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022400" y="274320"/>
            <a:ext cx="6859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TUK INTEGRASI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8" name=""/>
          <p:cNvGrpSpPr/>
          <p:nvPr/>
        </p:nvGrpSpPr>
        <p:grpSpPr>
          <a:xfrm>
            <a:off x="685800" y="1828800"/>
            <a:ext cx="7467480" cy="4343400"/>
            <a:chOff x="685800" y="1828800"/>
            <a:chExt cx="7467480" cy="4343400"/>
          </a:xfrm>
        </p:grpSpPr>
        <p:sp>
          <p:nvSpPr>
            <p:cNvPr id="2259" name=""/>
            <p:cNvSpPr/>
            <p:nvPr/>
          </p:nvSpPr>
          <p:spPr>
            <a:xfrm>
              <a:off x="1143000" y="1981080"/>
              <a:ext cx="1828800" cy="1219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SIMIL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562720" y="1828800"/>
              <a:ext cx="2286000" cy="1523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KULTURASI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85800" y="3962520"/>
              <a:ext cx="2971800" cy="22096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8100000"/>
            </a:gradFill>
            <a:ln w="9360">
              <a:solidFill>
                <a:srgbClr val="ffffff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Proses sosial yang ditandai dengan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adanya usaha untuk mengurangi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perbedaan yang ada di antara individu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atau kelompok dalam masyarakat. 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Tidak lagi ada perbedaan antarindividu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karena batasan diantara mereka telah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hilang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Rumus: A+B=C 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181480" y="3962520"/>
              <a:ext cx="2971800" cy="22096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8100000"/>
            </a:gradFill>
            <a:ln w="9360">
              <a:solidFill>
                <a:srgbClr val="ffffff"/>
              </a:solidFill>
              <a:prstDash val="lgDash"/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Prose penerimaan unsur budaya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baru namun tidak menghilangkan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imes New Roman"/>
                </a:rPr>
                <a:t>unsur budaya yang telah dianutnya.</a:t>
              </a:r>
              <a:endParaRPr b="0" lang="en-US" sz="1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Rumus: A+B=AB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24480" y="3429000"/>
              <a:ext cx="6098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676520" y="3352680"/>
              <a:ext cx="609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733920" y="2209680"/>
              <a:ext cx="1295280" cy="685800"/>
            </a:xfrm>
            <a:prstGeom prst="leftRightArrow">
              <a:avLst>
                <a:gd name="adj1" fmla="val 50000"/>
                <a:gd name="adj2" fmla="val 3759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22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KTOR PENDORONG INTEGRASI SOS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solidFill>
            <a:srgbClr val="292929"/>
          </a:solidFill>
          <a:ln w="12708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oleransi terhadap kelompok berbeda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Kesempatan yang seimbang dalam ekonomi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kap saling menghargai orang lain dengan kebudayaannya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kap terbuka dari golongan yang berkuasa dalam masyarakat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amaan dalam unsur kebudayaan.</a:t>
            </a:r>
            <a:endParaRPr b="1" lang="en-US" sz="3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dd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506000" cy="6858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ddd4"/>
                </a:solidFill>
                <a:latin typeface="Garamond"/>
              </a:rPr>
              <a:t>ANALISI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572000"/>
          </a:xfrm>
          <a:prstGeom prst="rect">
            <a:avLst/>
          </a:prstGeom>
          <a:solidFill>
            <a:srgbClr val="e2ddd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Konflik negara dengan GAM terselesaikan dengan ditandatanganinya Perjanjian Helsinski. Yang selanjutnya proses rekonstruksi Aceh dilakukan oleh Indonesia, GAM, dan AMM (</a:t>
            </a:r>
            <a:r>
              <a:rPr b="0" i="1" lang="en-US" sz="2800" spc="-1" strike="noStrike">
                <a:solidFill>
                  <a:srgbClr val="0000cc"/>
                </a:solidFill>
                <a:latin typeface="Garamond"/>
              </a:rPr>
              <a:t>Aceh Monitoring Mission</a:t>
            </a:r>
            <a:r>
              <a:rPr b="0" lang="en-US" sz="2800" spc="-1" strike="noStrike">
                <a:solidFill>
                  <a:srgbClr val="0000cc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enurut anda apakah proses ini memunculkan integrasi sosial? Jelaskan! Analisa menggunakan konsep yang telah diberik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5" name=""/>
          <p:cNvGrpSpPr/>
          <p:nvPr/>
        </p:nvGrpSpPr>
        <p:grpSpPr>
          <a:xfrm>
            <a:off x="457200" y="228600"/>
            <a:ext cx="8229600" cy="6286680"/>
            <a:chOff x="457200" y="228600"/>
            <a:chExt cx="8229600" cy="6286680"/>
          </a:xfrm>
        </p:grpSpPr>
        <p:sp>
          <p:nvSpPr>
            <p:cNvPr id="2126" name=""/>
            <p:cNvSpPr/>
            <p:nvPr/>
          </p:nvSpPr>
          <p:spPr>
            <a:xfrm>
              <a:off x="3352680" y="228600"/>
              <a:ext cx="2514600" cy="16765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Times New Roman"/>
                </a:rPr>
                <a:t>Sosiologis</a:t>
              </a: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: konflik=proses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antara 2/lebih orang yang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berusaha menyingkirk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pihak lain dengan jalan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menghancurkan atau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Times New Roman"/>
                </a:rPr>
                <a:t>membuat tidak berday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9480" y="1523880"/>
              <a:ext cx="2514600" cy="16765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Soejono Seokanto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konflik=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roses memenuhi tuju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dengan cara menentang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ihak lawan disertai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ancaman/kekeras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57200" y="3733920"/>
              <a:ext cx="2590920" cy="16761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Lewis a.Coser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konflik=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erjuangan nilai, kekuasaan d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sumber daya yang bersifat langk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dengan maksud menetralkan,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mencederaia atau melenyapkan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law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276720" y="4724280"/>
              <a:ext cx="2590560" cy="16765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Gillin dan Gillin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konflik=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roses interaksi yang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berlawan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(</a:t>
              </a:r>
              <a:r>
                <a:rPr b="0" i="1" lang="en-US" sz="1200" spc="-1" strike="noStrike">
                  <a:solidFill>
                    <a:srgbClr val="336699"/>
                  </a:solidFill>
                  <a:latin typeface="Times New Roman"/>
                </a:rPr>
                <a:t>oppositional process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248520" y="2133720"/>
              <a:ext cx="2438280" cy="9903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Kamus Besar Bahasa Indonesi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konflik=percecokan,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perselisihan atau pertentangan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248520" y="3733920"/>
              <a:ext cx="2438280" cy="99036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Times New Roman"/>
                </a:rPr>
                <a:t>Bahasa Latin</a:t>
              </a: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: </a:t>
              </a:r>
              <a:r>
                <a:rPr b="0" i="1" lang="en-US" sz="1200" spc="-1" strike="noStrike">
                  <a:solidFill>
                    <a:srgbClr val="336699"/>
                  </a:solidFill>
                  <a:latin typeface="Times New Roman"/>
                </a:rPr>
                <a:t>configer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99"/>
                  </a:solidFill>
                  <a:latin typeface="Times New Roman"/>
                </a:rPr>
                <a:t>artinya saling memukul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809880" y="2590920"/>
              <a:ext cx="1600200" cy="1600200"/>
            </a:xfrm>
            <a:prstGeom prst="can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KONFLIK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6200000">
              <a:off x="6095880" y="685440"/>
              <a:ext cx="1371600" cy="1219320"/>
            </a:xfrm>
            <a:custGeom>
              <a:avLst/>
              <a:gdLst>
                <a:gd name="textAreaLeft" fmla="*/ 457200 w 1371600"/>
                <a:gd name="textAreaRight" fmla="*/ 1175040 w 1371600"/>
                <a:gd name="textAreaTop" fmla="*/ 702360 h 1219320"/>
                <a:gd name="textAreaBottom" fmla="*/ 10443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10765200">
              <a:off x="1522080" y="609480"/>
              <a:ext cx="1446120" cy="835200"/>
            </a:xfrm>
            <a:custGeom>
              <a:avLst/>
              <a:gdLst>
                <a:gd name="textAreaLeft" fmla="*/ 482040 w 1446120"/>
                <a:gd name="textAreaRight" fmla="*/ 1238760 w 1446120"/>
                <a:gd name="textAreaTop" fmla="*/ 451440 h 835200"/>
                <a:gd name="textAreaBottom" fmla="*/ 71532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772"/>
                  </a:moveTo>
                  <a:lnTo>
                    <a:pt x="11672" y="14772"/>
                  </a:lnTo>
                  <a:lnTo>
                    <a:pt x="11672" y="7200"/>
                  </a:lnTo>
                  <a:lnTo>
                    <a:pt x="8572" y="7200"/>
                  </a:lnTo>
                  <a:lnTo>
                    <a:pt x="15086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81680" y="3276720"/>
              <a:ext cx="83844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219320" y="3276720"/>
              <a:ext cx="99036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1771200" y="5315040"/>
              <a:ext cx="838440" cy="1562040"/>
            </a:xfrm>
            <a:custGeom>
              <a:avLst/>
              <a:gdLst>
                <a:gd name="textAreaLeft" fmla="*/ 279360 w 838440"/>
                <a:gd name="textAreaRight" fmla="*/ 718200 w 838440"/>
                <a:gd name="textAreaTop" fmla="*/ 899640 h 1562040"/>
                <a:gd name="textAreaBottom" fmla="*/ 133812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172200" y="4952880"/>
              <a:ext cx="1752480" cy="838440"/>
            </a:xfrm>
            <a:custGeom>
              <a:avLst/>
              <a:gdLst>
                <a:gd name="textAreaLeft" fmla="*/ 584280 w 1752480"/>
                <a:gd name="textAreaRight" fmla="*/ 1501200 w 1752480"/>
                <a:gd name="textAreaTop" fmla="*/ 482760 h 838440"/>
                <a:gd name="textAreaBottom" fmla="*/ 71820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9" name=""/>
          <p:cNvGrpSpPr/>
          <p:nvPr/>
        </p:nvGrpSpPr>
        <p:grpSpPr>
          <a:xfrm>
            <a:off x="228600" y="304920"/>
            <a:ext cx="7924680" cy="6095880"/>
            <a:chOff x="228600" y="304920"/>
            <a:chExt cx="7924680" cy="6095880"/>
          </a:xfrm>
        </p:grpSpPr>
        <p:sp>
          <p:nvSpPr>
            <p:cNvPr id="2140" name=""/>
            <p:cNvSpPr/>
            <p:nvPr/>
          </p:nvSpPr>
          <p:spPr>
            <a:xfrm>
              <a:off x="457200" y="304920"/>
              <a:ext cx="3048120" cy="2361960"/>
            </a:xfrm>
            <a:prstGeom prst="wedgeEllipseCallout">
              <a:avLst>
                <a:gd name="adj1" fmla="val -44217"/>
                <a:gd name="adj2" fmla="val 4502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ffff"/>
                </a:gs>
                <a:gs pos="100000">
                  <a:srgbClr val="ff6600"/>
                </a:gs>
              </a:gsLst>
              <a:lin ang="13500000"/>
            </a:gradFill>
            <a:ln w="9360">
              <a:solidFill>
                <a:srgbClr val="336699"/>
              </a:solidFill>
              <a:miter/>
            </a:ln>
            <a:effectLst>
              <a:outerShdw dist="107932" dir="135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Gejala disintegrasi dan disorganisasi dalam masyarakat: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Ketidaksepahaman dalam masyarkat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Norma sosial melemah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Pertentangan norm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Sanksi lemah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333333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Times New Roman"/>
                </a:rPr>
                <a:t>Tindakan bertentangan dengan norm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28600" y="2819520"/>
              <a:ext cx="3886200" cy="16002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AKTOR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NYEBAB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ONFLIK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562720" y="380880"/>
              <a:ext cx="259056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BED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TAR INDIVIDU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62720" y="1981080"/>
              <a:ext cx="259056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BED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BUDAY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562720" y="3581280"/>
              <a:ext cx="259056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BEDA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PENTING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86400" y="5181480"/>
              <a:ext cx="2590920" cy="1219320"/>
            </a:xfrm>
            <a:prstGeom prst="foldedCorner">
              <a:avLst>
                <a:gd name="adj" fmla="val 31944"/>
              </a:avLst>
            </a:prstGeom>
            <a:solidFill>
              <a:srgbClr val="333333"/>
            </a:solidFill>
            <a:ln w="9360">
              <a:solidFill>
                <a:srgbClr val="336699"/>
              </a:solidFill>
              <a:miter/>
            </a:ln>
            <a:effectLst>
              <a:outerShdw dist="153753" dir="2700000" blurRad="0" rotWithShape="0">
                <a:srgbClr val="afb5d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RUBAHAN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OSIAL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1120" y="1066680"/>
              <a:ext cx="0" cy="487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191120" y="106668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91120" y="243828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191120" y="411480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191120" y="5943600"/>
              <a:ext cx="1371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e4f2"/>
            </a:gs>
            <a:gs pos="50000">
              <a:srgbClr val="ffffff"/>
            </a:gs>
            <a:gs pos="100000">
              <a:srgbClr val="d6e4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6840" y="716040"/>
            <a:ext cx="53262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TUK KONFLIK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WIS A. CO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HREND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ERJONO SOEKA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SIKOLOGI SOSIAL</a:t>
            </a:r>
            <a:r>
              <a:rPr b="0" lang="en-U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URSULA LEH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088040" cy="781200"/>
          </a:xfrm>
          <a:prstGeom prst="rect">
            <a:avLst/>
          </a:prstGeom>
          <a:solidFill>
            <a:srgbClr val="333333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WIS A. COSER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2158" name=""/>
          <p:cNvGrpSpPr/>
          <p:nvPr/>
        </p:nvGrpSpPr>
        <p:grpSpPr>
          <a:xfrm>
            <a:off x="1143000" y="1981080"/>
            <a:ext cx="6629400" cy="3733920"/>
            <a:chOff x="1143000" y="1981080"/>
            <a:chExt cx="6629400" cy="3733920"/>
          </a:xfrm>
        </p:grpSpPr>
        <p:sp>
          <p:nvSpPr>
            <p:cNvPr id="2159" name=""/>
            <p:cNvSpPr/>
            <p:nvPr/>
          </p:nvSpPr>
          <p:spPr>
            <a:xfrm>
              <a:off x="1143000" y="2979720"/>
              <a:ext cx="1905120" cy="1809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KONFLIK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EALISTI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67280" y="2979720"/>
              <a:ext cx="1905120" cy="1809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KONFLIK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N-REALISTIS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371600" y="19810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IN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371600" y="51814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OUT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19920" y="19810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IN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19920" y="5181480"/>
              <a:ext cx="152388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176"/>
                  </a:solidFill>
                  <a:latin typeface="Times New Roman"/>
                </a:rPr>
                <a:t>OUTGROUP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581280" y="3124080"/>
              <a:ext cx="1676520" cy="1600200"/>
            </a:xfrm>
            <a:custGeom>
              <a:avLst/>
              <a:gdLst>
                <a:gd name="textAreaLeft" fmla="*/ 419040 w 1676520"/>
                <a:gd name="textAreaRight" fmla="*/ 1257480 w 16765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FLIK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52480" y="4876920"/>
              <a:ext cx="60984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477120" y="4876920"/>
              <a:ext cx="6094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28800" y="2590920"/>
              <a:ext cx="5335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553080" y="2590920"/>
              <a:ext cx="5335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6840" y="563040"/>
            <a:ext cx="750564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HREND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33520" y="3429000"/>
            <a:ext cx="190476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KONFL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352680" y="1752480"/>
            <a:ext cx="441972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/dalam peran sos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352680" y="2895480"/>
            <a:ext cx="441972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 kelompok sosia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352680" y="4114800"/>
            <a:ext cx="4419720" cy="7621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 kelompok yang terorganisir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n tidak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352680" y="5410080"/>
            <a:ext cx="4419720" cy="68580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Konflik antara satuan nasional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2438280" y="3733920"/>
            <a:ext cx="3812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819520" y="2209680"/>
            <a:ext cx="0" cy="35053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819520" y="5715000"/>
            <a:ext cx="5331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819520" y="4572000"/>
            <a:ext cx="533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2819520" y="3352680"/>
            <a:ext cx="533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819520" y="2209680"/>
            <a:ext cx="533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2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5650200" cy="77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05c"/>
                </a:solidFill>
                <a:latin typeface="Arial"/>
              </a:rPr>
              <a:t>SOERJONO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OEKANTO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3809880" y="2361960"/>
            <a:ext cx="4267440" cy="3994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66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priba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ra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kelas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po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flik interna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/>
          <p:nvPr/>
        </p:nvSpPr>
        <p:spPr>
          <a:xfrm>
            <a:off x="990720" y="1600200"/>
            <a:ext cx="7404120" cy="5105520"/>
          </a:xfrm>
          <a:custGeom>
            <a:avLst/>
            <a:gdLst/>
            <a:ahLst/>
            <a:rect l="l" t="t" r="r" b="b"/>
            <a:pathLst>
              <a:path w="4040" h="3040">
                <a:moveTo>
                  <a:pt x="152" y="160"/>
                </a:moveTo>
                <a:cubicBezTo>
                  <a:pt x="280" y="136"/>
                  <a:pt x="712" y="64"/>
                  <a:pt x="872" y="64"/>
                </a:cubicBezTo>
                <a:cubicBezTo>
                  <a:pt x="1032" y="64"/>
                  <a:pt x="1008" y="152"/>
                  <a:pt x="1112" y="160"/>
                </a:cubicBezTo>
                <a:cubicBezTo>
                  <a:pt x="1216" y="168"/>
                  <a:pt x="1384" y="136"/>
                  <a:pt x="1496" y="112"/>
                </a:cubicBezTo>
                <a:cubicBezTo>
                  <a:pt x="1608" y="88"/>
                  <a:pt x="1656" y="16"/>
                  <a:pt x="1784" y="16"/>
                </a:cubicBezTo>
                <a:cubicBezTo>
                  <a:pt x="1912" y="16"/>
                  <a:pt x="2112" y="112"/>
                  <a:pt x="2264" y="112"/>
                </a:cubicBezTo>
                <a:cubicBezTo>
                  <a:pt x="2416" y="112"/>
                  <a:pt x="2592" y="32"/>
                  <a:pt x="2696" y="16"/>
                </a:cubicBezTo>
                <a:cubicBezTo>
                  <a:pt x="2800" y="0"/>
                  <a:pt x="2808" y="8"/>
                  <a:pt x="2888" y="16"/>
                </a:cubicBezTo>
                <a:cubicBezTo>
                  <a:pt x="2968" y="24"/>
                  <a:pt x="3096" y="40"/>
                  <a:pt x="3176" y="64"/>
                </a:cubicBezTo>
                <a:cubicBezTo>
                  <a:pt x="3256" y="88"/>
                  <a:pt x="3288" y="104"/>
                  <a:pt x="3368" y="160"/>
                </a:cubicBezTo>
                <a:cubicBezTo>
                  <a:pt x="3448" y="216"/>
                  <a:pt x="3584" y="328"/>
                  <a:pt x="3656" y="400"/>
                </a:cubicBezTo>
                <a:cubicBezTo>
                  <a:pt x="3728" y="472"/>
                  <a:pt x="3760" y="520"/>
                  <a:pt x="3800" y="592"/>
                </a:cubicBezTo>
                <a:cubicBezTo>
                  <a:pt x="3840" y="664"/>
                  <a:pt x="3864" y="768"/>
                  <a:pt x="3896" y="832"/>
                </a:cubicBezTo>
                <a:cubicBezTo>
                  <a:pt x="3928" y="896"/>
                  <a:pt x="3968" y="920"/>
                  <a:pt x="3992" y="976"/>
                </a:cubicBezTo>
                <a:cubicBezTo>
                  <a:pt x="4016" y="1032"/>
                  <a:pt x="4040" y="1128"/>
                  <a:pt x="4040" y="1168"/>
                </a:cubicBezTo>
                <a:cubicBezTo>
                  <a:pt x="4040" y="1208"/>
                  <a:pt x="4032" y="1192"/>
                  <a:pt x="3992" y="1216"/>
                </a:cubicBezTo>
                <a:cubicBezTo>
                  <a:pt x="3952" y="1240"/>
                  <a:pt x="3856" y="1288"/>
                  <a:pt x="3800" y="1312"/>
                </a:cubicBezTo>
                <a:cubicBezTo>
                  <a:pt x="3744" y="1336"/>
                  <a:pt x="3680" y="1344"/>
                  <a:pt x="3656" y="1360"/>
                </a:cubicBezTo>
                <a:cubicBezTo>
                  <a:pt x="3632" y="1376"/>
                  <a:pt x="3640" y="1376"/>
                  <a:pt x="3656" y="1408"/>
                </a:cubicBezTo>
                <a:cubicBezTo>
                  <a:pt x="3672" y="1440"/>
                  <a:pt x="3728" y="1496"/>
                  <a:pt x="3752" y="1552"/>
                </a:cubicBezTo>
                <a:cubicBezTo>
                  <a:pt x="3776" y="1608"/>
                  <a:pt x="3840" y="1696"/>
                  <a:pt x="3800" y="1744"/>
                </a:cubicBezTo>
                <a:cubicBezTo>
                  <a:pt x="3760" y="1792"/>
                  <a:pt x="3584" y="1832"/>
                  <a:pt x="3512" y="1840"/>
                </a:cubicBezTo>
                <a:cubicBezTo>
                  <a:pt x="3440" y="1848"/>
                  <a:pt x="3408" y="1760"/>
                  <a:pt x="3368" y="1792"/>
                </a:cubicBezTo>
                <a:cubicBezTo>
                  <a:pt x="3328" y="1824"/>
                  <a:pt x="3280" y="1952"/>
                  <a:pt x="3272" y="2032"/>
                </a:cubicBezTo>
                <a:cubicBezTo>
                  <a:pt x="3264" y="2112"/>
                  <a:pt x="3312" y="2208"/>
                  <a:pt x="3320" y="2272"/>
                </a:cubicBezTo>
                <a:cubicBezTo>
                  <a:pt x="3328" y="2336"/>
                  <a:pt x="3344" y="2384"/>
                  <a:pt x="3320" y="2416"/>
                </a:cubicBezTo>
                <a:cubicBezTo>
                  <a:pt x="3296" y="2448"/>
                  <a:pt x="3248" y="2456"/>
                  <a:pt x="3176" y="2464"/>
                </a:cubicBezTo>
                <a:cubicBezTo>
                  <a:pt x="3104" y="2472"/>
                  <a:pt x="2984" y="2464"/>
                  <a:pt x="2888" y="2464"/>
                </a:cubicBezTo>
                <a:cubicBezTo>
                  <a:pt x="2792" y="2464"/>
                  <a:pt x="2648" y="2448"/>
                  <a:pt x="2600" y="2464"/>
                </a:cubicBezTo>
                <a:cubicBezTo>
                  <a:pt x="2552" y="2480"/>
                  <a:pt x="2600" y="2512"/>
                  <a:pt x="2600" y="2560"/>
                </a:cubicBezTo>
                <a:cubicBezTo>
                  <a:pt x="2600" y="2608"/>
                  <a:pt x="2608" y="2704"/>
                  <a:pt x="2600" y="2752"/>
                </a:cubicBezTo>
                <a:cubicBezTo>
                  <a:pt x="2592" y="2800"/>
                  <a:pt x="2608" y="2808"/>
                  <a:pt x="2552" y="2848"/>
                </a:cubicBezTo>
                <a:cubicBezTo>
                  <a:pt x="2496" y="2888"/>
                  <a:pt x="2368" y="2960"/>
                  <a:pt x="2264" y="2992"/>
                </a:cubicBezTo>
                <a:cubicBezTo>
                  <a:pt x="2160" y="3024"/>
                  <a:pt x="2024" y="3040"/>
                  <a:pt x="1928" y="3040"/>
                </a:cubicBezTo>
                <a:cubicBezTo>
                  <a:pt x="1832" y="3040"/>
                  <a:pt x="1776" y="3000"/>
                  <a:pt x="1688" y="2992"/>
                </a:cubicBezTo>
                <a:cubicBezTo>
                  <a:pt x="1600" y="2984"/>
                  <a:pt x="1488" y="2992"/>
                  <a:pt x="1400" y="2992"/>
                </a:cubicBezTo>
                <a:cubicBezTo>
                  <a:pt x="1312" y="2992"/>
                  <a:pt x="1256" y="2992"/>
                  <a:pt x="1160" y="2992"/>
                </a:cubicBezTo>
                <a:cubicBezTo>
                  <a:pt x="1064" y="2992"/>
                  <a:pt x="928" y="2992"/>
                  <a:pt x="824" y="2992"/>
                </a:cubicBezTo>
                <a:cubicBezTo>
                  <a:pt x="720" y="2992"/>
                  <a:pt x="608" y="2992"/>
                  <a:pt x="536" y="2992"/>
                </a:cubicBezTo>
                <a:cubicBezTo>
                  <a:pt x="464" y="2992"/>
                  <a:pt x="432" y="2992"/>
                  <a:pt x="392" y="2992"/>
                </a:cubicBezTo>
                <a:cubicBezTo>
                  <a:pt x="352" y="2992"/>
                  <a:pt x="328" y="3024"/>
                  <a:pt x="296" y="2992"/>
                </a:cubicBezTo>
                <a:cubicBezTo>
                  <a:pt x="264" y="2960"/>
                  <a:pt x="216" y="2856"/>
                  <a:pt x="200" y="2800"/>
                </a:cubicBezTo>
                <a:cubicBezTo>
                  <a:pt x="184" y="2744"/>
                  <a:pt x="200" y="2712"/>
                  <a:pt x="200" y="2656"/>
                </a:cubicBezTo>
                <a:cubicBezTo>
                  <a:pt x="200" y="2600"/>
                  <a:pt x="208" y="2520"/>
                  <a:pt x="200" y="2464"/>
                </a:cubicBezTo>
                <a:cubicBezTo>
                  <a:pt x="192" y="2408"/>
                  <a:pt x="168" y="2368"/>
                  <a:pt x="152" y="2320"/>
                </a:cubicBezTo>
                <a:cubicBezTo>
                  <a:pt x="136" y="2272"/>
                  <a:pt x="112" y="2224"/>
                  <a:pt x="104" y="2176"/>
                </a:cubicBezTo>
                <a:cubicBezTo>
                  <a:pt x="96" y="2128"/>
                  <a:pt x="88" y="2080"/>
                  <a:pt x="104" y="2032"/>
                </a:cubicBezTo>
                <a:cubicBezTo>
                  <a:pt x="120" y="1984"/>
                  <a:pt x="176" y="1936"/>
                  <a:pt x="200" y="1888"/>
                </a:cubicBezTo>
                <a:cubicBezTo>
                  <a:pt x="224" y="1840"/>
                  <a:pt x="256" y="1792"/>
                  <a:pt x="248" y="1744"/>
                </a:cubicBezTo>
                <a:cubicBezTo>
                  <a:pt x="240" y="1696"/>
                  <a:pt x="184" y="1656"/>
                  <a:pt x="152" y="1600"/>
                </a:cubicBezTo>
                <a:cubicBezTo>
                  <a:pt x="120" y="1544"/>
                  <a:pt x="72" y="1456"/>
                  <a:pt x="56" y="1408"/>
                </a:cubicBezTo>
                <a:cubicBezTo>
                  <a:pt x="40" y="1360"/>
                  <a:pt x="48" y="1352"/>
                  <a:pt x="56" y="1312"/>
                </a:cubicBezTo>
                <a:cubicBezTo>
                  <a:pt x="64" y="1272"/>
                  <a:pt x="88" y="1216"/>
                  <a:pt x="104" y="1168"/>
                </a:cubicBezTo>
                <a:cubicBezTo>
                  <a:pt x="120" y="1120"/>
                  <a:pt x="144" y="1072"/>
                  <a:pt x="152" y="1024"/>
                </a:cubicBezTo>
                <a:cubicBezTo>
                  <a:pt x="160" y="976"/>
                  <a:pt x="168" y="928"/>
                  <a:pt x="152" y="880"/>
                </a:cubicBezTo>
                <a:cubicBezTo>
                  <a:pt x="136" y="832"/>
                  <a:pt x="80" y="784"/>
                  <a:pt x="56" y="736"/>
                </a:cubicBezTo>
                <a:cubicBezTo>
                  <a:pt x="32" y="688"/>
                  <a:pt x="16" y="648"/>
                  <a:pt x="8" y="592"/>
                </a:cubicBezTo>
                <a:cubicBezTo>
                  <a:pt x="0" y="536"/>
                  <a:pt x="0" y="448"/>
                  <a:pt x="8" y="400"/>
                </a:cubicBezTo>
                <a:cubicBezTo>
                  <a:pt x="16" y="352"/>
                  <a:pt x="40" y="336"/>
                  <a:pt x="56" y="304"/>
                </a:cubicBezTo>
                <a:cubicBezTo>
                  <a:pt x="72" y="272"/>
                  <a:pt x="88" y="232"/>
                  <a:pt x="104" y="208"/>
                </a:cubicBezTo>
                <a:cubicBezTo>
                  <a:pt x="120" y="184"/>
                  <a:pt x="24" y="184"/>
                  <a:pt x="152" y="160"/>
                </a:cubicBezTo>
                <a:close/>
              </a:path>
            </a:pathLst>
          </a:cu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54068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RSULA LEH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PSIKOLOGI SOSI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609444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orang tu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anak sendir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sanak sauda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orang la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engan suami/istr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di sekola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pemilihan kerj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agam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Verdana"/>
              </a:rPr>
              <a:t>Konflik pribad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1:00:06Z</dcterms:created>
  <dc:creator>.</dc:creator>
  <dc:description/>
  <dc:language>en-US</dc:language>
  <cp:lastModifiedBy>Doly</cp:lastModifiedBy>
  <dcterms:modified xsi:type="dcterms:W3CDTF">2008-03-28T05:23:02Z</dcterms:modified>
  <cp:revision>27</cp:revision>
  <dc:subject/>
  <dc:title>BAB I</dc:title>
</cp:coreProperties>
</file>