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1.gif" ContentType="image/gi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9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415-F361-45DE-9493-2809D40C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F31-998D-45D5-8F83-0A8D8706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3E3E-5ED3-4FA9-A627-BE103C0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AC68A-8982-4DF0-8CC1-8DBBC65E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28C3-D34B-43F4-863D-D795559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F173-BD73-468F-94C8-811E7F5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FC15-7AB0-4B62-A8AF-7AEE4C0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B8AF-D574-40A5-AB2B-60406290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13AE5-FCE4-4284-ADD1-30D2B12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BFAC-BB09-43CF-B3D2-CDE4D7E6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1332-CC33-42B9-BDE5-6792D5BE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84085-1595-431C-9296-141D907C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7B1-2648-4E49-8764-DEBF6980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0B606-4CD7-46D5-88C6-E6303550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D34A5-C5E5-4C7A-B806-E986E7A4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8BC8-F6CD-415A-9119-C1FEC82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BE6E6-186B-4599-A0F2-85A15D3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2B09-911B-4AD8-B702-B6333B7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C6920-73B7-42A6-B5BB-BD435FC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95421-43DB-4C93-9176-A6F3B316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7338B-D01C-40A1-ABF6-ACC4CA4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CD99-3695-4CAB-85B6-3A6901A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C01AC-01B3-4072-9C5F-570E2189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B7F-C0FF-4782-95F8-973C189D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341CA-C00A-497C-A2E9-78FA49AA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42397-8D87-4CFE-BB28-C66061F6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0F127-0451-4453-9A6A-A4AAB0F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E18E-8E64-4D68-964B-7B79ABB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19302-A3E6-478C-AB28-A5A28B1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AE6E4-B637-40EF-BCD8-71C95CC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21ADF-5121-458F-B17F-5C9A6696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8009F-F68D-462B-A5E0-C1788EA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0945E-9FB9-487C-A98A-B23BF545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BA60E-E27A-4AC0-9EA5-7004A32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86F0-6A6A-49CE-B0BA-81CAD3B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00B7F-EE2E-4192-B717-186959A5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E890D-1FC8-4D6E-9A2F-C09CA4C9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5982D-AB7D-4E7E-BD74-7082305C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CAE58-5ED1-441A-AF79-90A0AEF1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9D47-55C2-4C5B-BA84-6ED81763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A4311-2B9B-4BE7-9879-911D81F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94DDC-0A83-4468-8CA4-1F393D3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90B16-9F83-4FF2-9196-99ADE75F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4ED85-5BFF-49EF-AF61-E000FBD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1ACC7-DBD8-421B-BD36-553D306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B71A-EE6A-4247-8A41-9C307A8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59762-1EED-4DBE-993E-D7E44AC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5CB5-E6E4-4164-9A1D-F6A2DFE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E7F67-BBBD-4AFC-93AE-F8FDA938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C3637-6FB3-46AA-9C70-9E7B16A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40AC3-7E53-4FA5-948B-572107CB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C73E3-FCA5-4B44-B07E-9FF415DA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77EB7-6166-40CB-845A-02A5EBE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3EC45-481F-492C-9951-D9C6531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08705-6886-4A6F-9090-309D5C28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E679C-1CD0-44D4-A4DB-33A15082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EB59-B88D-4349-8B52-54C8200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1FD57-744B-4C8F-BA16-9D80AD8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593B5-29C2-4C7F-800B-81B2844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5F248-F6F0-4483-B9E8-2D6AEE02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5B808-ED84-4870-BEBC-D52D3E0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D8313-77CC-4531-82CD-84684EF9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3260B-52E1-43E8-8A91-B4268080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A08D1-887B-45DA-815C-41ABC2F0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6FFDA-8814-432C-B493-98009BB1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499DD-309F-47A6-85EF-ADF88E8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5753C-05F3-48F3-BBE8-F11314E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01FB-68C8-4C50-B0CA-79F3112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B2A03-248D-4BB5-9AF6-A448DD70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47E90-0EEB-462A-9019-E26E6D6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2C9BC-E85C-4696-BFAD-1282D9C8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D828F-833C-4626-BBBC-A9DBC86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2813C-878E-4BD4-AB9D-73587ED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DAE95-9766-46A4-ABDD-F12141C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7C4F3-C0EF-4DF1-A80A-BBD70A3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EAFCA-3637-4CE2-A169-0885E5ED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CE88F-D5BB-4811-A55A-3DD844C4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2FB31-407F-487A-962E-5265C94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C75-FDB3-4766-AD70-6A981C7D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29102-B2C8-442E-B16B-90FB4BCC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9666F-4BBB-4202-8403-702AD6C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06D55-0D23-48A9-AAD0-F11F74B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DE009-DA82-43AF-ADCE-63790BC3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BABCB-B38B-4F6E-BB58-6180CCA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14385-C33E-4715-A4F2-E215ADA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D847D-E873-46D8-A42C-D41B30F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99B37-BBC0-4791-BB4A-D423FEE0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1D2D0-BA43-4054-9E78-AC6D581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FF7657-568F-4F13-966C-8C8F441C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CBBC-E426-42A6-ADD3-EC0EEF9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BD94B-F05D-4ACE-A3C4-5A22BA31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194E7-4375-4679-8B98-A3DB2CA9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95F6D-BF21-4FFD-AC72-9FFAED4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97CE0-1D7A-42EB-9181-74C2193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4828B-ADB1-4943-94CC-8291CAB4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64083-3852-4F79-804F-0B55381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C56E8-DCB0-41EC-8B30-CDE667F9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AE69D-34E0-484B-BB3F-F46059B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F7193-B185-4B41-8EB2-FA2CA69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AE30B-2D68-4DEC-ABB2-25BC887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888-3497-4E27-B82A-92F81F6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1B852-189D-4BF6-93CD-23E531A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C0027-79C7-47AC-91A1-EF00F11D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50E8A-48B0-4C9B-9BFC-FA12901C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DDD34-D068-410D-80E9-0C4159EB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47C1B-CB5B-44C1-AEF5-25D7C786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57CC2-673B-4345-BBC0-2C719AB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2DBDC-5863-4009-B40C-CBD4D4C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E2AEA-52DF-4CD4-AEE8-FD779AC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B2BD0-A118-47E5-998C-E6EE0538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70B93-92DF-41CD-B933-9D21B91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B2A-7F2F-495A-A5D1-EDC0C751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E6C7-D429-4A80-8E8F-C0D3B7C6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ECD71-C4C5-45DD-ACE1-447947DF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269FB-472A-4EAD-9DA2-BD2A9F0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5D0F1-2573-4DF6-A930-618A6043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100FE-BDB8-499E-B82E-65BD2E20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35A9E-C022-42BD-B252-4BCA41D4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6BC87-E9A8-40F9-A97F-4F385022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9DC59-429E-4F5E-8253-D4E8C9A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C8F66-BAAE-4106-8AA9-70AA764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767EE-0A06-4702-84EE-CC00E140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F4B83-5054-4F28-9102-27B53E8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C8A-7D6F-40C2-B019-E0C275E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CC8CF-897F-423A-B6CC-ADCEB31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28706-59AB-4402-8928-73E2851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3F8AD-92BB-4940-AEEE-4D4B96CE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5CC11-4DCA-4113-9A83-C4D5409A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4C4B4-1D95-42F4-9BEE-BA9D4C5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319F6-F521-4BF0-8A08-3B4652C0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87321-D8ED-41C7-A708-9145693F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D8720-3D47-4B61-8BFE-46C1713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D144F-A215-4308-86DE-162D368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6163F-1886-443C-B2FF-3C0D1800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060C-3713-4918-909D-13B2BB2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D204C-5C49-417C-8348-4E41695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64E90-3952-4DCC-A92F-C607272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D0AD2-768F-44D2-A9DA-4A40214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1C546-3055-47D9-AE3D-158F7CE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4A8AF-9853-4435-B1B3-E19A6CC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E68B1-CB4A-42F7-AB39-479FC49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5BB5D-627E-4D06-A205-C02BACD9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823CE-CEDF-4CEF-BD4E-0E8708A3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CAD0E-1C44-4FE6-B210-EA960513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3BE90-2469-4E6E-8DB6-E1FE7EB3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61C2-02FE-430F-B456-3C7176C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05539-25D5-419F-ADE7-670CF13E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79753-B84A-47AF-92C3-A00E6CE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14FCE-D992-4548-8ACD-B6784315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DD5D4-6561-453A-B00F-C732166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B48F2-537A-44F8-8048-8025500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E364D8-270D-4255-B5C2-0DED362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FE13E-8191-449F-B692-8850DFE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C7263-1C35-4F6A-AAE0-F72DF66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D113F-1870-4395-8E1C-1202A47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17544-0600-4891-8D63-CA2408E8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2E98-17A6-4510-B89F-7AB1756B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7B4FD-3030-442B-85CB-8CE1D734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9097D-16E0-4138-9A98-7B0B93A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5BB6C-B49A-4AAB-8665-376857EC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61EB4-B19E-48C0-83EE-2F84F3B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08BFE-11B6-4086-9DC4-C4940F04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5CB7F-886C-4F63-A1F5-349B8594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1F41F-4B52-40A9-A79B-95931548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6E708-E33C-4A89-BC6F-20BB57D3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8F199-5628-49F0-BCDF-A0CB3F9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BA9E2-EF24-46FB-907B-A78B79B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DA9C-48E8-42E1-9CF6-2702FE3F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838CD-0C4E-4B7F-8C24-F74D4D0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91A58-3D20-4B6E-91A2-A3CCF589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E869C-DD33-4A16-B234-5594700F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B30F15-8D5B-4C96-AA65-A72B4BB7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EE7F0-A39E-42E8-95A1-7FDCFD3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C4440-71C7-44AF-8BCE-1A78452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9993A-644F-4A3D-844E-BA7B470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EAF60-603C-4FD3-B617-05A3DC38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97D1B-E459-4FB1-92F8-D45474B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1EFBF-E824-44BA-8A4B-C02EA26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E57D-0789-4C2E-AB5F-84C4C0C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1328D-4FC8-434C-BF74-C3ED4F8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0CB11-F452-4AD1-BE95-AC0BCBAD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1156E-0417-4155-BB69-5E7B483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6F9AD1-6BB2-4FBB-8638-D6190F20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2C200-FB6A-44BE-991E-08472791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29E6A-DCA6-45BE-98E5-E42B4816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746E3-E838-4CC3-A75E-12BC9374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27A5D-596B-4FBA-A851-FB3EBCE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B8414-2C9B-4456-8D3D-A9C87F8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FAB95-7EAF-40D0-8FDE-ACCABF3A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4096-1728-406F-9078-753C213D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04384C-1F1D-4857-A24A-9E402D4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DC20A-52E3-4C4E-952C-EADBD996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D323B-9F3D-47FA-9C59-F840109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FDAF1-9878-4CE0-A79E-83A35E6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BE75E7-1ECD-4B28-A448-298653B7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B8D01-C2EB-4E27-BECC-C22ABD0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AFFC2F-B99E-4207-9618-0DB16539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51E847-B2D3-438D-90AB-EDA15D6C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9A5221-F106-4D7C-A4C5-F709942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2D266-AC09-4B7B-9EEB-AC6FB540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5365-9B10-49C9-BBDD-65B3FD7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31B0CF-3F55-4486-AF50-D4926535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D4D2D-294F-4197-AC3E-F0E94956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69F574-74EB-46C1-ACB7-20EEACE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3F00C-77BC-4BE5-BAB0-C7087C06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668C2-F54A-48EA-93D0-3EE98FD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076FE-F817-425B-A820-8F62FB3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58D21B-9095-4BF5-801D-9294381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96086-E7E0-498C-9974-02BB8437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8CED6F-01D1-49C6-A9AF-8E31B6B2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16735D-DA57-4DF4-A311-1A48CDA0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78D9-87D9-4E54-9BEC-5120F07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1C104-2E0A-41AA-A553-37F658C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96343-9DE5-4A18-9441-F8549A9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BFA120-A5E1-4FB7-99C6-CC30D546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AF58A9-DF7E-4E2E-A658-1F328DEC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98CBAB-3096-4983-B684-27901668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198B9-0F39-47CE-89B6-409B889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DC9EAF-1F88-4E53-A6B3-897DF67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E919C6-6397-47F3-9210-67585B2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80721-99AE-425C-A798-686B68F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5B234A-0ACF-4AB0-8A65-EBEFC28F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BC2-9350-49CC-A404-6F206E9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2966-A03E-4F70-9201-4E573BE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A9B2D-4699-4AAE-9BFD-872D91AA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A7706D-5D7F-4D1F-BB60-28863CF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41542C-0DC0-4077-A8FC-2BFEE77D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764EC5-AAC9-492D-8460-9902ADD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181B98-4FCE-48BD-8C01-FDEB196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8D182C-F211-4867-B481-21D527B7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EE29F2-3AF3-478B-B4D5-C4AFBF5D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FB2767-9570-4709-BB79-0ED8D9A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40857F-8DC1-46BB-B923-592E53E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0CFE0-7931-4C43-A0EF-6ED1FBE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E472-3C66-459B-B76E-2116656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DCD08-D81D-49B7-B2E6-253D46CF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488EC5-962F-4B4E-8BA6-C75A783C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106766-72BF-48C7-8285-2572F853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23EB88-C8B9-482D-B2D4-4B624C4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294493-88D6-4EF6-AF26-A7AD99A5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2C982-8530-423E-A13E-C28D55C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AD2FE0-FEA9-47C7-9C34-9CBF2F3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5529E4-21ED-4512-94A2-6DD2486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177312-D0B9-4ABD-9285-839E9DB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8582A5-32AF-4F9E-9DE7-AC169A3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2FAD-950C-4325-AA8A-EEED26D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36C569-42CB-4A1B-9D80-E949ACA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04A1B-D983-4CE5-A7F3-B4CCE71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4EC700-4D06-4906-8B23-481395A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F442E-313B-4B12-82C4-1014267E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3472ED-A420-40AB-868B-C330D951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D44720-E924-4CF7-B903-1DE2B6FC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FA2A4B-62C6-475C-B637-904CEBEF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00157-AABC-46D0-8E9B-3D5C75DA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D50C98-09AB-4899-8F2B-3AE2990E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37C63C-2FAA-4CD0-A16D-07D2BE5B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C5DD-2BD6-4448-B44D-6D3431D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D24006-90B0-4E2D-9041-F74103C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639BCE-66DB-4761-B962-DC078BD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AB79BA-15D4-4473-8BE4-395BF09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FC0854-5C88-4B82-BC45-B605DF37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FA4296-8233-4ABC-9618-6A59E3E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15CE27-E143-4537-8DB9-51F53F98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64DCC2-7507-45B8-9041-46B99C79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E7B335-B5B5-466F-8413-13004459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257E2E-2197-4BA9-A401-D4FB273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312BEA-BAF0-43E8-ABBA-98D9177D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E716-77DB-43AD-A461-63A9149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AED4B5-D466-46C2-BC18-65A2E16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5DCF51-5499-45C7-B809-D7053F9E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0270CE-CF7C-4FFC-9323-3C85BF99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C40DCE-E68D-49A3-AE94-5101941C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699AAC-9F64-4001-AFC7-2CEB53B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4836AB-A21A-458A-B0D8-6DD5717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B0F5B0-000C-4FA5-9A5A-9515AD14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3D7CF0-CFAE-46C4-A076-8C2C051C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305557-099D-42D2-9EE7-DDCA8958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6E32-B497-44AE-8B6C-CE27ED3A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3C52-E0C9-4C6D-9048-57B84238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1A521-106E-474A-AFF6-6A978AB1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EB008-0D0B-443C-9086-5EB09FA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AADD3-530B-4A0F-BD63-5C444E80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78C-EA8C-4CFB-8F42-7522630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4074B-A59C-47AA-B4DA-EDD490B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2AD3E-91F8-46D1-B854-BFA303D7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EA486-3E6A-4282-99E5-D378D675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37B33-12B5-4407-8A83-8A47751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0B903-14F6-4BC4-89BB-47EF595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9B24C-D12A-419D-91E5-D74C964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BCA5F-F69E-47F9-B225-CE9041D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70441-D9E3-4508-B8A0-EBF29D97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F407E-1897-4F6D-B8B7-EFB8DB56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E720-0C4B-4C30-B53D-82FF25FF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9C4-A087-408D-B5FD-3C1572DD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A0F25-A0B5-4631-9CFA-839D5FA0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547B-5AEA-407E-A67F-F8EC4B6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78C7-297A-4A7A-9305-D91FF2E4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AFCF8-C579-4988-A568-0470669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28A0-6C5B-474F-A4DC-307542D4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8E6A-DE4D-48E8-B142-1391CD8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880F3-2DF8-495C-ADBD-E7F4516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0A8B-272F-43E6-96D9-FB4CA30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977C-2B65-4176-A2CB-A91BA8D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5AD9-BD21-4A3B-913E-68BDCA7B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4FB-E211-47C6-863C-2E3B5C26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F7D1-3881-4213-A848-41ABCC23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A084-98B4-43D3-AC72-871B47CE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3318-0596-4313-ABBE-51352374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B5DD-7900-4792-801D-1D32602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3EB93-FC27-4B61-AAD9-73D49C2F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B2F4-A47B-437A-AEA0-F03C3F76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387FE-0F39-417E-AE7B-E1225A4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AAFF-7D7A-4E92-95C5-531BD0C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B575-F5A5-4CF0-A242-DC705CD1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1BC2-61E7-464D-85B9-1B51A0C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F3E-3C37-4B2B-A1BA-A63C7C9C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38FB-A153-454E-8C82-27B0D5CC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1089-C60A-47D0-9D21-762A6131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3196-25D4-4C0E-BF59-7A511A2F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E1A-0FA4-4C82-938A-F68503AA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9F3F-2D50-4CD4-86F8-6003B19C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D20D-781D-48C7-8BF5-869FA117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56A6-F657-4D54-90D5-9EB42D2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6BB0-E792-4384-B8D4-83E9E2C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7BBD-F03C-4253-9E56-0A66E85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395-EBC4-4F19-8FBA-BFC84A76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CAC4-341B-4D53-8E72-E38FA106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1612B-58FC-428F-9ED6-8115EF9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7685-D749-4360-92FC-F576ABE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8398-47D4-411E-9C59-B320E4A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4EF00-FDD4-4F03-9682-207A8CE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C90E2-EF73-48D3-9C2D-CC822E46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4CDA-C4D9-4753-8A54-A059C1F6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1233-1592-415C-B236-8A7ED5DD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8D84-EDBB-475E-9A9A-65A0730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D95EB-A7C7-4A6F-96C3-190C15F8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76AD-6940-40A9-9AF4-5E4371468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0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2A6-C200-427F-B609-21B172A04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086-AF0E-4357-AAE7-9D42F8FF2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6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244-DF39-494B-94AD-73BF18D79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E2E-B0C3-4425-B7A4-94964A20C2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B06-1306-4BD5-B52C-B19ACF08A5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277D-1A24-4547-A490-FD1438F159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5BB-7FBD-4F9A-9629-38002AEA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6B2-04DF-4A53-B8B0-A832EEC00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16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4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FF09-84D9-4565-8AD8-DF278E5F5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5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23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26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26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3" name="PlaceHolder 3"/>
          <p:cNvSpPr>
            <a:spLocks noGrp="1"/>
          </p:cNvSpPr>
          <p:nvPr>
            <p:ph type="ftr" idx="5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sldNum" idx="5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B765-8EE5-48B2-A4FB-8CA4C614F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4FEA-52E5-4B73-9F67-0C2D9746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2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5AD-AACF-47A8-BD24-693438B6A4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6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368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A4A4-2CA9-4C67-BEBA-7E2511C45E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0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6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6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930-72E8-4744-B1AE-BF64F3BCF0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8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dt" idx="6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ftr" idx="6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sldNum" idx="6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7A12-F12C-4996-BB85-F3BC9C5FD4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56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56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6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6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33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7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0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0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2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65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65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6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7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67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7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83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FB20-CC9C-4E5F-816D-86525777A2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72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72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3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33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3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3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77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8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2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2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82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3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83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84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FDD-E3A3-46E6-ACF3-AEDE9BB24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8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6FC0-E9B9-472E-A855-5DD5691094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3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A26B-659B-40D9-83E1-A561CA357F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8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BDE-642D-4791-8192-E92DF5C881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4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6749-E708-482E-AEC8-42F9A3FAD9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306-C43E-4317-B305-164D101D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Num" idx="10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2AC5-967C-4E7A-BCF9-8690216C5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12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FC8-3D98-4DEE-A8E6-2BAF32A8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92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85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65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8DBF-8FAB-4599-B782-E3A62AEE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475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9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542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545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F44A-19BE-4B30-A386-D5585D12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A3E-A69E-419B-A48B-8427A14D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3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1981080" y="380880"/>
            <a:ext cx="2895840" cy="914400"/>
          </a:xfrm>
          <a:custGeom>
            <a:avLst/>
            <a:gdLst>
              <a:gd name="textAreaLeft" fmla="*/ 571320 w 2895840"/>
              <a:gd name="textAreaRight" fmla="*/ 2324520 w 289584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288" y="0"/>
                </a:lnTo>
                <a:arcTo wR="675" hR="675" stAng="16200000" swAng="5400000"/>
                <a:lnTo>
                  <a:pt x="6963" y="2700"/>
                </a:lnTo>
                <a:lnTo>
                  <a:pt x="14637" y="2700"/>
                </a:lnTo>
                <a:lnTo>
                  <a:pt x="14637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337" y="18900"/>
                </a:lnTo>
                <a:lnTo>
                  <a:pt x="17337" y="20925"/>
                </a:lnTo>
                <a:arcTo wR="675" hR="675" stAng="0" swAng="5400000"/>
                <a:lnTo>
                  <a:pt x="4938" y="21600"/>
                </a:lnTo>
                <a:arcTo wR="675" hR="675" stAng="5400000" swAng="5400000"/>
                <a:lnTo>
                  <a:pt x="4263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963" y="675"/>
                </a:moveTo>
                <a:arcTo wR="675" hR="675" stAng="0" swAng="5400000"/>
                <a:lnTo>
                  <a:pt x="4938" y="1350"/>
                </a:lnTo>
                <a:arcTo wR="675" hR="675" stAng="16200000" swAng="-5400000"/>
                <a:arcTo wR="675" hR="675" stAng="10800000" swAng="-5400000"/>
                <a:lnTo>
                  <a:pt x="6963" y="2700"/>
                </a:lnTo>
              </a:path>
              <a:path fill="none" w="21600" h="21600">
                <a:moveTo>
                  <a:pt x="14637" y="675"/>
                </a:moveTo>
                <a:arcTo wR="675" hR="675" stAng="10800000" swAng="-5400000"/>
                <a:lnTo>
                  <a:pt x="16662" y="1350"/>
                </a:lnTo>
                <a:arcTo wR="675" hR="675" stAng="16200000" swAng="5400000"/>
                <a:arcTo wR="675" hR="675" stAng="0" swAng="5400000"/>
                <a:lnTo>
                  <a:pt x="14637" y="2700"/>
                </a:lnTo>
              </a:path>
              <a:path fill="none" w="21600" h="21600">
                <a:moveTo>
                  <a:pt x="4263" y="2025"/>
                </a:moveTo>
                <a:lnTo>
                  <a:pt x="4263" y="18900"/>
                </a:lnTo>
              </a:path>
              <a:path fill="none" w="21600" h="21600">
                <a:moveTo>
                  <a:pt x="17337" y="2025"/>
                </a:moveTo>
                <a:lnTo>
                  <a:pt x="17337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2743200" y="533520"/>
            <a:ext cx="1550880" cy="63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1142640" y="2666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KONFLIK DAN INTEGRASI SOS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DAMPAK SEBUAH KONFLIK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447920" y="1752480"/>
            <a:ext cx="6248160" cy="457200"/>
          </a:xfrm>
          <a:prstGeom prst="rect">
            <a:avLst/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d6"/>
                </a:solidFill>
                <a:latin typeface="Times New Roman"/>
              </a:rPr>
              <a:t>KONFLIK ADALAH SUATU HAL YANG WAJAR DALAM MASYARAK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d6"/>
                </a:solidFill>
                <a:latin typeface="Times New Roman"/>
              </a:rPr>
              <a:t>(LEWIS A. COSER)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581280" y="3276720"/>
            <a:ext cx="1981440" cy="2286000"/>
          </a:xfrm>
          <a:custGeom>
            <a:avLst/>
            <a:gdLst>
              <a:gd name="textAreaLeft" fmla="*/ 495360 w 1981440"/>
              <a:gd name="textAreaRight" fmla="*/ 1486080 w 19814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d6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DAMPA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SEBUAH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KONFLI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52280" y="3048120"/>
            <a:ext cx="3505320" cy="3047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fe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GI POSITIF: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mperjelas aspek kehidup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Penyesuaian kembali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ingkatkan solidarit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gurangi ketergantu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ghidupkan norma lama d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ciptakan norma baru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6. Sarana mencapai keseimba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7. Kompromi baru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334120" y="3200400"/>
            <a:ext cx="3504960" cy="28954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fe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GI NEGATI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retakan hubu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rusakan harta benda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dan nyawa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3. Berubahnya kepribadian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4. Munculnya dominasi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lompok pemena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895320"/>
            <a:ext cx="62499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KONFLIK DAN KEKERASA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304920" y="1676520"/>
            <a:ext cx="8305560" cy="4267080"/>
            <a:chOff x="304920" y="1676520"/>
            <a:chExt cx="8305560" cy="4267080"/>
          </a:xfrm>
        </p:grpSpPr>
        <p:sp>
          <p:nvSpPr>
            <p:cNvPr id="2196" name=""/>
            <p:cNvSpPr/>
            <p:nvPr/>
          </p:nvSpPr>
          <p:spPr>
            <a:xfrm>
              <a:off x="2057400" y="1752480"/>
              <a:ext cx="4648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diartikan perbuatan yang menyebabkan cedera atau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matinya orang lain atau menyebabkan kerusakan fis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Kamus Besar Bahasa Indonesi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04920" y="1676520"/>
              <a:ext cx="12952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Langsu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292929"/>
                  </a:solidFill>
                  <a:latin typeface="Times New Roman"/>
                </a:rPr>
                <a:t>direct violence)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38880" y="1676520"/>
              <a:ext cx="1295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Tak Langsu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292929"/>
                  </a:solidFill>
                  <a:latin typeface="Times New Roman"/>
                </a:rPr>
                <a:t>indirect violence)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971800" y="3048120"/>
              <a:ext cx="31240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terjadi ketika 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atau kelompok mengabaik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norma dan nilai dalam mencapai tuju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58000" y="1905120"/>
              <a:ext cx="2286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752480" y="1905120"/>
              <a:ext cx="228600" cy="5331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91120" y="2666880"/>
              <a:ext cx="6858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143000" y="4473720"/>
              <a:ext cx="1523880" cy="116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N.J. Smelser: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Lima tahap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dalam 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429000" y="4114800"/>
              <a:ext cx="5181480" cy="1828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Situasi sosial yang memungkinkan munculnya kerusuh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Tekanan sosial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Berkembangnya perasaan kebenc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Mobilisasi yang berak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ontrol sosial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895480" y="4800600"/>
              <a:ext cx="3049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18473400">
              <a:off x="2590560" y="3733560"/>
              <a:ext cx="380880" cy="6858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d6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440" y="895320"/>
            <a:ext cx="7545240" cy="628560"/>
          </a:xfrm>
          <a:prstGeom prst="rect">
            <a:avLst/>
          </a:prstGeom>
          <a:solidFill>
            <a:srgbClr val="8383ad"/>
          </a:soli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d6"/>
                </a:solidFill>
                <a:latin typeface="Times New Roman"/>
              </a:rPr>
              <a:t>TEORI TENTANG KEKERASAN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990720" y="2209680"/>
            <a:ext cx="2590560" cy="19814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FAKTOR INDIVIDUAL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mulai dari perilaku individual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gresifitas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kekeras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00400" y="4038480"/>
            <a:ext cx="2971800" cy="2057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DINAMIKA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danya deprivasi relatif dalam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erubahan tidak mampu diikuti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2133720"/>
            <a:ext cx="2590560" cy="198108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FAKTOR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lompok identitas sehingga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ngalami benturan dengan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dentitas yang lai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1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838080" y="1371600"/>
            <a:ext cx="8153640" cy="5181480"/>
          </a:xfrm>
          <a:custGeom>
            <a:avLst/>
            <a:gdLst/>
            <a:ahLst/>
            <a:rect l="l" t="t" r="r" b="b"/>
            <a:pathLst>
              <a:path w="5136" h="3264">
                <a:moveTo>
                  <a:pt x="288" y="384"/>
                </a:moveTo>
                <a:lnTo>
                  <a:pt x="480" y="192"/>
                </a:lnTo>
                <a:lnTo>
                  <a:pt x="672" y="96"/>
                </a:lnTo>
                <a:lnTo>
                  <a:pt x="1104" y="192"/>
                </a:lnTo>
                <a:lnTo>
                  <a:pt x="1296" y="96"/>
                </a:lnTo>
                <a:lnTo>
                  <a:pt x="1584" y="48"/>
                </a:lnTo>
                <a:lnTo>
                  <a:pt x="1872" y="144"/>
                </a:lnTo>
                <a:lnTo>
                  <a:pt x="2160" y="192"/>
                </a:lnTo>
                <a:lnTo>
                  <a:pt x="2400" y="0"/>
                </a:lnTo>
                <a:lnTo>
                  <a:pt x="2688" y="0"/>
                </a:lnTo>
                <a:lnTo>
                  <a:pt x="2928" y="144"/>
                </a:lnTo>
                <a:lnTo>
                  <a:pt x="3072" y="192"/>
                </a:lnTo>
                <a:lnTo>
                  <a:pt x="3264" y="192"/>
                </a:lnTo>
                <a:lnTo>
                  <a:pt x="3600" y="48"/>
                </a:lnTo>
                <a:lnTo>
                  <a:pt x="4176" y="0"/>
                </a:lnTo>
                <a:lnTo>
                  <a:pt x="4368" y="288"/>
                </a:lnTo>
                <a:lnTo>
                  <a:pt x="4368" y="528"/>
                </a:lnTo>
                <a:lnTo>
                  <a:pt x="4464" y="672"/>
                </a:lnTo>
                <a:lnTo>
                  <a:pt x="4992" y="672"/>
                </a:lnTo>
                <a:lnTo>
                  <a:pt x="5136" y="864"/>
                </a:lnTo>
                <a:lnTo>
                  <a:pt x="5136" y="1200"/>
                </a:lnTo>
                <a:lnTo>
                  <a:pt x="5136" y="1440"/>
                </a:lnTo>
                <a:lnTo>
                  <a:pt x="5088" y="1680"/>
                </a:lnTo>
                <a:lnTo>
                  <a:pt x="4800" y="1728"/>
                </a:lnTo>
                <a:lnTo>
                  <a:pt x="4848" y="2064"/>
                </a:lnTo>
                <a:lnTo>
                  <a:pt x="4464" y="2160"/>
                </a:lnTo>
                <a:lnTo>
                  <a:pt x="4704" y="2304"/>
                </a:lnTo>
                <a:lnTo>
                  <a:pt x="4992" y="2448"/>
                </a:lnTo>
                <a:lnTo>
                  <a:pt x="5088" y="2640"/>
                </a:lnTo>
                <a:lnTo>
                  <a:pt x="5040" y="2928"/>
                </a:lnTo>
                <a:lnTo>
                  <a:pt x="4752" y="3120"/>
                </a:lnTo>
                <a:lnTo>
                  <a:pt x="4032" y="3168"/>
                </a:lnTo>
                <a:lnTo>
                  <a:pt x="3168" y="3264"/>
                </a:lnTo>
                <a:lnTo>
                  <a:pt x="2736" y="3168"/>
                </a:lnTo>
                <a:lnTo>
                  <a:pt x="1872" y="3024"/>
                </a:lnTo>
                <a:lnTo>
                  <a:pt x="1056" y="3072"/>
                </a:lnTo>
                <a:lnTo>
                  <a:pt x="672" y="2880"/>
                </a:lnTo>
                <a:lnTo>
                  <a:pt x="48" y="2784"/>
                </a:lnTo>
                <a:lnTo>
                  <a:pt x="144" y="1776"/>
                </a:lnTo>
                <a:lnTo>
                  <a:pt x="0" y="1536"/>
                </a:lnTo>
                <a:lnTo>
                  <a:pt x="192" y="1104"/>
                </a:lnTo>
                <a:lnTo>
                  <a:pt x="0" y="672"/>
                </a:lnTo>
                <a:lnTo>
                  <a:pt x="336" y="336"/>
                </a:lnTo>
                <a:lnTo>
                  <a:pt x="288" y="3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/>
              </a:gs>
              <a:gs pos="100000">
                <a:srgbClr val="009900"/>
              </a:gs>
            </a:gsLst>
            <a:lin ang="8100000"/>
          </a:gra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370160" y="457200"/>
            <a:ext cx="6859440" cy="7048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 PENGENDALIAN KONFLIK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545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ga syarat konflik tidak berakhir dengan kekerasa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tiap kelompok harus menyadari akan adanya situasi konflik di antara merek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engendalian konflik dapat dilakukan apabila kelompok yang berkonflik terorganisi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tiap kelompok yang berkonflik mematuhi aturan yang telah disepakat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506520"/>
            <a:ext cx="8058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 Black"/>
              </a:rPr>
              <a:t>CARA PENGENDALIAN KONFLI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1600200" y="1676520"/>
            <a:ext cx="6324120" cy="3809520"/>
            <a:chOff x="1600200" y="1676520"/>
            <a:chExt cx="6324120" cy="3809520"/>
          </a:xfrm>
        </p:grpSpPr>
        <p:sp>
          <p:nvSpPr>
            <p:cNvPr id="2219" name=""/>
            <p:cNvSpPr/>
            <p:nvPr/>
          </p:nvSpPr>
          <p:spPr>
            <a:xfrm>
              <a:off x="1600200" y="1676520"/>
              <a:ext cx="2895480" cy="2547720"/>
            </a:xfrm>
            <a:prstGeom prst="donut">
              <a:avLst>
                <a:gd name="adj" fmla="val 15000"/>
              </a:avLst>
            </a:prstGeom>
            <a:solidFill>
              <a:srgbClr val="00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  <a:ea typeface="Arial"/>
                </a:rPr>
                <a:t>KONSILI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276360" y="2938320"/>
              <a:ext cx="2895120" cy="2547720"/>
            </a:xfrm>
            <a:prstGeom prst="donut">
              <a:avLst>
                <a:gd name="adj" fmla="val 15000"/>
              </a:avLst>
            </a:prstGeom>
            <a:solidFill>
              <a:srgbClr val="3333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MEDI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028840" y="1795320"/>
              <a:ext cx="2895480" cy="2547720"/>
            </a:xfrm>
            <a:prstGeom prst="donut">
              <a:avLst>
                <a:gd name="adj" fmla="val 15000"/>
              </a:avLst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RBIT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505320"/>
          </a:xfrm>
          <a:prstGeom prst="rect">
            <a:avLst/>
          </a:prstGeom>
          <a:solidFill>
            <a:srgbClr val="ffffff"/>
          </a:solidFill>
          <a:ln w="127080">
            <a:solidFill>
              <a:srgbClr val="cc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ntuk pengendalian konflik seperti ini dilakukan melalui lembaga yang memungkinkan diskusi dan keputusan yang adil di antara pihak yang bertikai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oh: pengadila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914400" y="380880"/>
            <a:ext cx="7391520" cy="990720"/>
          </a:xfrm>
          <a:custGeom>
            <a:avLst/>
            <a:gdLst>
              <a:gd name="textAreaLeft" fmla="*/ 1847880 w 7391520"/>
              <a:gd name="textAreaRight" fmla="*/ 5543640 w 7391520"/>
              <a:gd name="textAreaTop" fmla="*/ 2916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0000"/>
          </a:solidFill>
          <a:ln w="9360">
            <a:solidFill>
              <a:srgbClr val="3333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 O N S I L I A S 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384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708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Pengendalian konflik dengan cara mediasi dilakukan apabila kedua pihak yang berkonflik sepakat untuk menujuk pihak ketiga sebagai medi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hak ketiga berfungsi untuk memberikan nasihat tentang cara terbaik untuk menyelesaikan pertentangan di antara mer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asihat tersebut tidak bersifat mengi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 dewan PB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1066680" y="228600"/>
            <a:ext cx="7467840" cy="1447920"/>
          </a:xfrm>
          <a:custGeom>
            <a:avLst/>
            <a:gdLst>
              <a:gd name="textAreaLeft" fmla="*/ 1866960 w 7467840"/>
              <a:gd name="textAreaRight" fmla="*/ 5600880 w 7467840"/>
              <a:gd name="textAreaTop" fmla="*/ 361800 h 1447920"/>
              <a:gd name="textAreaBottom" fmla="*/ 14050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53753" dir="2700000" blurRad="0" rotWithShape="0">
              <a:srgbClr val="e6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 E D I A S I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777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britrasi dilakukan apabila pihak yang berkonflik sepakat untuk menerima atau terpaksa menerima hadirnya pihak ketiga yang akan memberikan keputusan-keputusan tertentu untuk menyelesaikan konflik yang terjadi di antara merek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Contoh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: penyelesaian konflik di Vietnam oleh tentara Amerika pada masa 70-a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057400" y="533520"/>
            <a:ext cx="2819520" cy="914400"/>
          </a:xfrm>
          <a:prstGeom prst="horizontalScroll">
            <a:avLst>
              <a:gd name="adj" fmla="val 1250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cd6b"/>
                </a:solidFill>
                <a:latin typeface="Times New Roman"/>
              </a:rPr>
              <a:t>A B R I T R A S 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638680" cy="914400"/>
          </a:xfrm>
          <a:prstGeom prst="rect">
            <a:avLst/>
          </a:prstGeom>
          <a:solidFill>
            <a:srgbClr val="9e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EORGE SIMM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5" name=""/>
          <p:cNvSpPr/>
          <p:nvPr/>
        </p:nvSpPr>
        <p:spPr>
          <a:xfrm>
            <a:off x="3733920" y="2209680"/>
            <a:ext cx="4876560" cy="38862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c1c2c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emenangan salah satu pihak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ompromi atau perunding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Rekonsilias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Saling memaafk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esepakatan untuk tidak berkonflik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04920" y="3200400"/>
            <a:ext cx="3124080" cy="20574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1c2c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HENTIK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NFL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533160" y="247320"/>
            <a:ext cx="8001000" cy="1143000"/>
          </a:xfrm>
          <a:prstGeom prst="rect">
            <a:avLst/>
          </a:prstGeom>
          <a:solidFill>
            <a:srgbClr val="336699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 LAIN UNTUK MENGENDALIKAN KONFLIK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emberikan perhatian pada salah satu kelompo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Menyogok atau menyuap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enggunakan orang ketiga di luar pihak yang berkonfli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Sama dengan abritras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nggunakan aturan ketat, bila pihak yang berkonflik mau berlindung pada peraturan/hukum form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6"/>
            </a:gs>
            <a:gs pos="50000">
              <a:srgbClr val="ffffcc"/>
            </a:gs>
            <a:gs pos="100000">
              <a:srgbClr val="fefed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BAGAN MATERI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480" y="1600200"/>
            <a:ext cx="8229600" cy="4800600"/>
            <a:chOff x="609480" y="1600200"/>
            <a:chExt cx="8229600" cy="4800600"/>
          </a:xfrm>
        </p:grpSpPr>
        <p:sp>
          <p:nvSpPr>
            <p:cNvPr id="2100" name=""/>
            <p:cNvSpPr/>
            <p:nvPr/>
          </p:nvSpPr>
          <p:spPr>
            <a:xfrm>
              <a:off x="3733920" y="3200400"/>
              <a:ext cx="1600200" cy="139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KONFLIK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DAN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INTEGRASI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SOSIAL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209680" y="2514600"/>
              <a:ext cx="990720" cy="838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34120" y="2057400"/>
              <a:ext cx="1600200" cy="1219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D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86200" y="5257800"/>
              <a:ext cx="121932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SOSIAL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95280" y="175248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9480" y="2362320"/>
              <a:ext cx="144792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FAKTOR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YEBAB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9480" y="3200400"/>
              <a:ext cx="144792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BENTU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143000" y="388620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162920" y="1600200"/>
              <a:ext cx="160020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TEOR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162920" y="2895480"/>
              <a:ext cx="167616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CAR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NDAL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D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62720" y="487692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057400" y="5181480"/>
              <a:ext cx="137160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BENTU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86400" y="5638680"/>
              <a:ext cx="167652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FAKTOR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DORO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2823000">
              <a:off x="5090760" y="3193920"/>
              <a:ext cx="609480" cy="266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17352000">
              <a:off x="3200400" y="3123720"/>
              <a:ext cx="53316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91120" y="4800600"/>
              <a:ext cx="6858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09680" y="2209680"/>
              <a:ext cx="381240" cy="304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057400" y="2743200"/>
              <a:ext cx="152280" cy="76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57040" y="3200400"/>
              <a:ext cx="304920" cy="228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2209680" y="3352680"/>
              <a:ext cx="533520" cy="609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29000" y="5486400"/>
              <a:ext cx="457200" cy="152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5029200" y="5181120"/>
              <a:ext cx="609480" cy="304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029200" y="5867280"/>
              <a:ext cx="457200" cy="152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4320" y="2590920"/>
              <a:ext cx="99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924680" y="2133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/>
          </p:nvPr>
        </p:nvSpPr>
        <p:spPr>
          <a:xfrm>
            <a:off x="2743200" y="1905120"/>
            <a:ext cx="64008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R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 TERJADINYA INTEGRASI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 YANG MEMENGARUHI CEPAT LAMBAT INTEGRASI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0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/>
          <p:nvPr/>
        </p:nvSpPr>
        <p:spPr>
          <a:xfrm>
            <a:off x="2743200" y="457200"/>
            <a:ext cx="5105520" cy="1219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ydnie"/>
                <a:ea typeface="Arial"/>
              </a:rPr>
              <a:t>INTEGRASI SOSIA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2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2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178760" cy="103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ENGERTIAN INTEGRASI SOSIAL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838080" y="2286000"/>
            <a:ext cx="7392960" cy="327672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38160">
            <a:solidFill>
              <a:srgbClr val="969696"/>
            </a:solidFill>
            <a:miter/>
          </a:ln>
          <a:effectLst>
            <a:outerShdw dist="153753" dir="2700000" blurRad="0" rotWithShape="0">
              <a:srgbClr val="666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INTEGRASI SOSIAL= proses penyesuaian unsur-unsur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yang berbeda dalam masyarakat menjadi satu kesatuan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Unsur yang berbeda tersebut meliputi perbeda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kedudukan sosial, ras, etinik, agama, bahasa, nilai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dan norm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40320" cy="1143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YARAT TERJADINYA INTEGRASI SOSIAL (WILLIAM F. OGBURN)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Anggota masyarakat merasa bahwa mereka berhasil saling mengisi kebutuhan mereka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Times New Roman"/>
              </a:rPr>
              <a:t>Masyarakat berhasil menciptakan kesepakatan (consensus) bersama mengenai norma dan nilai sosial yang dilestarikan dan dijadikan pedoman.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383ad"/>
                </a:solidFill>
                <a:latin typeface="Times New Roman"/>
              </a:rPr>
              <a:t>Nilai dan norma berlaku lama dan tidak berubah serta dijalankan secara konsisten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4360" cy="9334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FAKTOR YANG MEMENGARUHI LAJU INTEGRASI SOS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838080" y="1676520"/>
            <a:ext cx="7391520" cy="4495680"/>
            <a:chOff x="838080" y="1676520"/>
            <a:chExt cx="7391520" cy="4495680"/>
          </a:xfrm>
        </p:grpSpPr>
        <p:sp>
          <p:nvSpPr>
            <p:cNvPr id="2248" name=""/>
            <p:cNvSpPr/>
            <p:nvPr/>
          </p:nvSpPr>
          <p:spPr>
            <a:xfrm>
              <a:off x="3276720" y="3429000"/>
              <a:ext cx="243828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lg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INTEG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OSIAL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38080" y="33526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omogen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lompok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781680" y="33526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bil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eografis 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33920" y="1676520"/>
              <a:ext cx="144756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kuran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lompok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657600" y="49528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fektif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munikasi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3581280"/>
              <a:ext cx="3049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62520" y="3048120"/>
              <a:ext cx="7617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590920" y="3581280"/>
              <a:ext cx="380880" cy="7621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038480" y="4572000"/>
              <a:ext cx="60984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6859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TUK INTEGRASI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685800" y="1828800"/>
            <a:ext cx="7467480" cy="4343400"/>
            <a:chOff x="685800" y="1828800"/>
            <a:chExt cx="7467480" cy="4343400"/>
          </a:xfrm>
        </p:grpSpPr>
        <p:sp>
          <p:nvSpPr>
            <p:cNvPr id="2259" name=""/>
            <p:cNvSpPr/>
            <p:nvPr/>
          </p:nvSpPr>
          <p:spPr>
            <a:xfrm>
              <a:off x="1143000" y="1981080"/>
              <a:ext cx="1828800" cy="1219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SIMIL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562720" y="1828800"/>
              <a:ext cx="228600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KULTU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5800" y="3962520"/>
              <a:ext cx="2971800" cy="22096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ffffff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roses sosial yang ditandai deng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adanya usaha untuk mengurangi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erbedaan yang ada di antara 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atau kelompok dalam masyarakat.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Tidak lagi ada perbedaan antar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karena batasan diantara mereka telah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hila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Rumus: A+B=C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81480" y="3962520"/>
              <a:ext cx="2971800" cy="22096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ffffff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rose penerimaan unsur buday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baru namun tidak menghilangk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unsur budaya yang telah dianutnya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Rumus: A+B=AB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24480" y="3429000"/>
              <a:ext cx="609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676520" y="335268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733920" y="2209680"/>
              <a:ext cx="1295280" cy="685800"/>
            </a:xfrm>
            <a:prstGeom prst="leftRightArrow">
              <a:avLst>
                <a:gd name="adj1" fmla="val 50000"/>
                <a:gd name="adj2" fmla="val 3759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KTOR PENDORONG INTEGRASI SOS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solidFill>
            <a:srgbClr val="292929"/>
          </a:solidFill>
          <a:ln w="12708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leransi terhadap kelompok berbeda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esempatan yang seimbang dalam ekonomi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kap saling menghargai orang lain dengan kebudayaannya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kap terbuka dari golongan yang berkuasa dalam masyarakat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amaan dalam unsur kebudayaan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d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506000" cy="685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ddd4"/>
                </a:solidFill>
                <a:latin typeface="Garamond"/>
              </a:rPr>
              <a:t>ANALISI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572000"/>
          </a:xfrm>
          <a:prstGeom prst="rect">
            <a:avLst/>
          </a:prstGeom>
          <a:solidFill>
            <a:srgbClr val="e2ddd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Konflik negara dengan GAM terselesaikan dengan ditandatanganinya Perjanjian Helsinski. Yang selanjutnya proses rekonstruksi Aceh dilakukan oleh Indonesia, GAM, dan AMM (</a:t>
            </a:r>
            <a:r>
              <a:rPr b="0" i="1" lang="en-US" sz="2800" spc="-1" strike="noStrike">
                <a:solidFill>
                  <a:srgbClr val="0000cc"/>
                </a:solidFill>
                <a:latin typeface="Garamond"/>
              </a:rPr>
              <a:t>Aceh Monitoring Mission</a:t>
            </a: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enurut anda apakah proses ini memunculkan integrasi sosial? Jelaskan! Analisa menggunakan konsep yang telah diberik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5" name=""/>
          <p:cNvGrpSpPr/>
          <p:nvPr/>
        </p:nvGrpSpPr>
        <p:grpSpPr>
          <a:xfrm>
            <a:off x="457200" y="228600"/>
            <a:ext cx="8229600" cy="6286680"/>
            <a:chOff x="457200" y="228600"/>
            <a:chExt cx="8229600" cy="6286680"/>
          </a:xfrm>
        </p:grpSpPr>
        <p:sp>
          <p:nvSpPr>
            <p:cNvPr id="2126" name=""/>
            <p:cNvSpPr/>
            <p:nvPr/>
          </p:nvSpPr>
          <p:spPr>
            <a:xfrm>
              <a:off x="3352680" y="228600"/>
              <a:ext cx="251460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imes New Roman"/>
                </a:rPr>
                <a:t>Sosiologis</a:t>
              </a: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: konflik=proses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antara 2/lebih orang y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berusaha menyingkirk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pihak lain dengan jalan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menghancurkan atau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membuat tidak berday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9480" y="1523880"/>
              <a:ext cx="251460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Soejono Seokanto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roses memenuhi tuju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dengan cara menent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ihak lawan disertai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ancaman/kekeras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57200" y="3733920"/>
              <a:ext cx="2590920" cy="16761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Lewis a.Coser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erjuangan nilai, kekuasaan d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sumber daya yang bersifat langk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dengan maksud menetralkan,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mencederaia atau melenyapkan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law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276720" y="4724280"/>
              <a:ext cx="259056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Gillin dan Gillin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roses interaksi y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berlawan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Times New Roman"/>
                </a:rPr>
                <a:t>oppositional process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248520" y="2133720"/>
              <a:ext cx="2438280" cy="990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Kamus Besar Bahasa Indonesi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konflik=percecokan,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erselisihan atau pertentang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248520" y="3733920"/>
              <a:ext cx="2438280" cy="990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Bahasa Latin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Times New Roman"/>
                </a:rPr>
                <a:t>configer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artinya saling memukul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809880" y="2590920"/>
              <a:ext cx="1600200" cy="160020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6200000">
              <a:off x="6095880" y="685440"/>
              <a:ext cx="1371600" cy="1219320"/>
            </a:xfrm>
            <a:custGeom>
              <a:avLst/>
              <a:gdLst>
                <a:gd name="textAreaLeft" fmla="*/ 457200 w 1371600"/>
                <a:gd name="textAreaRight" fmla="*/ 1175040 w 1371600"/>
                <a:gd name="textAreaTop" fmla="*/ 702360 h 1219320"/>
                <a:gd name="textAreaBottom" fmla="*/ 10443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10765200">
              <a:off x="1522080" y="609480"/>
              <a:ext cx="1446120" cy="835200"/>
            </a:xfrm>
            <a:custGeom>
              <a:avLst/>
              <a:gdLst>
                <a:gd name="textAreaLeft" fmla="*/ 482040 w 1446120"/>
                <a:gd name="textAreaRight" fmla="*/ 1238760 w 1446120"/>
                <a:gd name="textAreaTop" fmla="*/ 451440 h 835200"/>
                <a:gd name="textAreaBottom" fmla="*/ 71532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772"/>
                  </a:moveTo>
                  <a:lnTo>
                    <a:pt x="11672" y="14772"/>
                  </a:lnTo>
                  <a:lnTo>
                    <a:pt x="11672" y="7200"/>
                  </a:lnTo>
                  <a:lnTo>
                    <a:pt x="8572" y="7200"/>
                  </a:lnTo>
                  <a:lnTo>
                    <a:pt x="15086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81680" y="3276720"/>
              <a:ext cx="83844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19320" y="3276720"/>
              <a:ext cx="99036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771200" y="5315040"/>
              <a:ext cx="838440" cy="1562040"/>
            </a:xfrm>
            <a:custGeom>
              <a:avLst/>
              <a:gdLst>
                <a:gd name="textAreaLeft" fmla="*/ 279360 w 838440"/>
                <a:gd name="textAreaRight" fmla="*/ 718200 w 838440"/>
                <a:gd name="textAreaTop" fmla="*/ 899640 h 1562040"/>
                <a:gd name="textAreaBottom" fmla="*/ 133812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72200" y="4952880"/>
              <a:ext cx="1752480" cy="838440"/>
            </a:xfrm>
            <a:custGeom>
              <a:avLst/>
              <a:gdLst>
                <a:gd name="textAreaLeft" fmla="*/ 584280 w 1752480"/>
                <a:gd name="textAreaRight" fmla="*/ 1501200 w 1752480"/>
                <a:gd name="textAreaTop" fmla="*/ 482760 h 838440"/>
                <a:gd name="textAreaBottom" fmla="*/ 7182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9" name=""/>
          <p:cNvGrpSpPr/>
          <p:nvPr/>
        </p:nvGrpSpPr>
        <p:grpSpPr>
          <a:xfrm>
            <a:off x="228600" y="304920"/>
            <a:ext cx="7924680" cy="6095880"/>
            <a:chOff x="228600" y="304920"/>
            <a:chExt cx="7924680" cy="6095880"/>
          </a:xfrm>
        </p:grpSpPr>
        <p:sp>
          <p:nvSpPr>
            <p:cNvPr id="2140" name=""/>
            <p:cNvSpPr/>
            <p:nvPr/>
          </p:nvSpPr>
          <p:spPr>
            <a:xfrm>
              <a:off x="457200" y="304920"/>
              <a:ext cx="3048120" cy="2361960"/>
            </a:xfrm>
            <a:prstGeom prst="wedgeEllipseCallout">
              <a:avLst>
                <a:gd name="adj1" fmla="val -44217"/>
                <a:gd name="adj2" fmla="val 4502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336699"/>
              </a:solidFill>
              <a:miter/>
            </a:ln>
            <a:effectLst>
              <a:outerShdw dist="107932" dir="135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Gejala disintegrasi dan disorganisasi dalam masyarakat: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Ketidaksepahaman dalam masyarkat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Norma sosial melemah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Pertentangan norm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Sanksi lemah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Tindakan bertentangan dengan norm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28600" y="2819520"/>
              <a:ext cx="3886200" cy="16002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AKTOR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NYEBA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62720" y="3808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TAR INDIVIDU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62720" y="19810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BUDAY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62720" y="35812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PENTING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86400" y="5181480"/>
              <a:ext cx="259092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UBAH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SIAL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1120" y="1066680"/>
              <a:ext cx="0" cy="487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191120" y="106668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91120" y="243828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191120" y="411480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191120" y="594360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e4f2"/>
            </a:gs>
            <a:gs pos="50000">
              <a:srgbClr val="ffffff"/>
            </a:gs>
            <a:gs pos="100000">
              <a:srgbClr val="d6e4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716040"/>
            <a:ext cx="53262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TUK KONFLIK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WIS A. CO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HREND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ERJONO SOEKA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SIKOLOGI SOSIAL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URSULA LE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088040" cy="781200"/>
          </a:xfrm>
          <a:prstGeom prst="rect">
            <a:avLst/>
          </a:prstGeom>
          <a:solidFill>
            <a:srgbClr val="33333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WIS A. COSER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1143000" y="1981080"/>
            <a:ext cx="6629400" cy="3733920"/>
            <a:chOff x="1143000" y="1981080"/>
            <a:chExt cx="6629400" cy="3733920"/>
          </a:xfrm>
        </p:grpSpPr>
        <p:sp>
          <p:nvSpPr>
            <p:cNvPr id="2159" name=""/>
            <p:cNvSpPr/>
            <p:nvPr/>
          </p:nvSpPr>
          <p:spPr>
            <a:xfrm>
              <a:off x="1143000" y="2979720"/>
              <a:ext cx="1905120" cy="1809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LIST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67280" y="2979720"/>
              <a:ext cx="1905120" cy="1809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N-REALIST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371600" y="19810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N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371600" y="51814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OUT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9920" y="19810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N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9920" y="51814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OUT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81280" y="3124080"/>
              <a:ext cx="1676520" cy="1600200"/>
            </a:xfrm>
            <a:custGeom>
              <a:avLst/>
              <a:gdLst>
                <a:gd name="textAreaLeft" fmla="*/ 419040 w 1676520"/>
                <a:gd name="textAreaRight" fmla="*/ 1257480 w 16765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4876920"/>
              <a:ext cx="60984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77120" y="4876920"/>
              <a:ext cx="6094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28800" y="2590920"/>
              <a:ext cx="5335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553080" y="2590920"/>
              <a:ext cx="5335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6840" y="563040"/>
            <a:ext cx="750564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HREND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33520" y="3429000"/>
            <a:ext cx="190476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KONFL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352680" y="17524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/dalam peran sos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352680" y="28954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kelompok sos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352680" y="4114800"/>
            <a:ext cx="4419720" cy="7621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kelompok yang terorganisir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n tida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352680" y="54100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satuan nasional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438280" y="3733920"/>
            <a:ext cx="381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819520" y="2209680"/>
            <a:ext cx="0" cy="3505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819520" y="5715000"/>
            <a:ext cx="533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819520" y="457200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2819520" y="335268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2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5650200" cy="77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SOERJONO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OEKANTO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3809880" y="2361960"/>
            <a:ext cx="4267440" cy="3994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6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prib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ra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kelas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interna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990720" y="1600200"/>
            <a:ext cx="7404120" cy="5105520"/>
          </a:xfrm>
          <a:custGeom>
            <a:avLst/>
            <a:gdLst/>
            <a:ahLst/>
            <a:rect l="l" t="t" r="r" b="b"/>
            <a:pathLst>
              <a:path w="4040" h="3040">
                <a:moveTo>
                  <a:pt x="152" y="160"/>
                </a:moveTo>
                <a:cubicBezTo>
                  <a:pt x="280" y="136"/>
                  <a:pt x="712" y="64"/>
                  <a:pt x="872" y="64"/>
                </a:cubicBezTo>
                <a:cubicBezTo>
                  <a:pt x="1032" y="64"/>
                  <a:pt x="1008" y="152"/>
                  <a:pt x="1112" y="160"/>
                </a:cubicBezTo>
                <a:cubicBezTo>
                  <a:pt x="1216" y="168"/>
                  <a:pt x="1384" y="136"/>
                  <a:pt x="1496" y="112"/>
                </a:cubicBezTo>
                <a:cubicBezTo>
                  <a:pt x="1608" y="88"/>
                  <a:pt x="1656" y="16"/>
                  <a:pt x="1784" y="16"/>
                </a:cubicBezTo>
                <a:cubicBezTo>
                  <a:pt x="1912" y="16"/>
                  <a:pt x="2112" y="112"/>
                  <a:pt x="2264" y="112"/>
                </a:cubicBezTo>
                <a:cubicBezTo>
                  <a:pt x="2416" y="112"/>
                  <a:pt x="2592" y="32"/>
                  <a:pt x="2696" y="16"/>
                </a:cubicBezTo>
                <a:cubicBezTo>
                  <a:pt x="2800" y="0"/>
                  <a:pt x="2808" y="8"/>
                  <a:pt x="2888" y="16"/>
                </a:cubicBezTo>
                <a:cubicBezTo>
                  <a:pt x="2968" y="24"/>
                  <a:pt x="3096" y="40"/>
                  <a:pt x="3176" y="64"/>
                </a:cubicBezTo>
                <a:cubicBezTo>
                  <a:pt x="3256" y="88"/>
                  <a:pt x="3288" y="104"/>
                  <a:pt x="3368" y="160"/>
                </a:cubicBezTo>
                <a:cubicBezTo>
                  <a:pt x="3448" y="216"/>
                  <a:pt x="3584" y="328"/>
                  <a:pt x="3656" y="400"/>
                </a:cubicBezTo>
                <a:cubicBezTo>
                  <a:pt x="3728" y="472"/>
                  <a:pt x="3760" y="520"/>
                  <a:pt x="3800" y="592"/>
                </a:cubicBezTo>
                <a:cubicBezTo>
                  <a:pt x="3840" y="664"/>
                  <a:pt x="3864" y="768"/>
                  <a:pt x="3896" y="832"/>
                </a:cubicBezTo>
                <a:cubicBezTo>
                  <a:pt x="3928" y="896"/>
                  <a:pt x="3968" y="920"/>
                  <a:pt x="3992" y="976"/>
                </a:cubicBezTo>
                <a:cubicBezTo>
                  <a:pt x="4016" y="1032"/>
                  <a:pt x="4040" y="1128"/>
                  <a:pt x="4040" y="1168"/>
                </a:cubicBezTo>
                <a:cubicBezTo>
                  <a:pt x="4040" y="1208"/>
                  <a:pt x="4032" y="1192"/>
                  <a:pt x="3992" y="1216"/>
                </a:cubicBezTo>
                <a:cubicBezTo>
                  <a:pt x="3952" y="1240"/>
                  <a:pt x="3856" y="1288"/>
                  <a:pt x="3800" y="1312"/>
                </a:cubicBezTo>
                <a:cubicBezTo>
                  <a:pt x="3744" y="1336"/>
                  <a:pt x="3680" y="1344"/>
                  <a:pt x="3656" y="1360"/>
                </a:cubicBezTo>
                <a:cubicBezTo>
                  <a:pt x="3632" y="1376"/>
                  <a:pt x="3640" y="1376"/>
                  <a:pt x="3656" y="1408"/>
                </a:cubicBezTo>
                <a:cubicBezTo>
                  <a:pt x="3672" y="1440"/>
                  <a:pt x="3728" y="1496"/>
                  <a:pt x="3752" y="1552"/>
                </a:cubicBezTo>
                <a:cubicBezTo>
                  <a:pt x="3776" y="1608"/>
                  <a:pt x="3840" y="1696"/>
                  <a:pt x="3800" y="1744"/>
                </a:cubicBezTo>
                <a:cubicBezTo>
                  <a:pt x="3760" y="1792"/>
                  <a:pt x="3584" y="1832"/>
                  <a:pt x="3512" y="1840"/>
                </a:cubicBezTo>
                <a:cubicBezTo>
                  <a:pt x="3440" y="1848"/>
                  <a:pt x="3408" y="1760"/>
                  <a:pt x="3368" y="1792"/>
                </a:cubicBezTo>
                <a:cubicBezTo>
                  <a:pt x="3328" y="1824"/>
                  <a:pt x="3280" y="1952"/>
                  <a:pt x="3272" y="2032"/>
                </a:cubicBezTo>
                <a:cubicBezTo>
                  <a:pt x="3264" y="2112"/>
                  <a:pt x="3312" y="2208"/>
                  <a:pt x="3320" y="2272"/>
                </a:cubicBezTo>
                <a:cubicBezTo>
                  <a:pt x="3328" y="2336"/>
                  <a:pt x="3344" y="2384"/>
                  <a:pt x="3320" y="2416"/>
                </a:cubicBezTo>
                <a:cubicBezTo>
                  <a:pt x="3296" y="2448"/>
                  <a:pt x="3248" y="2456"/>
                  <a:pt x="3176" y="2464"/>
                </a:cubicBezTo>
                <a:cubicBezTo>
                  <a:pt x="3104" y="2472"/>
                  <a:pt x="2984" y="2464"/>
                  <a:pt x="2888" y="2464"/>
                </a:cubicBezTo>
                <a:cubicBezTo>
                  <a:pt x="2792" y="2464"/>
                  <a:pt x="2648" y="2448"/>
                  <a:pt x="2600" y="2464"/>
                </a:cubicBezTo>
                <a:cubicBezTo>
                  <a:pt x="2552" y="2480"/>
                  <a:pt x="2600" y="2512"/>
                  <a:pt x="2600" y="2560"/>
                </a:cubicBezTo>
                <a:cubicBezTo>
                  <a:pt x="2600" y="2608"/>
                  <a:pt x="2608" y="2704"/>
                  <a:pt x="2600" y="2752"/>
                </a:cubicBezTo>
                <a:cubicBezTo>
                  <a:pt x="2592" y="2800"/>
                  <a:pt x="2608" y="2808"/>
                  <a:pt x="2552" y="2848"/>
                </a:cubicBezTo>
                <a:cubicBezTo>
                  <a:pt x="2496" y="2888"/>
                  <a:pt x="2368" y="2960"/>
                  <a:pt x="2264" y="2992"/>
                </a:cubicBezTo>
                <a:cubicBezTo>
                  <a:pt x="2160" y="3024"/>
                  <a:pt x="2024" y="3040"/>
                  <a:pt x="1928" y="3040"/>
                </a:cubicBezTo>
                <a:cubicBezTo>
                  <a:pt x="1832" y="3040"/>
                  <a:pt x="1776" y="3000"/>
                  <a:pt x="1688" y="2992"/>
                </a:cubicBezTo>
                <a:cubicBezTo>
                  <a:pt x="1600" y="2984"/>
                  <a:pt x="1488" y="2992"/>
                  <a:pt x="1400" y="2992"/>
                </a:cubicBezTo>
                <a:cubicBezTo>
                  <a:pt x="1312" y="2992"/>
                  <a:pt x="1256" y="2992"/>
                  <a:pt x="1160" y="2992"/>
                </a:cubicBezTo>
                <a:cubicBezTo>
                  <a:pt x="1064" y="2992"/>
                  <a:pt x="928" y="2992"/>
                  <a:pt x="824" y="2992"/>
                </a:cubicBezTo>
                <a:cubicBezTo>
                  <a:pt x="720" y="2992"/>
                  <a:pt x="608" y="2992"/>
                  <a:pt x="536" y="2992"/>
                </a:cubicBezTo>
                <a:cubicBezTo>
                  <a:pt x="464" y="2992"/>
                  <a:pt x="432" y="2992"/>
                  <a:pt x="392" y="2992"/>
                </a:cubicBezTo>
                <a:cubicBezTo>
                  <a:pt x="352" y="2992"/>
                  <a:pt x="328" y="3024"/>
                  <a:pt x="296" y="2992"/>
                </a:cubicBezTo>
                <a:cubicBezTo>
                  <a:pt x="264" y="2960"/>
                  <a:pt x="216" y="2856"/>
                  <a:pt x="200" y="2800"/>
                </a:cubicBezTo>
                <a:cubicBezTo>
                  <a:pt x="184" y="2744"/>
                  <a:pt x="200" y="2712"/>
                  <a:pt x="200" y="2656"/>
                </a:cubicBezTo>
                <a:cubicBezTo>
                  <a:pt x="200" y="2600"/>
                  <a:pt x="208" y="2520"/>
                  <a:pt x="200" y="2464"/>
                </a:cubicBezTo>
                <a:cubicBezTo>
                  <a:pt x="192" y="2408"/>
                  <a:pt x="168" y="2368"/>
                  <a:pt x="152" y="2320"/>
                </a:cubicBezTo>
                <a:cubicBezTo>
                  <a:pt x="136" y="2272"/>
                  <a:pt x="112" y="2224"/>
                  <a:pt x="104" y="2176"/>
                </a:cubicBezTo>
                <a:cubicBezTo>
                  <a:pt x="96" y="2128"/>
                  <a:pt x="88" y="2080"/>
                  <a:pt x="104" y="2032"/>
                </a:cubicBezTo>
                <a:cubicBezTo>
                  <a:pt x="120" y="1984"/>
                  <a:pt x="176" y="1936"/>
                  <a:pt x="200" y="1888"/>
                </a:cubicBezTo>
                <a:cubicBezTo>
                  <a:pt x="224" y="1840"/>
                  <a:pt x="256" y="1792"/>
                  <a:pt x="248" y="1744"/>
                </a:cubicBezTo>
                <a:cubicBezTo>
                  <a:pt x="240" y="1696"/>
                  <a:pt x="184" y="1656"/>
                  <a:pt x="152" y="1600"/>
                </a:cubicBezTo>
                <a:cubicBezTo>
                  <a:pt x="120" y="1544"/>
                  <a:pt x="72" y="1456"/>
                  <a:pt x="56" y="1408"/>
                </a:cubicBezTo>
                <a:cubicBezTo>
                  <a:pt x="40" y="1360"/>
                  <a:pt x="48" y="1352"/>
                  <a:pt x="56" y="1312"/>
                </a:cubicBezTo>
                <a:cubicBezTo>
                  <a:pt x="64" y="1272"/>
                  <a:pt x="88" y="1216"/>
                  <a:pt x="104" y="1168"/>
                </a:cubicBezTo>
                <a:cubicBezTo>
                  <a:pt x="120" y="1120"/>
                  <a:pt x="144" y="1072"/>
                  <a:pt x="152" y="1024"/>
                </a:cubicBezTo>
                <a:cubicBezTo>
                  <a:pt x="160" y="976"/>
                  <a:pt x="168" y="928"/>
                  <a:pt x="152" y="880"/>
                </a:cubicBezTo>
                <a:cubicBezTo>
                  <a:pt x="136" y="832"/>
                  <a:pt x="80" y="784"/>
                  <a:pt x="56" y="736"/>
                </a:cubicBezTo>
                <a:cubicBezTo>
                  <a:pt x="32" y="688"/>
                  <a:pt x="16" y="648"/>
                  <a:pt x="8" y="592"/>
                </a:cubicBezTo>
                <a:cubicBezTo>
                  <a:pt x="0" y="536"/>
                  <a:pt x="0" y="448"/>
                  <a:pt x="8" y="400"/>
                </a:cubicBezTo>
                <a:cubicBezTo>
                  <a:pt x="16" y="352"/>
                  <a:pt x="40" y="336"/>
                  <a:pt x="56" y="304"/>
                </a:cubicBezTo>
                <a:cubicBezTo>
                  <a:pt x="72" y="272"/>
                  <a:pt x="88" y="232"/>
                  <a:pt x="104" y="208"/>
                </a:cubicBezTo>
                <a:cubicBezTo>
                  <a:pt x="120" y="184"/>
                  <a:pt x="24" y="184"/>
                  <a:pt x="152" y="160"/>
                </a:cubicBez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54068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RSULA LEH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PSIKOLOGI SOSI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609444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orang tu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anak sendir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sanak sauda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orang l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suami/istr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i sekola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pemilihan ker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agam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pribad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1:00:06Z</dcterms:created>
  <dc:creator>.</dc:creator>
  <dc:description/>
  <dc:language>en-US</dc:language>
  <cp:lastModifiedBy>Doly</cp:lastModifiedBy>
  <dcterms:modified xsi:type="dcterms:W3CDTF">2008-03-28T05:23:02Z</dcterms:modified>
  <cp:revision>27</cp:revision>
  <dc:subject/>
  <dc:title>BAB I</dc:title>
</cp:coreProperties>
</file>