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1AC1-1914-4230-97E2-21816AC4A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ACC4-27BB-451F-B311-D99A97CD3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74E-2D06-4F2B-BDA4-E55D50618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4377-4003-4A6F-AFCB-E894DB4FB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D60-A478-4E26-9A88-1237FD517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9037-144A-487B-AED0-DBD8D4EAA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04E-9EB0-40E4-AC96-193CD06A8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gan lupa kunjungi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0516-846C-4D92-A121-C3A3B3C3B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89E2-C0B7-48C2-8723-8806FEE73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689-DC74-487C-A4E6-9439F5BD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3B8-EECB-4DAF-A3A4-91FF05F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5C10E-5912-4A3A-AB12-198A5077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94823-8401-4A4B-9E33-FBD205FE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748F-5856-4196-A96B-3035CEB9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5A12D-07C4-43AE-818E-BAE81731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435EA-468F-4348-9529-C3C54D2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833CB-9796-4C71-A7CA-ECE8272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CD258-2DA8-4CC4-9FFD-AF186F5D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C1592-38F2-4292-A9D2-85F80F80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4CD4D-34F3-45AE-8AAC-B0E67B6C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F57E7-50AA-4DDB-9D19-A48D82EA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1EB-E663-47F3-B17C-AD6D0D41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F4F1C-8440-4CD6-9A2E-48E8AA8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B459E-5FD8-475F-9DE8-B55A638B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EA128-582F-4ED8-A86A-A014D349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F476D-E11E-4BAE-A557-7E753790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4C4AF-F87F-4A51-9B8A-F8BDB78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443CE-6C30-4707-BD47-7F5A1132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DBCC5-549C-4A96-B9A3-8E63A4AD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9DB3D-2CC3-4F0B-8C64-797FAC70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7D7F9-4444-4156-9C6E-DB052A43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2B5A4-84BA-4134-BD6C-2C5E581F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9D8-6566-4949-A3E4-A3EE58BB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87F02-3E55-463F-9AE2-53D41E32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7100-AB9E-473C-AC11-3F6E0A72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38811-8C6B-4780-B59D-3F11B2CC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B2C79-2EE5-415A-8957-3662AF7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76439-ED20-45E6-A85F-A7CC09C8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6C60-2A4E-4FA3-ADE0-150FBEEF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E497B-97EC-4C0B-8FD9-6742AB87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5076F-2BC7-43CE-81AD-988AC0CD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CF48-0EA3-4AE4-8AB8-7C50F286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01B25-7479-415C-89E6-84F5127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A28C-7FE7-45DE-88F9-23AEBA66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ED6E5-314C-4427-BE32-11CDB1C6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8BC70-31BC-4BD3-BE64-9CB783A2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22F75-C7A7-4B60-BE49-AE4DDA82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8E0D7-FB20-4889-B4CF-76BDE4E3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B8857-0087-4674-B55D-65ABCDBA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B8249-A477-4CD8-B107-17C9926B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10B60-E38C-4A91-A0AD-DD8428AD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809C0-92D2-44B7-9A0A-B885F93D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516AA-9C4B-4C99-B900-1521BF02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19288-C021-4B3C-B1B9-31098C8E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7E24-23F4-40F2-A0F1-9221698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368FD-9FE9-44D2-B21E-2634FC6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E3C62-0792-4773-841A-C0D4632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20A5A-006F-46CA-9872-C4E0C117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45E7D-1CEE-4A53-8E4E-3A2B2691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80348-932F-454D-99A8-5F9096DF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06001-194F-4998-9879-CDCA623A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C6A6B-7F37-4762-B830-4EC59EFA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AA7DC-97C1-465B-B46E-5A209293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1BC17-CA81-496B-B30C-954976B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62E57-920D-43AA-95C2-CA35B03B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4C3F-3CA3-4C67-A884-4CD60FEA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4711F-3316-480F-B5C7-AFC74AAE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E4F2C-0030-456B-BA1A-C2A9318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D37BB-11AA-4450-B01A-6F47AB6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5454C-E73C-46AE-A660-98277F3F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A8290-2237-4A96-9CCE-B7E6B803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85394-9C21-49D7-9FBC-10922B5D8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9E043-9350-4D3D-8C98-088CA93F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357F7-4243-4B8F-83E3-D908DBE0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6B193-0275-474A-B992-E38DAE91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DC5DC1-A270-413B-9249-C2DE1A2E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C20C-7801-4929-A725-1A32DC37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CBD02-DAE1-435C-90BD-16A5AF3E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2EC88-2AFE-45BC-B129-381D7357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80F601-69CF-4C97-9BD9-739030C3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56F8A-4656-4B50-9A1A-3407831F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335D4-E897-4855-A142-CB97B457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34CF8-F494-468D-8BBB-D5D8E1A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2B51B-4B90-4D13-9EDA-1A6EB79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27DB6-6091-49A3-968C-D8948F2E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5C227-01D3-46DF-B869-856C9E72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57702-CFD3-4B7B-B707-3E007656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10F4-572A-423C-ACC5-96DCAF79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FFB24E-CBE4-41C9-9D9C-DFAE31B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C4FFF-FD07-4389-A237-CBDB0F05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56F8B-0C6C-4CB7-891E-D8671D9D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5F51C-D30F-44E4-8DB3-5F91C41B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FB658-CB8D-4A11-9326-5757C09D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2802E5-5C06-4BFE-910E-C8234FC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A2EF9-5DD8-4C4D-8217-B881590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F3215-ABF5-4DC3-8D32-F0BE8330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3CC0E-D9C4-46EF-B3FB-B2C382EC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B4E7F-1CF9-4E43-8B38-428F4673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106-3348-43C2-A103-75F76881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75081-979F-4583-B885-F9F61A70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AE4065-3D52-4EFE-9357-FE308757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ECCB8-0FF2-48FE-9AAF-9027976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98AE5-25A6-4F54-B722-C91EC72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7BA79-1952-41DF-BDF9-D0018D8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35D0A-5CF1-4E1C-837B-F588D1E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3FEF7-1343-4698-B9A7-E4D036D3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7F367-885F-4D18-9CA5-D8F2DB1D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93AED-1847-47BE-9E33-531F18F4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EE9FB-2027-4902-81C4-8BA450D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B70F-8749-46AD-9009-44B1218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A5F1EC-058F-4F2D-8F63-29C5D5F3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37DAC-71CF-4BFE-A084-1CD99B6C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416B5-385B-4C29-9BAC-AA1F2655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3162D-C08B-4431-AB8E-28748687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C9F60-9DD6-44AF-95E4-82D2BFB7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591B6-CBC4-4197-9169-C2DB95F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8FB33-4CDE-4C6D-B44A-FDE376E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55668-EBE2-4738-8D81-F0A8EE5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6C02A-18B2-42CF-8810-2729ED4C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E1E81-3EED-43F6-B5B0-1819E01C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06A-E39F-4455-A48C-02EB9340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343-B67F-47E0-80C4-18C9C169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4421E-44E0-40E5-8BA4-47F25689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DDDBC-4075-46D7-933E-731FB65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2D8AC-D5E4-44FF-8314-B6158EA7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AB5D8-4D6E-45C1-A0F6-8CEDC5C4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66E543-4551-41AA-9591-9B6A06B6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F5F-3328-40CC-9406-C7C0C389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4A62-EDA2-45B3-A051-6BF43652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B0A3-4033-4E6D-8694-C8EFE89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3E75-E1A2-4D05-9538-2B8E03EA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3B0B-A059-4C8F-BD4E-DD63D1CB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B616-1C10-42C5-9A60-B3B64B6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9B2C-1454-4AC5-B023-3764EBF8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8D31-6E50-4067-93C5-2CCE455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33B1-3A97-4924-BCB3-6FC048FD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0617-E1EE-4FD7-BE76-9077D8DE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9502-38C0-4396-9108-8E25F26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F6F2-D9DC-4554-86CB-BD842929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DA79-4E15-4893-86C4-26F88D97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6CF1-BE68-4095-BBDD-6438CC5E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10C0-DEF5-45A1-A635-56BFB198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5A54-65AE-4F7D-9547-ECBF034D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C97E3-9079-4F37-9BF2-881CE277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65D4B-E72E-4615-954E-1CBB6980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4D50-F25E-4CFB-A32B-C3BF5C52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8140-F974-4D1C-B01A-CCF61BA1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489-4444-4469-B9D9-B35F5A2E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9DAC4-C183-42B8-8E86-FF320C3F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307A-443A-4993-99AB-6C693140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2706-8DB2-4934-B64D-AE959C99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69C14-8BF4-4F92-8B27-81284CF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A749-AE01-4AAA-B1B0-0839A80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43EF-A120-486B-86AF-F29D08B1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09520-545D-480C-9687-BEE3866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A102-682C-41EB-A869-606B1DAF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E265-4449-4454-8590-EC2D133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CC550-FE18-4369-B0B3-28BAD68E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57D-9750-4659-9962-1D85EF4A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B65A-CB86-499B-B5C7-75CF0F19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7FF5F-D265-4007-86DE-1F8E2D3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B7B81-F17A-41FB-8B13-2A4C209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8E88-7A81-4435-B19F-34AB318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591FC-C482-4D91-94FA-7575295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4ED75-0D01-4176-9DFD-4C51BD4D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22256-1CCE-40CF-862E-CF5A6B3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0449F-C830-4CD0-90E3-A258C4C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E8CD-F12E-4647-B9E6-F41E1AA7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95B06-AF42-4B2E-AA59-3F0936B1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2B9-ED50-4D91-8B41-39A72C32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D8117-576E-40E2-82EF-F1BE6DA1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1F830-17FE-4658-828A-7DA27D1A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6131-94FC-42CA-8285-6E65EAF0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6FCBA-3854-4309-B8CD-349CC82D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BADCD-E02F-4707-9193-15AFA948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043CA-6AE1-4EBC-BB91-D17338D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0A935-2278-4626-8439-AADB757C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7C33-1DF4-401B-9DAD-E5C6B48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AF3C-416C-4A63-B7BC-D1CEC65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AD7F3-9A47-4D0D-8ACA-43F1AFE5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196-F28B-405F-A750-F35EB1E7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6F7F-5241-4D5E-B2C7-01C2B419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EECA-068E-4732-AD9F-A567A30D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16CE-DFDE-4E6A-BB4F-4BC68DC3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B0656-646D-4F28-9946-667730A1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6CF40-F312-491A-8B4A-D08BFF4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17B5E-1CCF-4DF0-86F2-86D96148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7E2EF-4517-4BEE-B071-F18F3DA1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AB101-B73A-46F1-B984-3F2204C7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8DADC-1BFF-41BA-85DC-A5F5D2D5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CC51-20F0-45C6-97E3-A04209BA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EA4-AB67-4BA8-8592-507AF30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4ACF-F8B1-4C86-B8D3-6047EAC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BBA56-0631-482D-A280-F9CED6D7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E584E-E10D-47A9-B1C1-E951A177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1B8A-8229-47EF-B9CA-34C4F82E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0BFB-B089-43D4-BE36-1F01A244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125A-7F78-423D-BDC1-5AEDA4D4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EE3AA-4335-4808-BDB5-A55EB5ED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9E93-A81B-4EE6-8E3B-B4AD2100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B2D32-3E48-45D4-AD3C-02B1890D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8E30-3B1C-4CCC-9CC1-3F8C5E1C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9C2-07E0-41C8-8C1E-3E174A6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2EA2A-B7B9-4EB5-B56B-3839BADF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9E546-E0AB-4F17-91D3-8301F872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94D11-6EE9-4E6B-BC66-8610880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80E1-0610-484A-A4A8-C8F433C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2AFB-B07B-42C5-9853-F969485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9E509-D856-4270-BCE2-2C538F2C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4775D-753E-4C33-B99E-060F2D61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BFC7C-E9D6-4577-A9AB-BD3F9C7D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E6331-097B-4C9B-B457-F14AA0C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17409-6D78-490B-B464-8D45BFAF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91B2-50E9-4029-AD10-0540DD76D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4B8-A459-4604-BA3A-4905BB4C0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F5A1-F992-4367-80DA-A6288AF39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28F1-3776-4C26-B2F3-64F2A0C60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9141-2F9A-420C-8AF3-B66C78707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9FA6-E8CE-477D-B915-C75A89C2A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B1AF-725F-4F6E-99F7-7F651F7AC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0194-8D0E-43D1-9FB6-C29B976D4CD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B24F-819F-48E7-B1B9-0C1736B3A23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E9F9-C8D0-4A66-9299-76932E6EF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A54-EE6D-4E7A-ACC7-531E60B3E0E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4745-65EA-437A-AF1A-C56DF7E456C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FAD9-A8B7-42EB-8F08-9BA5F92E66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CFFA-8FF1-4C52-B5A3-FA0D4151B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C55C-B605-45D4-91FB-D348618A8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21A-F4DF-4F28-9FBC-70E6E3B05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4D52-16C0-43DF-A19F-8CB03F4E4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ower-point7.blogspot.com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6" name="TextBox 7"/>
          <p:cNvSpPr/>
          <p:nvPr/>
        </p:nvSpPr>
        <p:spPr>
          <a:xfrm>
            <a:off x="2438280" y="3021120"/>
            <a:ext cx="46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Std Black"/>
              </a:rPr>
              <a:t>LO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1866960" y="1098720"/>
            <a:ext cx="5410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5"/>
          <p:cNvSpPr/>
          <p:nvPr/>
        </p:nvSpPr>
        <p:spPr>
          <a:xfrm>
            <a:off x="1866960" y="1098720"/>
            <a:ext cx="5410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5"/>
          <p:cNvSpPr/>
          <p:nvPr/>
        </p:nvSpPr>
        <p:spPr>
          <a:xfrm>
            <a:off x="1866960" y="1098720"/>
            <a:ext cx="54100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435400"/>
            <a:ext cx="76960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Cooper Black"/>
              </a:rPr>
              <a:t>SELAMAT </a:t>
            </a:r>
            <a:br>
              <a:rPr sz="5900"/>
            </a:br>
            <a:r>
              <a:rPr b="0" lang="en-US" sz="5900" spc="-1" strike="noStrike">
                <a:solidFill>
                  <a:srgbClr val="ff0000"/>
                </a:solidFill>
                <a:latin typeface="Cooper Black"/>
              </a:rPr>
              <a:t>DATA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"/>
          <p:cNvPicPr/>
          <p:nvPr/>
        </p:nvPicPr>
        <p:blipFill>
          <a:blip r:embed="rId2"/>
          <a:stretch/>
        </p:blipFill>
        <p:spPr>
          <a:xfrm>
            <a:off x="4572000" y="-792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3"/>
          <a:stretch/>
        </p:blipFill>
        <p:spPr>
          <a:xfrm>
            <a:off x="2190600" y="1828800"/>
            <a:ext cx="476280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10405E-006 L 0.48437 0.00115 E">
                                      <p:cBhvr>
                                        <p:cTn id="16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10405E-006 L -0.47604 0.00115 E">
                                      <p:cBhvr>
                                        <p:cTn id="18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3124080"/>
            <a:ext cx="72392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 baseline="-25000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Box 3"/>
          <p:cNvSpPr/>
          <p:nvPr/>
        </p:nvSpPr>
        <p:spPr>
          <a:xfrm>
            <a:off x="3809880" y="6113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werpoint ini bisa digunakan untuk presentasi, mengajar, seminar, rapat dan lain-l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oga bermanf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3"/>
          <p:cNvSpPr/>
          <p:nvPr/>
        </p:nvSpPr>
        <p:spPr>
          <a:xfrm>
            <a:off x="2514600" y="5943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3716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tuk power-point lainnya anda bisa kunjung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power-point7.blogspo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lik dibawah 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ction Button: Custom 3">
            <a:hlinkClick r:id="rId1"/>
          </p:cNvPr>
          <p:cNvSpPr/>
          <p:nvPr/>
        </p:nvSpPr>
        <p:spPr>
          <a:xfrm>
            <a:off x="1523880" y="5181480"/>
            <a:ext cx="5867640" cy="838440"/>
          </a:xfrm>
          <a:custGeom>
            <a:avLst/>
            <a:gdLst>
              <a:gd name="textAreaLeft" fmla="*/ 54360 w 5867640"/>
              <a:gd name="textAreaRight" fmla="*/ 5813280 w 5867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51107" h="21600">
                <a:moveTo>
                  <a:pt x="0" y="0"/>
                </a:moveTo>
                <a:lnTo>
                  <a:pt x="151107" y="0"/>
                </a:lnTo>
                <a:lnTo>
                  <a:pt x="151107" y="21600"/>
                </a:lnTo>
                <a:lnTo>
                  <a:pt x="0" y="21600"/>
                </a:lnTo>
                <a:close/>
              </a:path>
              <a:path fill="lightenLess" w="151107" h="21600">
                <a:moveTo>
                  <a:pt x="0" y="0"/>
                </a:moveTo>
                <a:lnTo>
                  <a:pt x="151107" y="0"/>
                </a:lnTo>
                <a:lnTo>
                  <a:pt x="149707" y="1400"/>
                </a:lnTo>
                <a:lnTo>
                  <a:pt x="1400" y="1400"/>
                </a:lnTo>
                <a:close/>
              </a:path>
              <a:path fill="darken" w="151107" h="21600">
                <a:moveTo>
                  <a:pt x="151107" y="0"/>
                </a:moveTo>
                <a:lnTo>
                  <a:pt x="151107" y="21600"/>
                </a:lnTo>
                <a:lnTo>
                  <a:pt x="149707" y="20200"/>
                </a:lnTo>
                <a:lnTo>
                  <a:pt x="149707" y="1400"/>
                </a:lnTo>
                <a:close/>
              </a:path>
              <a:path fill="darkenLess" w="151107" h="21600">
                <a:moveTo>
                  <a:pt x="151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07" y="20200"/>
                </a:lnTo>
                <a:close/>
              </a:path>
              <a:path fill="lighten" w="151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power-point7.blogspo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7:36:08Z</dcterms:created>
  <dc:creator>power-point7.blogspot.com</dc:creator>
  <dc:description/>
  <cp:keywords>power-point7.blogspot.com</cp:keywords>
  <dc:language>en-US</dc:language>
  <cp:lastModifiedBy>Abu Zaeni</cp:lastModifiedBy>
  <dcterms:modified xsi:type="dcterms:W3CDTF">2012-11-29T16:03:09Z</dcterms:modified>
  <cp:revision>133</cp:revision>
  <dc:subject/>
  <dc:title>PowerPoint Presentation</dc:title>
</cp:coreProperties>
</file>