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9DC-CB69-4628-A8DF-6A076E8FA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2384-1B3B-4A7C-96A7-5A4A0F24D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417-647E-42F5-86ED-A3079C1BE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9F65-C9D6-4A60-B47D-E9797D60A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116-DDE1-4605-8C83-C9ED40253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7379-BD7D-4BD5-9120-46B10BF9C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F2C-5173-4947-BA9A-835575346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657F-2FA2-4DB2-8FA5-0B063DC96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625-FAE4-4DAF-BED8-00B164620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89D-2430-4958-9D98-72D269EA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AF6-5B90-48BA-90B4-8A3E424B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AF66-148A-48D2-8DCD-E5A8416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90081-5772-48DC-8375-A116F28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9A914-F375-443C-AFCF-3323E37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2EB50-330D-4158-AAEE-D76029C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85EE4-67B4-47CB-811F-61100DD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1627-409F-4096-9FCA-19D8AD8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19B29-A5A3-4FD4-BF6C-43768A1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70FB0-450E-4E16-BFEC-93CD385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2B878-DCE3-4C30-B70B-C51D7294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FD371-51AC-4FB8-A300-15846EB3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52B-C576-4EB4-AE4C-2AF13EF0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59546-C710-4D7A-9008-842999A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653CF-C941-4D76-B544-83C5278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8D141-0E17-4266-8CCD-8D098073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554ED-3D36-4897-9C93-E44F365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7F58A-6DE3-4D44-9F19-0336B43D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F1C9A-1033-4BC4-8968-7975C79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7CADE-6A8F-4FAC-8681-D8BA38B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0F971-DA17-436C-9420-1240A77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DC799-DED0-43F3-B956-6AEF7A9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A5B86-3CD0-4656-9E6A-7AF60007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E9C-ECE2-4B6A-90F5-C8575CC6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C988-7BFF-469F-991E-41A400B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5983B-E6E4-41E6-BEC9-10721331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CA04B-23AC-4227-9B5E-89F0E61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9A64-FCCB-4D04-8C33-76D523E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A92D5-B7BC-4BA9-B206-C49A350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4626-1E12-4CBF-B989-1D19405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54701-D36D-4C1A-BD62-AAD823F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80B6-B5AD-4CA0-BDC9-0EEA027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AAEF-BE8E-4B95-A21D-C7B38C5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7C527-1ABE-4D71-9BBA-EDC757B5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F55-5290-4178-BBBD-CFA97BB4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2C2E-B27A-4614-8379-E67A209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5849D-2028-46A8-80E2-65A4F82B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DEF62-DB39-4C2E-8075-D71C5B94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2FD44-F7B4-4882-BE80-033D006E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EC018-45F2-4BD0-8E9D-96C22919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727A0-8E8D-4D21-A4A9-93C4704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6668A-59FA-4F48-ADE1-31DE32F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4B060-4D5D-4571-957D-6155622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F7F4C-0F25-4AA5-B0B6-581261A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03E07-EDD5-4CDB-87FC-A898533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6D2-83F8-45BE-BFAF-42F43BB8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20D82-5AEB-4C03-97B7-B835FA2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58BC-7700-463A-B0EF-DC2F84F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23499-1902-43AF-984C-B0E65B5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543B0-1833-4D23-95BB-4651B6D6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4E13D-3A9E-4832-A229-7EF7CDFF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475B0-2C73-48A2-99B9-25C8FD9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59E54-2A18-4259-9988-0857871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05B8C-2EA4-431D-A3B8-B1FB55C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41129-7198-4D6A-B12D-CA0D4283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40413-30E3-41F4-B539-8BE651EC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46E5-7674-4CC6-95B2-3E586C3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56E8C-B5F4-4A65-87E0-F7E789C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B42A4-FCBA-4081-8497-D226E9A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FF42C-DE10-44CF-8D2E-0957BF4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ABAED-97A5-474F-AE0C-276E26FA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F23F6-7C45-497A-BECC-5DF332CC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46625-8AF2-479F-862B-3CCCB18F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078D4-D519-472E-804F-422FC136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B70C7-E8DD-4727-945F-95939244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784A5-A64C-4699-A29E-F1B0996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08B03-757B-4E1A-8643-1883D7E1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408D-7732-4F41-9120-5019198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943A9-0681-4C98-BB12-15CB3654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B32DF-9222-41C5-92A8-EC7C9F6B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60361-C5E4-4818-8928-CCAD1B2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2B165-7E0A-4DF2-8C9A-A54AB3E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235ED-E3E3-4B66-8847-DEEEA52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2839D-A025-4F5D-9A92-C79EA64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9ABA8-D784-4818-B618-36E2961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6A16F-C5F2-495F-82AA-C8323F12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28C0F-0A13-4502-9A19-A18810C6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427C7-21C4-405D-BF10-FFAD2000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76D-316B-47BF-BAF4-A43E1443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4CB79-CB01-4E36-A806-A2AA004E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934BB-BADD-4432-9CCF-369E185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9726D-59A3-4623-97EC-B7D38EB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F89F0-152A-410F-B391-9FD9E036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A035D-9D2A-44B5-A5DF-C33E9D8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E30D4-C32B-437F-8C0F-1BAA6FB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CBBB2-6C00-4901-8032-2B51919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00DEF-91AC-4124-ACD9-75AA538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CCCEA-FE42-4EEB-AE26-26CF1E8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C7A96-6CC1-4D63-9676-DFF5BBB6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AA6-3B48-4207-9B66-54E790ED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3504E-C965-4ED8-B3C3-0D86C20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D1C41-281A-4572-A49E-52866B68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19339-9DF3-4D44-B924-85E150B3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E4D5C-D7B3-4FC9-8424-86BE3CAC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312AF-C765-4119-90BA-8E25972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1E192-1F2C-4A72-B736-2EAB4D5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89FB9-CA17-49E8-ABEE-4945FDB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EEE35-E5DB-4638-A14E-C350682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B7753-1C13-4740-8F00-97BAF0B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429DA-90D6-4E43-81CD-06D0703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AB6-4E8F-4C98-9129-E5FF625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D8726-8B46-4015-84D5-EB01340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F3950-7BE0-43EB-9E75-61D9B2DA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48196-8D3C-4B6C-A8A6-30DCC093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79242-BE14-4C53-BE95-8D6DF393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F831A-7D5F-46CD-B53B-B936C130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E1B61-0FFE-4E02-B420-AE97B99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7B1CA-54B9-4A40-BBA7-AEEFC126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14D8A-F6BD-4B1D-9D0C-3C2C635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471D4-7F53-482D-A955-73AC969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92A98-694A-4EF5-B42A-82C7529C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B32-B582-47FC-8ED5-3D238372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497-B317-448D-8DA8-31319EF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EA851-E305-40F5-AE95-FBDBBB0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7AAFE-8B26-407E-961F-97C0C50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AB31C-4AAA-439C-B8F1-19A4C0EF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38CA7-0ABE-46F7-9D07-8D57815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F0CE6-4455-4E33-8129-1630F9C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98A0-2753-4B74-BF7D-BFFDCC9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4D3-A791-4AF8-9698-A09B0EA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B21F-4573-4D52-99DE-688F3D28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802E-5C01-47F2-810F-A40E87D9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BECF-6F2B-4C6F-89B9-63A8FC4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BCCE-5521-4B80-BDEC-F562DD9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5633-2EF6-4006-98CB-D3E8909D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96A1-50D3-4E08-A496-8A09B23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D764-3C5E-49DE-85AB-B617EE1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435-2907-4508-84CB-B003E4A1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6708-C12D-4BED-AD82-4CA3FB27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83EC-4F20-4425-AE6B-ABF2A23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A621-D3F8-4914-8B9D-CF160DA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5586-0F89-4BDF-BAAB-EECFAA1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F828-489E-4092-A7D6-C3BADD44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06F2-6C5C-4AEE-A5C6-D55F8C85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67A7-E975-4F57-BE13-1E9D4DC3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C48A-231B-41B3-BA3C-BCC8EA8A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C255-C09C-4608-87E8-32D68118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16BD-97C3-48F6-87CD-E93341B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04-CBCF-4193-9E57-93267A7E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793F-A79A-46C1-933A-4B043A5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6B46-8C12-42EC-A67D-3616C6F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8EE5-7E14-45BA-A38A-5AA2AC0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8248-FFDE-4BC7-892D-B40DAA44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D0EC-72E8-4B1F-BC2C-28A4333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931F-B481-4D24-A8EE-F21D644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0899-237E-4663-9DE0-CDB84A8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A21A-C00E-41A7-9CBD-BF473F57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7DB8-89F6-4F86-B5D3-D37B4E0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11E6-C381-4993-91B5-9A45D32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ABE-969B-46BB-A6BD-F137C658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EED6-6B57-408B-A9F1-70A5516F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7790-04F9-4667-9F11-1B8B8796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D754-6793-4AB3-923C-C8BC135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26CC-17B0-48DC-919A-A5F7B75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433B-6B79-4E75-AEE4-5F7E59CD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DD68-128C-4C49-88DF-788070B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193F-6E12-451C-BA7E-0A1C0CF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BB27-D7B3-4539-A1D2-EFEC7CB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F46D-EA34-433D-A130-8ED2978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CE9F-96AF-444D-BE5D-09171E1C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2C7-901C-42B2-AB0F-2145BC78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6C85-CDCB-44D0-B05B-9CB32595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8DC8-0EEF-4324-8E46-46C66828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20D2-C4EA-4C94-9622-94D82AD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5282-FFF1-4BED-B747-377099F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8917F-4A83-43DD-863C-45633F6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3014-E8A2-417A-8D77-836F3F6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7249-767E-4656-88D0-EFF159F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2B35-2A46-4BE8-8608-3861B37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56E1-4E67-452B-9467-7D67635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E5CB-36E0-4D64-BEEF-46E3865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4BF-AC58-4315-BC1F-5664682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AC91-8E1E-4476-9119-0C9D614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6CAD-B351-4A2F-A90A-116EABEC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95C2-212E-4C83-8BE7-BCB0F328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1AA4-6D51-401E-B60E-48B20A28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910C-4D9A-44F6-B0C8-1A11DC2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BB92D-57BA-4A52-80BF-2D39824B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B8AC-B78F-4379-903C-A3A11202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2669-303B-4089-BF34-AEA9E42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F6920-8109-4690-A3A9-003E1EEB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7376-EBD0-4FD1-A497-09286F3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C64-8026-4A4E-A52B-56D71B2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E2AF-2281-47A7-A70E-BD991393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B5C96-4734-4CD6-98AF-728305F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27BB-D0AC-4FAC-A2EE-2CB13C9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1082-CACD-4332-B6A0-154CEA2D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AAB6-F360-4683-A147-F6732B8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1221-AF51-4C77-8BF7-E50776BE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17F0-5D0A-40A5-BCE8-C508787F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7E56-F13C-4965-B26B-ED1B229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0612-6960-4DE4-8276-50F63D43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E8CA-D1D4-46EF-8841-3D2D6AE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857-A810-48C0-AB69-0194850C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5608-5EEB-4071-9480-2F5E6AE9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1E18F-2322-47D0-A7BB-93FAE36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10E06-DB6A-4D54-9AED-DE94E75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F6BBC-DB1C-4EBE-BC59-FF90084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370F-58DE-45D0-8C1D-AD8D578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C0097-21B1-431C-8605-204D44E8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A1A5-E749-440F-9878-38FC25B2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05CB-705D-4497-9841-088AF853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80910-BA4D-4F0D-BF10-FE136D9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72551-775E-473B-9F7F-A17004A5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3D9E-2001-437C-B658-ABD32817C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F18-FCB9-41D0-949D-17B664DAF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5D5-EDAF-4185-9BD3-76C66A7F3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B6D-5A29-49B8-97E8-3AC39DC38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42D-44A9-4739-B75F-05510BB9C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060-CF65-4F5E-AAB5-1D934AA2C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522F-BDBE-47BE-AED0-A37E7034D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27BA-FCDA-4209-9E4A-9A130D46ADC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8AB8-AA21-447B-81FE-C5FF3D54D9B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D98F-5DAC-4626-88E6-AF681441C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445-94D8-48AF-8C51-64B4EB85B08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762-9680-4C3D-AE2F-50A06BF1247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C6FA-18DD-4312-AF22-6B65629D5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43EA-421D-429A-848B-BEDD33314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5E8C-39C9-4088-9317-B2A996134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A6FC-BBE5-4B79-9B40-F8782E74E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37E-7CD8-4EC6-B22F-2EBED4DD9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wer-point7.blogspot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6" name="TextBox 7"/>
          <p:cNvSpPr/>
          <p:nvPr/>
        </p:nvSpPr>
        <p:spPr>
          <a:xfrm>
            <a:off x="2438280" y="3021120"/>
            <a:ext cx="46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Std Black"/>
              </a:rPr>
              <a:t>LO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5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5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43540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oper Black"/>
              </a:rPr>
              <a:t>SELAMAT </a:t>
            </a:r>
            <a:br>
              <a:rPr sz="5900"/>
            </a:br>
            <a:r>
              <a:rPr b="0" lang="en-US" sz="5900" spc="-1" strike="noStrike">
                <a:solidFill>
                  <a:srgbClr val="ff0000"/>
                </a:solidFill>
                <a:latin typeface="Cooper Black"/>
              </a:rPr>
              <a:t>DATA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"/>
          <p:cNvPicPr/>
          <p:nvPr/>
        </p:nvPicPr>
        <p:blipFill>
          <a:blip r:embed="rId2"/>
          <a:stretch/>
        </p:blipFill>
        <p:spPr>
          <a:xfrm>
            <a:off x="4572000" y="-792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3"/>
          <a:stretch/>
        </p:blipFill>
        <p:spPr>
          <a:xfrm>
            <a:off x="2190600" y="1828800"/>
            <a:ext cx="47628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10405E-006 L 0.48437 0.00115 E">
                                      <p:cBhvr>
                                        <p:cTn id="16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0405E-006 L -0.47604 0.00115 E">
                                      <p:cBhvr>
                                        <p:cTn id="18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312408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baseline="-25000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3"/>
          <p:cNvSpPr/>
          <p:nvPr/>
        </p:nvSpPr>
        <p:spPr>
          <a:xfrm>
            <a:off x="3809880" y="6113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point ini bisa digunakan untuk presentasi, mengajar, seminar, rapat dan lain-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oga bermanf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2514600" y="5943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3716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tuk power-point lainnya anda bisa kunjung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power-point7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lik dibawah 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ction Button: Custom 3">
            <a:hlinkClick r:id="rId1"/>
          </p:cNvPr>
          <p:cNvSpPr/>
          <p:nvPr/>
        </p:nvSpPr>
        <p:spPr>
          <a:xfrm>
            <a:off x="1523880" y="5181480"/>
            <a:ext cx="5867640" cy="838440"/>
          </a:xfrm>
          <a:custGeom>
            <a:avLst/>
            <a:gdLst>
              <a:gd name="textAreaLeft" fmla="*/ 54360 w 5867640"/>
              <a:gd name="textAreaRight" fmla="*/ 5813280 w 5867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51107" h="21600">
                <a:moveTo>
                  <a:pt x="0" y="0"/>
                </a:moveTo>
                <a:lnTo>
                  <a:pt x="151107" y="0"/>
                </a:lnTo>
                <a:lnTo>
                  <a:pt x="151107" y="21600"/>
                </a:lnTo>
                <a:lnTo>
                  <a:pt x="0" y="21600"/>
                </a:lnTo>
                <a:close/>
              </a:path>
              <a:path fill="lightenLess" w="151107" h="21600">
                <a:moveTo>
                  <a:pt x="0" y="0"/>
                </a:moveTo>
                <a:lnTo>
                  <a:pt x="151107" y="0"/>
                </a:lnTo>
                <a:lnTo>
                  <a:pt x="149707" y="1400"/>
                </a:lnTo>
                <a:lnTo>
                  <a:pt x="1400" y="1400"/>
                </a:lnTo>
                <a:close/>
              </a:path>
              <a:path fill="darken" w="151107" h="21600">
                <a:moveTo>
                  <a:pt x="151107" y="0"/>
                </a:moveTo>
                <a:lnTo>
                  <a:pt x="151107" y="21600"/>
                </a:lnTo>
                <a:lnTo>
                  <a:pt x="149707" y="20200"/>
                </a:lnTo>
                <a:lnTo>
                  <a:pt x="149707" y="1400"/>
                </a:lnTo>
                <a:close/>
              </a:path>
              <a:path fill="darkenLess" w="151107" h="21600">
                <a:moveTo>
                  <a:pt x="151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07" y="20200"/>
                </a:lnTo>
                <a:close/>
              </a:path>
              <a:path fill="lighten" w="151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7:36:08Z</dcterms:created>
  <dc:creator>power-point7.blogspot.com</dc:creator>
  <dc:description/>
  <cp:keywords>power-point7.blogspot.com</cp:keywords>
  <dc:language>en-US</dc:language>
  <cp:lastModifiedBy>Abu Zaeni</cp:lastModifiedBy>
  <dcterms:modified xsi:type="dcterms:W3CDTF">2012-11-29T16:03:09Z</dcterms:modified>
  <cp:revision>133</cp:revision>
  <dc:subject/>
  <dc:title>PowerPoint Presentation</dc:title>
</cp:coreProperties>
</file>