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0CD-B3AE-4C68-AA79-1BBD58C2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403-7440-405B-8AB0-40228BB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9A5-3DA3-4F8D-B9C6-2A839323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FD7-844E-4AC3-9EE8-AA3CDFC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6E6-191C-45A7-89DE-C2E69F6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6EB-5F0C-4AF6-8713-E51B527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AA9-636A-417E-AC21-37B0A29D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ABD-39BB-47F4-8443-9A69B48E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945-A7A9-45E4-B1A9-9CD5CC71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72B-5E2F-4F71-A99C-806CDAE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199-B77E-48F4-87F8-B33B819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99F-CEF6-4872-98F8-EE38C7E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D8AF-A20D-46AE-B61F-06E4C8B6F8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image" Target="../media/image9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9.xml"/><Relationship Id="rId7" Type="http://schemas.openxmlformats.org/officeDocument/2006/relationships/image" Target="../media/image10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10.jpeg"/><Relationship Id="rId10" Type="http://schemas.openxmlformats.org/officeDocument/2006/relationships/slide" Target="slide1.xm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21760" y="1623960"/>
            <a:ext cx="73404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لإلهنا بنعد طر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0040" y="2630520"/>
            <a:ext cx="8346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هتافنا بيهد أسو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27240" y="3665520"/>
            <a:ext cx="11853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القفر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الض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5000" y="4665600"/>
            <a:ext cx="77274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نرنم ليسوع الب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252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4917960" y="1413000"/>
            <a:ext cx="41911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حنا شعبك المنص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4956120" y="2433600"/>
            <a:ext cx="41529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ل أيامنا أفرا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نت الساكن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4917960" y="417600"/>
            <a:ext cx="41911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إلهنا بنعد طري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98360" y="1930320"/>
            <a:ext cx="99190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سم إلهنا باسم فاد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480" y="3162240"/>
            <a:ext cx="90075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رافعين راية الانتصا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0040" y="1816200"/>
            <a:ext cx="66434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إحنا شعبك المنص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3520" y="2859120"/>
            <a:ext cx="8082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وبدمك إحنا غ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40" y="3828960"/>
            <a:ext cx="881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بهتافنا العدو مأس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002960" y="4809960"/>
            <a:ext cx="10891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ولسلطان إبليس قاهر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577080" y="2206800"/>
            <a:ext cx="100000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نت مليك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نت قائد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101960" y="3468600"/>
            <a:ext cx="11136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إحنا ف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ى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 حربنا منتصر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77560" y="1336680"/>
            <a:ext cx="6739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كل أيامنا أفرا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2120" y="2335320"/>
            <a:ext cx="81176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ليالينا أعياد ب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2160" y="3435480"/>
            <a:ext cx="82684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نت ضامن الأفرا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600" y="4545000"/>
            <a:ext cx="84574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نت رجانا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381240" y="1739880"/>
            <a:ext cx="99558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عابرين إح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بتسبي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3116160"/>
            <a:ext cx="81298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نجعل الوادي ينب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360" y="1211400"/>
            <a:ext cx="89956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الساكن وسط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920" y="2498760"/>
            <a:ext cx="9261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ط هتافنا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غان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6120" y="3516480"/>
            <a:ext cx="7953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ت مصدر أفرا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3680" y="4545000"/>
            <a:ext cx="837828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سلامنا اللي مالي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8T14:04:48Z</dcterms:modified>
  <cp:revision>53</cp:revision>
  <dc:subject/>
  <dc:title>PowerPoint Presentation</dc:title>
</cp:coreProperties>
</file>