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A07-5CF0-418E-89E8-9697E94E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947-F884-4417-94DE-7504009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2A2-CB12-456E-A309-3D0906A6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653-B462-498B-8BA1-E3361B43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404-9F39-49A5-9FDB-80A6A46F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776-DCDE-4C39-A564-C41A9D68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35B-E297-4367-A743-C9D3B15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6A4-D307-4459-B3B7-EC6E65AB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8AB-29EE-426D-879C-0BBBF6CE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AEF-3616-4D65-8C43-549ECD5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DA0-9ABE-4F61-B2CF-53290F8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439-DAC1-415A-91E4-8C9E1AE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C34D-FD2A-4EA4-824C-07189C67B2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image" Target="../media/image9.jpeg"/><Relationship Id="rId4" Type="http://schemas.openxmlformats.org/officeDocument/2006/relationships/slide" Target="slide7.xml"/><Relationship Id="rId5" Type="http://schemas.openxmlformats.org/officeDocument/2006/relationships/image" Target="../media/image9.jpeg"/><Relationship Id="rId6" Type="http://schemas.openxmlformats.org/officeDocument/2006/relationships/slide" Target="slide9.xml"/><Relationship Id="rId7" Type="http://schemas.openxmlformats.org/officeDocument/2006/relationships/image" Target="../media/image10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10.jpeg"/><Relationship Id="rId10" Type="http://schemas.openxmlformats.org/officeDocument/2006/relationships/slide" Target="slide1.xm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21760" y="1623960"/>
            <a:ext cx="73404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لإلهنا بنعد طر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0040" y="2630520"/>
            <a:ext cx="8346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هتافنا بيهد أسو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227240" y="3665520"/>
            <a:ext cx="11853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القفر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الض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5000" y="4665600"/>
            <a:ext cx="77274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نرنم ليسوع الب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252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4917960" y="1413000"/>
            <a:ext cx="41911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إحنا شعبك المنص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4956120" y="2433600"/>
            <a:ext cx="41529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ل أيامنا أفر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نت الساكن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4917960" y="417600"/>
            <a:ext cx="419112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إلهنا بنعد طري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98360" y="1930320"/>
            <a:ext cx="99190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اسم إلهنا باسم فاد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480" y="3162240"/>
            <a:ext cx="9007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رافعين راية الانتص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360" y="1211400"/>
            <a:ext cx="8995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الساكن وسط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920" y="2498760"/>
            <a:ext cx="926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هتاف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غان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6120" y="3516480"/>
            <a:ext cx="7953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مصدر أفرا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680" y="4545000"/>
            <a:ext cx="8378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لامنا اللي مال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0040" y="1816200"/>
            <a:ext cx="66434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إحنا شعبك المنص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3520" y="2859120"/>
            <a:ext cx="8082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وبدمك إحنا غ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40" y="3828960"/>
            <a:ext cx="881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بهتافنا العدو مأس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002960" y="4809960"/>
            <a:ext cx="10891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ولسلطان إبليس قاهر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577080" y="2206800"/>
            <a:ext cx="100000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نت مليك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أ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نت قائد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101960" y="3468600"/>
            <a:ext cx="11136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إحنا ف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ى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 حربنا منتصر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360" y="1211400"/>
            <a:ext cx="8995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الساكن وسط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920" y="2498760"/>
            <a:ext cx="926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هتاف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غان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3516480"/>
            <a:ext cx="7953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مصدر أفرا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3680" y="4545000"/>
            <a:ext cx="8378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لامنا اللي مال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77560" y="1336680"/>
            <a:ext cx="6739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كل أيامنا أفرا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2120" y="2335320"/>
            <a:ext cx="81176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ليالينا أعياد ب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160" y="3435480"/>
            <a:ext cx="82684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نت ضامن الأفراح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600" y="4545000"/>
            <a:ext cx="84574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نت رجانا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381240" y="1739880"/>
            <a:ext cx="99558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عابرين إح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بتسبي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3116160"/>
            <a:ext cx="81298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جعل الوادي ينب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360" y="1211400"/>
            <a:ext cx="8995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الساكن وسط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920" y="2498760"/>
            <a:ext cx="926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هتاف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غان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6120" y="3516480"/>
            <a:ext cx="7953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مصدر أفرا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3680" y="4545000"/>
            <a:ext cx="8378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لامنا اللي مال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08T14:04:48Z</dcterms:modified>
  <cp:revision>53</cp:revision>
  <dc:subject/>
  <dc:title>PowerPoint Presentation</dc:title>
</cp:coreProperties>
</file>