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97CB-AE0D-4E99-97D3-9B4260988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4757-7E43-46DF-A333-89210F68D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FED7-0245-4DBA-BA5E-E1E88C253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798D-35BA-4030-931C-C7DC052C4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6FDD-C722-49CD-ABD3-3A62F2AA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CB80-0054-49DE-B967-0C816859C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9568-0826-4E12-916F-79852749B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1046-839F-410B-A159-793FB6050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80E5-D7EF-44C4-8B95-00A70D133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F304-4475-44CA-AC02-C23CE09E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AAF0-CFD2-47B5-8ECF-CFBAFD4A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D982-966B-49EE-A285-C212FF1C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167078-FC59-4E78-8CD5-86CB7C89EE9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71BB73-4AA3-42B5-9C61-6DE2D7572398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4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61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64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67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70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7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7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80" name="Picture 12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13">
              <a:hlinkClick r:id="rId7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83" name="Picture 15" descr=""/>
            <p:cNvPicPr/>
            <p:nvPr/>
          </p:nvPicPr>
          <p:blipFill>
            <a:blip r:embed="rId8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16">
              <a:hlinkClick r:id="rId9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87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90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93" name="Picture 12" descr=""/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96" name="Picture 15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48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51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54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57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8T08:04:01Z</dcterms:created>
  <dc:creator>최봉수</dc:creator>
  <dc:description/>
  <dc:language>en-US</dc:language>
  <cp:lastModifiedBy>맛있다 군만두</cp:lastModifiedBy>
  <dcterms:modified xsi:type="dcterms:W3CDTF">2024-09-24T08:28:57Z</dcterms:modified>
  <cp:revision>3</cp:revision>
  <dc:subject/>
  <dc:title>슬라이드 1</dc:title>
</cp:coreProperties>
</file>