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230-12A9-4EBD-A3FF-89117E1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FDE-C7BE-40D7-82B3-C18CF38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D03-A782-44FF-A56E-0EA6CC10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9FF-E971-410E-B9FB-F442F41D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EC0-53B2-487A-A1EB-4D69559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DC4-E75F-4CE1-A4A9-B6CE5877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350-743F-496C-B108-2E613373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6E6-7FC4-424D-98A8-5B74CF1E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DB2-7239-4390-AFAC-7E371B6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ACD-8AA3-4F18-A5C6-6FC3A42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A99-685C-4DA4-9199-7EDD0BC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611-F395-4BA0-904B-CC625F6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BB2CB-6055-4864-B39B-E0935F39D2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602A8-853B-464E-88FD-6A28F62BCCA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8:04:01Z</dcterms:created>
  <dc:creator>최봉수</dc:creator>
  <dc:description/>
  <dc:language>en-US</dc:language>
  <cp:lastModifiedBy>맛있다 군만두</cp:lastModifiedBy>
  <dcterms:modified xsi:type="dcterms:W3CDTF">2024-09-24T08:28:57Z</dcterms:modified>
  <cp:revision>3</cp:revision>
  <dc:subject/>
  <dc:title>슬라이드 1</dc:title>
</cp:coreProperties>
</file>