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7FE5-52F0-49BA-B83E-8CD62F963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CFB0-B13B-4697-990E-67C2F78EF2A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4F7D-38F6-461E-994D-09E5285B76D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D110-99FC-47FE-8957-CA13DE428B3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644-14A3-46C1-9CDA-56410819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DCB-208F-4BB6-8FA0-D9D90F6B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FBE-0B6D-4545-8EF5-3527BE44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F52-D520-41BD-877D-FD99E5F8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12B2-C5D0-4BB8-832F-59CB4B82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7BAF-F00B-45CE-96EB-61D6784F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A9F4-9C98-4A32-A6F0-0A68240A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C882-C14B-4D4F-B1BC-C9D97F4B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B853-9EC7-44C5-ABFF-F9000EB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0B72-1A24-4CCC-9B23-6D8FD09D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9013-0C77-451A-9E9E-54F15064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6CC-8E04-4915-A8D2-4512BD7F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FEEA-12B5-4AEC-9364-171EFB75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83D4-13DB-48CB-AE99-32ECA0F6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ADCB-FE65-44BD-B841-B435DD66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202D-DE24-4067-907E-21A5A164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2C40-0C4D-4EE2-8944-2B76F960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EB4-1A4D-4B88-88D0-04BDBA6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A49-C1BC-413B-88DC-F3F006E5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81A-1A17-40FC-B8E9-9CC26A8B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3CA-FBDF-4C75-8D1B-C106F16C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845-BF8F-4626-875A-CF3054CE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878-E98F-4BD6-84BE-1B803A9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454-4BE7-4BFD-BF42-EB10579E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80CA-7297-44A9-8411-77A08000D21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20E7-A8D1-401A-B1C8-FE06F7397AF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78360" y="135000"/>
            <a:ext cx="7501680" cy="186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200" spc="-1" strike="noStrike">
                <a:solidFill>
                  <a:srgbClr val="ff3300"/>
                </a:solidFill>
                <a:latin typeface="Arial"/>
              </a:rPr>
              <a:t>Coronary Intervention</a:t>
            </a:r>
            <a:endParaRPr b="1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639600" y="1523520"/>
            <a:ext cx="5504040" cy="4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6666"/>
                </a:solidFill>
                <a:latin typeface="Arial"/>
              </a:rPr>
              <a:t>« GROUP 1 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762120" y="2341440"/>
            <a:ext cx="7543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220px-AMI_pain_front"/>
          <p:cNvPicPr/>
          <p:nvPr/>
        </p:nvPicPr>
        <p:blipFill>
          <a:blip r:embed="rId1"/>
          <a:stretch/>
        </p:blipFill>
        <p:spPr>
          <a:xfrm>
            <a:off x="1701720" y="1879560"/>
            <a:ext cx="2793960" cy="307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220px-AMI_pain_back"/>
          <p:cNvPicPr/>
          <p:nvPr/>
        </p:nvPicPr>
        <p:blipFill>
          <a:blip r:embed="rId2"/>
          <a:stretch/>
        </p:blipFill>
        <p:spPr>
          <a:xfrm>
            <a:off x="4648320" y="2133720"/>
            <a:ext cx="2971800" cy="2849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564720" y="649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yocardial Infarc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026600" y="54468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iagram of pain 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1000" y="3581280"/>
            <a:ext cx="62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lide mở đầu của thuốc cắt cái hình tra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824 goodman dán vô nha Hiể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5257800" y="152280"/>
            <a:ext cx="32004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in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ianginal therap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257800" y="1371600"/>
            <a:ext cx="32004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d press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505320" y="2895480"/>
            <a:ext cx="1295280" cy="914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5257800" y="2590920"/>
            <a:ext cx="320040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esterol-low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5257800" y="3962520"/>
            <a:ext cx="320040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257800" y="5334120"/>
            <a:ext cx="327672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erc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152280" y="2743200"/>
            <a:ext cx="312444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04920" y="196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nti-ischemic therap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troglycer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ta-adrenergic bloc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ium channel bloc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troglycer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ctive free radical 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ce myocardial oxygen demand + enhance myocardial oxgen delive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oward eff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stural hypot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ectile dysfunction: severe hypoten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ta-block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agonism beta-adrenergic recep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ce myocardial contractility, heart rate, cardiac outp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oward effec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oatrial or AV nodal dysfun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ulin-depent diabe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ium channel block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x smooth muscle of vascular tiss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inotropic eff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ress sinus node pacemaker and slow AV condu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oward eff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adycardia, asystole, heart fail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nticoagulant therap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FH and LMW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erapeutic Unfractionated Heparin (UF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Low molecular weight heparin (LMW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FH and LMW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ctor Xa inhibi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oward effec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ee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mbocytope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oronary Artery Anatomy and Histology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Pathology of </a:t>
            </a:r>
            <a:r>
              <a:rPr b="0" lang="fr-CA" sz="3000" spc="-1" strike="noStrike">
                <a:solidFill>
                  <a:srgbClr val="ff3300"/>
                </a:solidFill>
                <a:latin typeface="Arial"/>
              </a:rPr>
              <a:t>myocardial Ischemia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f3300"/>
                </a:solidFill>
                <a:latin typeface="Arial"/>
              </a:rPr>
              <a:t>Drugs treat myocardial Ischemia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ntiplatel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pir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opidorg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ycoprotein IIb/IIIa antagon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pir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ce incidence of M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with Clopidorgel in Acute Coronary Syndr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nvet Stent-induce dam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theterization &amp; St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ease, visit the websi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surgery.com/guide/heart-surgery/vide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heartsurgery-hawaii.com/surgical_videos.h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youtube.com/watch?v=WM_tcf5Ogy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my.clevelandclinic.org/heart/disorders/cad/treatment_heartsurg.asp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a710"/>
                </a:solidFill>
                <a:latin typeface="Arial"/>
              </a:rPr>
              <a:t>Coronary Artery </a:t>
            </a:r>
            <a:br>
              <a:rPr sz="3200"/>
            </a:br>
            <a:r>
              <a:rPr b="1" lang="en-US" sz="3200" spc="-1" strike="noStrike">
                <a:solidFill>
                  <a:srgbClr val="5da710"/>
                </a:solidFill>
                <a:latin typeface="Arial"/>
              </a:rPr>
              <a:t>Anatomy and Histolog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803160" y="2341440"/>
            <a:ext cx="7315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ronary arteries block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Picture 4" descr="adam_arteryLayers_19194"/>
          <p:cNvPicPr/>
          <p:nvPr/>
        </p:nvPicPr>
        <p:blipFill>
          <a:blip r:embed="rId1"/>
          <a:stretch/>
        </p:blipFill>
        <p:spPr>
          <a:xfrm>
            <a:off x="228600" y="152388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arterialplaque"/>
          <p:cNvPicPr/>
          <p:nvPr/>
        </p:nvPicPr>
        <p:blipFill>
          <a:blip r:embed="rId2"/>
          <a:stretch/>
        </p:blipFill>
        <p:spPr>
          <a:xfrm>
            <a:off x="4343400" y="1447920"/>
            <a:ext cx="37926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286000" y="2757600"/>
            <a:ext cx="17524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OXY DEM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181480" y="2604960"/>
            <a:ext cx="1752840" cy="1219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OXY SUPP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3733920" y="1157400"/>
            <a:ext cx="1752480" cy="2133360"/>
            <a:chOff x="3733920" y="1157400"/>
            <a:chExt cx="1752480" cy="2133360"/>
          </a:xfrm>
        </p:grpSpPr>
        <p:grpSp>
          <p:nvGrpSpPr>
            <p:cNvPr id="117" name="Group 5"/>
            <p:cNvGrpSpPr/>
            <p:nvPr/>
          </p:nvGrpSpPr>
          <p:grpSpPr>
            <a:xfrm>
              <a:off x="4343400" y="3138480"/>
              <a:ext cx="533520" cy="152280"/>
              <a:chOff x="4343400" y="3138480"/>
              <a:chExt cx="533520" cy="152280"/>
            </a:xfrm>
          </p:grpSpPr>
          <p:sp>
            <p:nvSpPr>
              <p:cNvPr id="118" name="Line 6"/>
              <p:cNvSpPr/>
              <p:nvPr/>
            </p:nvSpPr>
            <p:spPr>
              <a:xfrm>
                <a:off x="4343400" y="3138480"/>
                <a:ext cx="5335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4343400" y="3290760"/>
                <a:ext cx="5335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"/>
            <p:cNvGrpSpPr/>
            <p:nvPr/>
          </p:nvGrpSpPr>
          <p:grpSpPr>
            <a:xfrm>
              <a:off x="3733920" y="1157400"/>
              <a:ext cx="1752480" cy="1676160"/>
              <a:chOff x="3733920" y="1157400"/>
              <a:chExt cx="1752480" cy="1676160"/>
            </a:xfrm>
          </p:grpSpPr>
          <p:sp>
            <p:nvSpPr>
              <p:cNvPr id="121" name="AutoShape 9"/>
              <p:cNvSpPr/>
              <p:nvPr/>
            </p:nvSpPr>
            <p:spPr>
              <a:xfrm>
                <a:off x="4267080" y="1843200"/>
                <a:ext cx="609840" cy="990360"/>
              </a:xfrm>
              <a:prstGeom prst="upArrow">
                <a:avLst>
                  <a:gd name="adj1" fmla="val 50000"/>
                  <a:gd name="adj2" fmla="val 40599"/>
                </a:avLst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Text Box 10"/>
              <p:cNvSpPr/>
              <p:nvPr/>
            </p:nvSpPr>
            <p:spPr>
              <a:xfrm>
                <a:off x="3733920" y="115740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66ff33"/>
                    </a:solidFill>
                    <a:latin typeface="Arial"/>
                    <a:ea typeface="Arial"/>
                  </a:rPr>
                  <a:t>Balance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AutoShape 11"/>
          <p:cNvSpPr/>
          <p:nvPr/>
        </p:nvSpPr>
        <p:spPr>
          <a:xfrm>
            <a:off x="4343400" y="38098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886920" y="49528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Ischem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391520" y="12193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302600" y="903240"/>
            <a:ext cx="18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Coron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F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" name="Group 15"/>
          <p:cNvGrpSpPr/>
          <p:nvPr/>
        </p:nvGrpSpPr>
        <p:grpSpPr>
          <a:xfrm>
            <a:off x="4495680" y="3124080"/>
            <a:ext cx="228600" cy="304920"/>
            <a:chOff x="4495680" y="3124080"/>
            <a:chExt cx="228600" cy="304920"/>
          </a:xfrm>
        </p:grpSpPr>
        <p:sp>
          <p:nvSpPr>
            <p:cNvPr id="128" name="Line 16"/>
            <p:cNvSpPr/>
            <p:nvPr/>
          </p:nvSpPr>
          <p:spPr>
            <a:xfrm flipV="1">
              <a:off x="4495680" y="3276360"/>
              <a:ext cx="228600" cy="152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124080"/>
              <a:ext cx="22860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Text Box 18"/>
          <p:cNvSpPr/>
          <p:nvPr/>
        </p:nvSpPr>
        <p:spPr>
          <a:xfrm>
            <a:off x="7375680" y="476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238880" y="4083120"/>
            <a:ext cx="179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Pulmona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Fun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33cc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Hemoglob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concertr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33cc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Inspir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of oxyg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 rot="13835400">
            <a:off x="6629040" y="16002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 rot="8461200">
            <a:off x="6384960" y="39924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139680" y="1319040"/>
            <a:ext cx="17362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Heart Rate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ractility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load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fterload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1676520" y="1676520"/>
            <a:ext cx="1066680" cy="83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 flipV="1">
            <a:off x="1676520" y="4038480"/>
            <a:ext cx="1218960" cy="106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 flipV="1">
            <a:off x="1371600" y="3580920"/>
            <a:ext cx="83808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>
            <a:off x="1828800" y="27432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 flipH="1">
            <a:off x="7009920" y="4343400"/>
            <a:ext cx="38124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 flipH="1" flipV="1">
            <a:off x="6934320" y="4876560"/>
            <a:ext cx="4572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29"/>
          <p:cNvSpPr/>
          <p:nvPr/>
        </p:nvSpPr>
        <p:spPr>
          <a:xfrm flipH="1" flipV="1">
            <a:off x="6858000" y="4952520"/>
            <a:ext cx="38088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380880" y="2286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PATH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323720" y="293760"/>
            <a:ext cx="58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Factor that increase Oxy Dem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432080" y="1611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4762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906480" y="5396040"/>
            <a:ext cx="54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 Exercise or Excited -&gt; increase Heart R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825480" y="624852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 Hypertension -&gt; increase pre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914400" y="3398760"/>
            <a:ext cx="82296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ough metabolic regulation and auto regulation 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oronary vascular can vary it resistant to fix with high oxygen need of the heart and keep the sufficient coronary blood flow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358800" y="623880"/>
            <a:ext cx="332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Arial"/>
              </a:rPr>
              <a:t>Regul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080" y="914400"/>
            <a:ext cx="718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Arial"/>
                <a:ea typeface="Arial"/>
              </a:rPr>
              <a:t>Factor that decrease coronary blood blow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222200" y="27432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Atheroscler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32080" y="156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222920" y="411480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Spasm (Prinzmetal's Variant Angina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21120" y="47242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Thromb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148760" y="533412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Congenital abnormaliti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76280" y="3352680"/>
            <a:ext cx="92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http://www.youtube.com/watch?v=VpxqYNqzmK0&amp;feature=relat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L</cp:lastModifiedBy>
  <dcterms:modified xsi:type="dcterms:W3CDTF">2011-10-20T17:04:2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