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F781-4DAC-4BAE-87A8-4F2D71FC5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BDEA-62AD-4500-B4BF-DB0E9652C0A2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0AF6-2635-4434-A432-F8B82EE47907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08C7-38BE-422A-9082-DE991A38ED42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A2A3-0297-4091-B882-B10EA55F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43D8-E6F8-4B14-BF33-751DFBD3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447F-0623-4C06-AEAC-C05F85F72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B441-270B-4A05-B41C-F28CBC53B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EE27-416C-4DC7-A081-4BAACBD85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6B43-AE62-45E5-924B-F636462F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067D-928B-447F-A8F8-2673E48E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293C-1FB2-4E03-BD59-2950B00D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A0EB-735C-449C-AECE-20C3FDEE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7A23-6986-45AD-A413-311CAB22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BE65-735F-46FA-9AD5-5F772DE9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7A5B-6F8B-4464-82A6-519AC227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3697-5233-4F6E-8974-308198FC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CCA9-C3E9-4A48-A9BD-80C0779B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11EE-05BB-4292-B537-3C70D9D9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60F6-77A2-486E-9330-6032D14B1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603F-37F8-4F24-A234-E433B46CE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3A2C-966F-4F84-8619-AC407323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AB71-3433-47EA-89C5-6BBECF91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3858-4E3D-4DFF-9ED6-487A1231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3242-E8E2-4CEC-AED3-3FA5113E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F903-7085-4A57-9E1C-725463DC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2FD7-EF8E-4B9F-8A22-B7B34702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9CA7-D42A-44C7-99F5-2F1ACA29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B767-8482-4DD9-BB9E-96466DF966C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4986-6DE7-4CA1-B944-35CA60A8308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278360" y="135000"/>
            <a:ext cx="7501680" cy="186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200" spc="-1" strike="noStrike">
                <a:solidFill>
                  <a:srgbClr val="ff3300"/>
                </a:solidFill>
                <a:latin typeface="Arial"/>
              </a:rPr>
              <a:t>Coronary Intervention</a:t>
            </a:r>
            <a:endParaRPr b="1" lang="en-US" sz="4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639600" y="1523520"/>
            <a:ext cx="5504040" cy="4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6666"/>
                </a:solidFill>
                <a:latin typeface="Arial"/>
              </a:rPr>
              <a:t>« GROUP 1 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762120" y="2341440"/>
            <a:ext cx="754380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92504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220px-AMI_pain_front"/>
          <p:cNvPicPr/>
          <p:nvPr/>
        </p:nvPicPr>
        <p:blipFill>
          <a:blip r:embed="rId1"/>
          <a:stretch/>
        </p:blipFill>
        <p:spPr>
          <a:xfrm>
            <a:off x="1701720" y="1879560"/>
            <a:ext cx="2793960" cy="3073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220px-AMI_pain_back"/>
          <p:cNvPicPr/>
          <p:nvPr/>
        </p:nvPicPr>
        <p:blipFill>
          <a:blip r:embed="rId2"/>
          <a:stretch/>
        </p:blipFill>
        <p:spPr>
          <a:xfrm>
            <a:off x="4648320" y="2133720"/>
            <a:ext cx="2971800" cy="28494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3564720" y="64944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Myocardial Infarctio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4026600" y="544680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Diagram of pain zo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1521000" y="3581280"/>
            <a:ext cx="62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Slide mở đầu của thuốc cắt cái hình tra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824 goodman dán vô nha Hiể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7" name="Picture 4" descr="untitl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5257800" y="152280"/>
            <a:ext cx="320040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rin and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tianginal therap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5257800" y="1371600"/>
            <a:ext cx="320040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d pressu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r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3505320" y="2895480"/>
            <a:ext cx="1295280" cy="91440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5257800" y="2590920"/>
            <a:ext cx="3200400" cy="1295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esterol-lower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gent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5257800" y="3962520"/>
            <a:ext cx="3200400" cy="1295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5257800" y="5334120"/>
            <a:ext cx="3276720" cy="1295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erc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152280" y="2743200"/>
            <a:ext cx="3124440" cy="1295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C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Rectangle 1"/>
          <p:cNvSpPr/>
          <p:nvPr/>
        </p:nvSpPr>
        <p:spPr>
          <a:xfrm>
            <a:off x="304920" y="19692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reatmen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250" autoRev="1" fill="hold"/>
                                        <p:tgtEl>
                                          <p:spTgt spid="1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nti-ischemic therap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itroglycer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ta-adrenergic block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lcium channel block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itroglyceri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ctive free radical N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duce myocardial oxygen demand + enhance myocardial oxgen deliver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toward eff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stural hypoten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eadach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rectile dysfunction: severe hypoten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ta-block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tagonism beta-adrenergic recep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duce myocardial contractility, heart rate, cardiac outpu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toward effec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th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noatrial or AV nodal dysfun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sulin-depent diabe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lcium channel block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lax smooth muscle of vascular tissu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gative inotropic effec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press sinus node pacemaker and slow AV conduc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toward eff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ypoten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radycardia, asystole, heart failur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nticoagulant therap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FH and LMW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Therapeutic Unfractionated Heparin (UFH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Low molecular weight heparin (LMWH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FH and LMW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actor Xa inhibi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toward effec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leed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rombocytopen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Coronary Artery Anatomy and Histology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Pathology of </a:t>
            </a:r>
            <a:r>
              <a:rPr b="0" lang="fr-CA" sz="3000" spc="-1" strike="noStrike">
                <a:solidFill>
                  <a:srgbClr val="ff3300"/>
                </a:solidFill>
                <a:latin typeface="Arial"/>
              </a:rPr>
              <a:t>myocardial Ischemia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ff3300"/>
                </a:solidFill>
                <a:latin typeface="Arial"/>
              </a:rPr>
              <a:t>Drugs treat myocardial Ischemia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ntiplatele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pir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opidorg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lycoprotein IIb/IIIa antagoni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spiri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duce incidence of MI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with Clopidorgel in Acute Coronary Syndr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nvet Stent-induce dam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atheterization &amp; St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ease, visit the websit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ttp://www.surgery.com/guide/heart-surgery/vide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ttp://www.heartsurgery-hawaii.com/surgical_videos.ht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ttp://www.youtube.com/watch?v=WM_tcf5Ogy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ttp://my.clevelandclinic.org/heart/disorders/cad/treatment_heartsurg.asp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-838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a710"/>
                </a:solidFill>
                <a:latin typeface="Arial"/>
              </a:rPr>
              <a:t>Coronary Artery </a:t>
            </a:r>
            <a:br>
              <a:rPr sz="3200"/>
            </a:br>
            <a:r>
              <a:rPr b="1" lang="en-US" sz="3200" spc="-1" strike="noStrike">
                <a:solidFill>
                  <a:srgbClr val="5da710"/>
                </a:solidFill>
                <a:latin typeface="Arial"/>
              </a:rPr>
              <a:t>Anatomy and Histolog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803160" y="2341440"/>
            <a:ext cx="73152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ronary arteries blocka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467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Picture 4" descr="adam_arteryLayers_19194"/>
          <p:cNvPicPr/>
          <p:nvPr/>
        </p:nvPicPr>
        <p:blipFill>
          <a:blip r:embed="rId1"/>
          <a:stretch/>
        </p:blipFill>
        <p:spPr>
          <a:xfrm>
            <a:off x="228600" y="1523880"/>
            <a:ext cx="3809880" cy="5079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arterialplaque"/>
          <p:cNvPicPr/>
          <p:nvPr/>
        </p:nvPicPr>
        <p:blipFill>
          <a:blip r:embed="rId2"/>
          <a:stretch/>
        </p:blipFill>
        <p:spPr>
          <a:xfrm>
            <a:off x="4343400" y="1447920"/>
            <a:ext cx="37926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2286000" y="2757600"/>
            <a:ext cx="17524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OXY DEMA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Oval 3"/>
          <p:cNvSpPr/>
          <p:nvPr/>
        </p:nvSpPr>
        <p:spPr>
          <a:xfrm>
            <a:off x="5181480" y="2604960"/>
            <a:ext cx="1752840" cy="1219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OXY SUPPL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6" name="Group 4"/>
          <p:cNvGrpSpPr/>
          <p:nvPr/>
        </p:nvGrpSpPr>
        <p:grpSpPr>
          <a:xfrm>
            <a:off x="3733920" y="1157400"/>
            <a:ext cx="1752480" cy="2133360"/>
            <a:chOff x="3733920" y="1157400"/>
            <a:chExt cx="1752480" cy="2133360"/>
          </a:xfrm>
        </p:grpSpPr>
        <p:grpSp>
          <p:nvGrpSpPr>
            <p:cNvPr id="117" name="Group 5"/>
            <p:cNvGrpSpPr/>
            <p:nvPr/>
          </p:nvGrpSpPr>
          <p:grpSpPr>
            <a:xfrm>
              <a:off x="4343400" y="3138480"/>
              <a:ext cx="533520" cy="152280"/>
              <a:chOff x="4343400" y="3138480"/>
              <a:chExt cx="533520" cy="152280"/>
            </a:xfrm>
          </p:grpSpPr>
          <p:sp>
            <p:nvSpPr>
              <p:cNvPr id="118" name="Line 6"/>
              <p:cNvSpPr/>
              <p:nvPr/>
            </p:nvSpPr>
            <p:spPr>
              <a:xfrm>
                <a:off x="4343400" y="3138480"/>
                <a:ext cx="53352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9" name="Line 7"/>
              <p:cNvSpPr/>
              <p:nvPr/>
            </p:nvSpPr>
            <p:spPr>
              <a:xfrm>
                <a:off x="4343400" y="3290760"/>
                <a:ext cx="53352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8"/>
            <p:cNvGrpSpPr/>
            <p:nvPr/>
          </p:nvGrpSpPr>
          <p:grpSpPr>
            <a:xfrm>
              <a:off x="3733920" y="1157400"/>
              <a:ext cx="1752480" cy="1676160"/>
              <a:chOff x="3733920" y="1157400"/>
              <a:chExt cx="1752480" cy="1676160"/>
            </a:xfrm>
          </p:grpSpPr>
          <p:sp>
            <p:nvSpPr>
              <p:cNvPr id="121" name="AutoShape 9"/>
              <p:cNvSpPr/>
              <p:nvPr/>
            </p:nvSpPr>
            <p:spPr>
              <a:xfrm>
                <a:off x="4267080" y="1843200"/>
                <a:ext cx="609840" cy="990360"/>
              </a:xfrm>
              <a:prstGeom prst="upArrow">
                <a:avLst>
                  <a:gd name="adj1" fmla="val 50000"/>
                  <a:gd name="adj2" fmla="val 40599"/>
                </a:avLst>
              </a:prstGeom>
              <a:solidFill>
                <a:srgbClr val="33cc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2" name="Text Box 10"/>
              <p:cNvSpPr/>
              <p:nvPr/>
            </p:nvSpPr>
            <p:spPr>
              <a:xfrm>
                <a:off x="3733920" y="1157400"/>
                <a:ext cx="17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66ff33"/>
                    </a:solidFill>
                    <a:latin typeface="Arial"/>
                    <a:ea typeface="Arial"/>
                  </a:rPr>
                  <a:t>Balance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AutoShape 11"/>
          <p:cNvSpPr/>
          <p:nvPr/>
        </p:nvSpPr>
        <p:spPr>
          <a:xfrm>
            <a:off x="4343400" y="3809880"/>
            <a:ext cx="533520" cy="838440"/>
          </a:xfrm>
          <a:prstGeom prst="downArrow">
            <a:avLst>
              <a:gd name="adj1" fmla="val 50000"/>
              <a:gd name="adj2" fmla="val 39288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3886920" y="4952880"/>
            <a:ext cx="18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Ischemi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7391520" y="1219320"/>
            <a:ext cx="129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7302600" y="903240"/>
            <a:ext cx="18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Corona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Bloo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Flo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7" name="Group 15"/>
          <p:cNvGrpSpPr/>
          <p:nvPr/>
        </p:nvGrpSpPr>
        <p:grpSpPr>
          <a:xfrm>
            <a:off x="4495680" y="3124080"/>
            <a:ext cx="228600" cy="304920"/>
            <a:chOff x="4495680" y="3124080"/>
            <a:chExt cx="228600" cy="304920"/>
          </a:xfrm>
        </p:grpSpPr>
        <p:sp>
          <p:nvSpPr>
            <p:cNvPr id="128" name="Line 16"/>
            <p:cNvSpPr/>
            <p:nvPr/>
          </p:nvSpPr>
          <p:spPr>
            <a:xfrm flipV="1">
              <a:off x="4495680" y="3276360"/>
              <a:ext cx="228600" cy="1526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4495680" y="3124080"/>
              <a:ext cx="228600" cy="1522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0" name="Text Box 18"/>
          <p:cNvSpPr/>
          <p:nvPr/>
        </p:nvSpPr>
        <p:spPr>
          <a:xfrm>
            <a:off x="7375680" y="47610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19"/>
          <p:cNvSpPr/>
          <p:nvPr/>
        </p:nvSpPr>
        <p:spPr>
          <a:xfrm>
            <a:off x="7238880" y="4083120"/>
            <a:ext cx="1797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- 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  <a:ea typeface="Arial"/>
              </a:rPr>
              <a:t>Pulmona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cc"/>
                </a:solidFill>
                <a:latin typeface="Arial"/>
                <a:ea typeface="Arial"/>
              </a:rPr>
              <a:t>Func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33cc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cc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33cccc"/>
                </a:solidFill>
                <a:latin typeface="Arial"/>
                <a:ea typeface="Arial"/>
              </a:rPr>
              <a:t>Hemoglobi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cc"/>
                </a:solidFill>
                <a:latin typeface="Arial"/>
                <a:ea typeface="Arial"/>
              </a:rPr>
              <a:t>concertr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33cc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cc"/>
                </a:solidFill>
                <a:latin typeface="Arial"/>
                <a:ea typeface="Arial"/>
              </a:rPr>
              <a:t>Inspir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cc"/>
                </a:solidFill>
                <a:latin typeface="Arial"/>
                <a:ea typeface="Arial"/>
              </a:rPr>
              <a:t>of oxyg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AutoShape 20"/>
          <p:cNvSpPr/>
          <p:nvPr/>
        </p:nvSpPr>
        <p:spPr>
          <a:xfrm rot="13835400">
            <a:off x="6629040" y="1600200"/>
            <a:ext cx="457200" cy="838080"/>
          </a:xfrm>
          <a:prstGeom prst="upArrow">
            <a:avLst>
              <a:gd name="adj1" fmla="val 50000"/>
              <a:gd name="adj2" fmla="val 4582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AutoShape 21"/>
          <p:cNvSpPr/>
          <p:nvPr/>
        </p:nvSpPr>
        <p:spPr>
          <a:xfrm rot="8461200">
            <a:off x="6384960" y="3992400"/>
            <a:ext cx="380880" cy="990720"/>
          </a:xfrm>
          <a:prstGeom prst="downArrow">
            <a:avLst>
              <a:gd name="adj1" fmla="val 50000"/>
              <a:gd name="adj2" fmla="val 65028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Text Box 22"/>
          <p:cNvSpPr/>
          <p:nvPr/>
        </p:nvSpPr>
        <p:spPr>
          <a:xfrm>
            <a:off x="139680" y="1319040"/>
            <a:ext cx="173628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Heart Rate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ntractility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reload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fterload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Line 23"/>
          <p:cNvSpPr/>
          <p:nvPr/>
        </p:nvSpPr>
        <p:spPr>
          <a:xfrm>
            <a:off x="1676520" y="1676520"/>
            <a:ext cx="1066680" cy="838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Line 24"/>
          <p:cNvSpPr/>
          <p:nvPr/>
        </p:nvSpPr>
        <p:spPr>
          <a:xfrm flipV="1">
            <a:off x="1676520" y="4038480"/>
            <a:ext cx="1218960" cy="10670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Line 25"/>
          <p:cNvSpPr/>
          <p:nvPr/>
        </p:nvSpPr>
        <p:spPr>
          <a:xfrm flipV="1">
            <a:off x="1371600" y="3580920"/>
            <a:ext cx="83808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Line 26"/>
          <p:cNvSpPr/>
          <p:nvPr/>
        </p:nvSpPr>
        <p:spPr>
          <a:xfrm>
            <a:off x="1828800" y="274320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Line 27"/>
          <p:cNvSpPr/>
          <p:nvPr/>
        </p:nvSpPr>
        <p:spPr>
          <a:xfrm flipH="1">
            <a:off x="7009920" y="4343400"/>
            <a:ext cx="381240" cy="4572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Line 28"/>
          <p:cNvSpPr/>
          <p:nvPr/>
        </p:nvSpPr>
        <p:spPr>
          <a:xfrm flipH="1" flipV="1">
            <a:off x="6934320" y="4876560"/>
            <a:ext cx="457200" cy="5331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Line 29"/>
          <p:cNvSpPr/>
          <p:nvPr/>
        </p:nvSpPr>
        <p:spPr>
          <a:xfrm flipH="1" flipV="1">
            <a:off x="6858000" y="4952520"/>
            <a:ext cx="380880" cy="1143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Text Box 30"/>
          <p:cNvSpPr/>
          <p:nvPr/>
        </p:nvSpPr>
        <p:spPr>
          <a:xfrm>
            <a:off x="380880" y="2286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Arial"/>
              </a:rPr>
              <a:t>PATHOLOG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1323720" y="293760"/>
            <a:ext cx="58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Factor that increase Oxy Dem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432080" y="1611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6336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620120" cy="47628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906480" y="5396040"/>
            <a:ext cx="54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 Exercise or Excited -&gt; increase Heart Ra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825480" y="6248520"/>
            <a:ext cx="436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 Hypertension -&gt; increase preloa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914400" y="3398760"/>
            <a:ext cx="822960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rough metabolic regulation and auto regulation 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orm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coronary vascular can vary it resistant to fix with high oxygen need of the heart and keep the sufficient coronary blood flow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3358800" y="623880"/>
            <a:ext cx="332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Arial"/>
              </a:rPr>
              <a:t>Regulation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685080" y="914400"/>
            <a:ext cx="718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99ff"/>
                </a:solidFill>
                <a:latin typeface="Arial"/>
                <a:ea typeface="Arial"/>
              </a:rPr>
              <a:t>Factor that decrease coronary blood blow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222200" y="274320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- Atheroscleros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432080" y="1563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6336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222920" y="4114800"/>
            <a:ext cx="542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- Spasm (Prinzmetal's Variant Angina 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221120" y="472428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- Thromb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1148760" y="533412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- Congenital abnormalitie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376280" y="3352680"/>
            <a:ext cx="92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http://www.youtube.com/watch?v=VpxqYNqzmK0&amp;feature=relate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L</cp:lastModifiedBy>
  <dcterms:modified xsi:type="dcterms:W3CDTF">2011-10-20T17:04:22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